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6EC-EB4E-425C-BC0B-218E2535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D77-9E96-44C8-BB01-ECF95041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A16-77AA-4D92-B213-0747663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101-4D8B-45CF-920C-AB414753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F9F-B149-4680-AAF3-B475FA8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DC7-2F28-439B-96EF-DB24BAF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47F-61C9-4B9E-8E4B-349C891E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42D-5BDB-4B94-881C-BCEC86E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8D7-F7C3-47F6-A329-95E7B65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6B6-EBDE-4D11-A8F1-69C6400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1F5-DAD0-4885-B3BF-7C4CEC43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01E-BA04-43A8-89A6-CCF66F5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F27-B234-4982-8D8B-78D0B251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01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225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22920" y="1116000"/>
            <a:ext cx="115920" cy="349200"/>
          </a:xfrm>
          <a:custGeom>
            <a:avLst/>
            <a:gdLst/>
            <a:ahLst/>
            <a:rect l="l" t="t" r="r" b="b"/>
            <a:pathLst>
              <a:path w="323" h="968">
                <a:moveTo>
                  <a:pt x="13469" y="3448"/>
                </a:moveTo>
                <a:cubicBezTo>
                  <a:pt x="13486" y="3408"/>
                  <a:pt x="13494" y="3281"/>
                  <a:pt x="13494" y="3324"/>
                </a:cubicBezTo>
                <a:cubicBezTo>
                  <a:pt x="13494" y="3397"/>
                  <a:pt x="13461" y="3499"/>
                  <a:pt x="13444" y="3572"/>
                </a:cubicBezTo>
                <a:cubicBezTo>
                  <a:pt x="13416" y="3694"/>
                  <a:pt x="13410" y="3822"/>
                  <a:pt x="13395" y="3944"/>
                </a:cubicBezTo>
                <a:cubicBezTo>
                  <a:pt x="13390" y="3984"/>
                  <a:pt x="13395" y="4028"/>
                  <a:pt x="13395" y="4068"/>
                </a:cubicBezTo>
              </a:path>
              <a:path w="323" h="968">
                <a:moveTo>
                  <a:pt x="13469" y="3274"/>
                </a:moveTo>
                <a:cubicBezTo>
                  <a:pt x="13469" y="3220"/>
                  <a:pt x="13459" y="3190"/>
                  <a:pt x="13494" y="3150"/>
                </a:cubicBezTo>
                <a:cubicBezTo>
                  <a:pt x="13535" y="3104"/>
                  <a:pt x="13614" y="3072"/>
                  <a:pt x="13667" y="3125"/>
                </a:cubicBezTo>
                <a:cubicBezTo>
                  <a:pt x="13715" y="3173"/>
                  <a:pt x="13740" y="3310"/>
                  <a:pt x="13717" y="3373"/>
                </a:cubicBezTo>
                <a:cubicBezTo>
                  <a:pt x="13693" y="3440"/>
                  <a:pt x="13634" y="3423"/>
                  <a:pt x="13593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7960" y="1125360"/>
            <a:ext cx="63360" cy="619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4560" y="3125"/>
                </a:moveTo>
                <a:cubicBezTo>
                  <a:pt x="14568" y="3133"/>
                  <a:pt x="14577" y="3142"/>
                  <a:pt x="14585" y="3150"/>
                </a:cubicBezTo>
                <a:cubicBezTo>
                  <a:pt x="14527" y="3150"/>
                  <a:pt x="14470" y="3150"/>
                  <a:pt x="14412" y="3150"/>
                </a:cubicBezTo>
              </a:path>
              <a:path w="174" h="175">
                <a:moveTo>
                  <a:pt x="14560" y="3249"/>
                </a:moveTo>
                <a:cubicBezTo>
                  <a:pt x="14568" y="3257"/>
                  <a:pt x="14577" y="3266"/>
                  <a:pt x="14585" y="3274"/>
                </a:cubicBezTo>
                <a:cubicBezTo>
                  <a:pt x="14540" y="3285"/>
                  <a:pt x="14515" y="3299"/>
                  <a:pt x="14461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27800" y="1017720"/>
            <a:ext cx="419040" cy="196560"/>
          </a:xfrm>
          <a:custGeom>
            <a:avLst/>
            <a:gdLst/>
            <a:ahLst/>
            <a:rect l="l" t="t" r="r" b="b"/>
            <a:pathLst>
              <a:path w="1167" h="546">
                <a:moveTo>
                  <a:pt x="15379" y="2877"/>
                </a:moveTo>
                <a:cubicBezTo>
                  <a:pt x="15387" y="2861"/>
                  <a:pt x="15396" y="2844"/>
                  <a:pt x="15404" y="2828"/>
                </a:cubicBezTo>
                <a:cubicBezTo>
                  <a:pt x="15404" y="2915"/>
                  <a:pt x="15386" y="2991"/>
                  <a:pt x="15379" y="3076"/>
                </a:cubicBezTo>
                <a:cubicBezTo>
                  <a:pt x="15370" y="3178"/>
                  <a:pt x="15365" y="3273"/>
                  <a:pt x="15354" y="3373"/>
                </a:cubicBezTo>
              </a:path>
              <a:path w="1167" h="546">
                <a:moveTo>
                  <a:pt x="15726" y="3026"/>
                </a:moveTo>
                <a:cubicBezTo>
                  <a:pt x="15701" y="3026"/>
                  <a:pt x="15693" y="3026"/>
                  <a:pt x="15677" y="3026"/>
                </a:cubicBezTo>
                <a:cubicBezTo>
                  <a:pt x="15677" y="2957"/>
                  <a:pt x="15673" y="2961"/>
                  <a:pt x="15726" y="2902"/>
                </a:cubicBezTo>
                <a:cubicBezTo>
                  <a:pt x="15774" y="2849"/>
                  <a:pt x="15839" y="2833"/>
                  <a:pt x="15900" y="2877"/>
                </a:cubicBezTo>
                <a:cubicBezTo>
                  <a:pt x="15978" y="2933"/>
                  <a:pt x="15974" y="3069"/>
                  <a:pt x="15949" y="3150"/>
                </a:cubicBezTo>
                <a:cubicBezTo>
                  <a:pt x="15927" y="3221"/>
                  <a:pt x="15873" y="3245"/>
                  <a:pt x="15801" y="3225"/>
                </a:cubicBezTo>
                <a:cubicBezTo>
                  <a:pt x="15751" y="3200"/>
                  <a:pt x="15734" y="3192"/>
                  <a:pt x="15701" y="3175"/>
                </a:cubicBezTo>
              </a:path>
              <a:path w="1167" h="546">
                <a:moveTo>
                  <a:pt x="16222" y="3051"/>
                </a:moveTo>
                <a:cubicBezTo>
                  <a:pt x="16173" y="3035"/>
                  <a:pt x="16201" y="3014"/>
                  <a:pt x="16222" y="2977"/>
                </a:cubicBezTo>
                <a:cubicBezTo>
                  <a:pt x="16267" y="2900"/>
                  <a:pt x="16334" y="2873"/>
                  <a:pt x="16421" y="2927"/>
                </a:cubicBezTo>
                <a:cubicBezTo>
                  <a:pt x="16503" y="2978"/>
                  <a:pt x="16533" y="3137"/>
                  <a:pt x="16520" y="3225"/>
                </a:cubicBezTo>
                <a:cubicBezTo>
                  <a:pt x="16508" y="3305"/>
                  <a:pt x="16427" y="3359"/>
                  <a:pt x="16346" y="3324"/>
                </a:cubicBezTo>
                <a:cubicBezTo>
                  <a:pt x="16217" y="3267"/>
                  <a:pt x="16222" y="3198"/>
                  <a:pt x="16222" y="3076"/>
                </a:cubicBezTo>
                <a:cubicBezTo>
                  <a:pt x="16222" y="3059"/>
                  <a:pt x="16222" y="3043"/>
                  <a:pt x="16222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839880"/>
            <a:ext cx="492120" cy="392040"/>
          </a:xfrm>
          <a:custGeom>
            <a:avLst/>
            <a:gdLst/>
            <a:ahLst/>
            <a:rect l="l" t="t" r="r" b="b"/>
            <a:pathLst>
              <a:path w="1365" h="1092">
                <a:moveTo>
                  <a:pt x="17041" y="3249"/>
                </a:moveTo>
                <a:cubicBezTo>
                  <a:pt x="17084" y="3239"/>
                  <a:pt x="17129" y="3229"/>
                  <a:pt x="17165" y="3200"/>
                </a:cubicBezTo>
                <a:cubicBezTo>
                  <a:pt x="17204" y="3168"/>
                  <a:pt x="17283" y="3138"/>
                  <a:pt x="17314" y="3101"/>
                </a:cubicBezTo>
                <a:cubicBezTo>
                  <a:pt x="17341" y="3070"/>
                  <a:pt x="17362" y="2976"/>
                  <a:pt x="17314" y="2952"/>
                </a:cubicBezTo>
                <a:cubicBezTo>
                  <a:pt x="17245" y="2917"/>
                  <a:pt x="17175" y="3006"/>
                  <a:pt x="17140" y="3051"/>
                </a:cubicBezTo>
                <a:cubicBezTo>
                  <a:pt x="17069" y="3141"/>
                  <a:pt x="17076" y="3244"/>
                  <a:pt x="17115" y="3349"/>
                </a:cubicBezTo>
                <a:cubicBezTo>
                  <a:pt x="17136" y="3407"/>
                  <a:pt x="17226" y="3458"/>
                  <a:pt x="17289" y="3423"/>
                </a:cubicBezTo>
                <a:cubicBezTo>
                  <a:pt x="17340" y="3394"/>
                  <a:pt x="17449" y="3317"/>
                  <a:pt x="17487" y="3274"/>
                </a:cubicBezTo>
                <a:cubicBezTo>
                  <a:pt x="17495" y="3258"/>
                  <a:pt x="17504" y="3241"/>
                  <a:pt x="17512" y="3225"/>
                </a:cubicBezTo>
              </a:path>
              <a:path w="1365" h="1092">
                <a:moveTo>
                  <a:pt x="17636" y="2778"/>
                </a:moveTo>
                <a:cubicBezTo>
                  <a:pt x="17646" y="2749"/>
                  <a:pt x="17670" y="2733"/>
                  <a:pt x="17711" y="2729"/>
                </a:cubicBezTo>
                <a:cubicBezTo>
                  <a:pt x="17738" y="2726"/>
                  <a:pt x="17802" y="2775"/>
                  <a:pt x="17810" y="2803"/>
                </a:cubicBezTo>
                <a:cubicBezTo>
                  <a:pt x="17825" y="2857"/>
                  <a:pt x="17820" y="2920"/>
                  <a:pt x="17760" y="2927"/>
                </a:cubicBezTo>
                <a:cubicBezTo>
                  <a:pt x="17697" y="2934"/>
                  <a:pt x="17691" y="2905"/>
                  <a:pt x="17661" y="2853"/>
                </a:cubicBezTo>
              </a:path>
              <a:path w="1365" h="1092">
                <a:moveTo>
                  <a:pt x="17214" y="3398"/>
                </a:moveTo>
                <a:cubicBezTo>
                  <a:pt x="17234" y="3374"/>
                  <a:pt x="17231" y="3357"/>
                  <a:pt x="17264" y="3324"/>
                </a:cubicBezTo>
                <a:cubicBezTo>
                  <a:pt x="17304" y="3285"/>
                  <a:pt x="17348" y="3262"/>
                  <a:pt x="17388" y="3225"/>
                </a:cubicBezTo>
                <a:cubicBezTo>
                  <a:pt x="17456" y="3161"/>
                  <a:pt x="17521" y="3093"/>
                  <a:pt x="17587" y="3026"/>
                </a:cubicBezTo>
                <a:cubicBezTo>
                  <a:pt x="17634" y="2978"/>
                  <a:pt x="17667" y="2926"/>
                  <a:pt x="17711" y="2877"/>
                </a:cubicBezTo>
                <a:cubicBezTo>
                  <a:pt x="17786" y="2793"/>
                  <a:pt x="17872" y="2712"/>
                  <a:pt x="17934" y="2629"/>
                </a:cubicBezTo>
                <a:cubicBezTo>
                  <a:pt x="17950" y="2607"/>
                  <a:pt x="17973" y="2590"/>
                  <a:pt x="17983" y="2580"/>
                </a:cubicBezTo>
                <a:cubicBezTo>
                  <a:pt x="17983" y="2667"/>
                  <a:pt x="17994" y="2755"/>
                  <a:pt x="17959" y="2828"/>
                </a:cubicBezTo>
                <a:cubicBezTo>
                  <a:pt x="17929" y="2890"/>
                  <a:pt x="17983" y="2780"/>
                  <a:pt x="17983" y="2778"/>
                </a:cubicBezTo>
                <a:cubicBezTo>
                  <a:pt x="17995" y="2715"/>
                  <a:pt x="18005" y="2642"/>
                  <a:pt x="18008" y="2580"/>
                </a:cubicBezTo>
                <a:cubicBezTo>
                  <a:pt x="18010" y="2549"/>
                  <a:pt x="18023" y="2471"/>
                  <a:pt x="17983" y="2456"/>
                </a:cubicBezTo>
                <a:cubicBezTo>
                  <a:pt x="17952" y="2444"/>
                  <a:pt x="17892" y="2456"/>
                  <a:pt x="17859" y="2456"/>
                </a:cubicBezTo>
              </a:path>
              <a:path w="1365" h="1092">
                <a:moveTo>
                  <a:pt x="18355" y="2356"/>
                </a:moveTo>
                <a:cubicBezTo>
                  <a:pt x="18372" y="2348"/>
                  <a:pt x="18388" y="2340"/>
                  <a:pt x="18405" y="2332"/>
                </a:cubicBezTo>
                <a:cubicBezTo>
                  <a:pt x="18378" y="2367"/>
                  <a:pt x="18361" y="2435"/>
                  <a:pt x="18355" y="2480"/>
                </a:cubicBezTo>
                <a:cubicBezTo>
                  <a:pt x="18355" y="2505"/>
                  <a:pt x="18355" y="2530"/>
                  <a:pt x="18355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1500120"/>
            <a:ext cx="71280" cy="716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4337" y="4167"/>
                </a:moveTo>
                <a:cubicBezTo>
                  <a:pt x="14345" y="4175"/>
                  <a:pt x="14354" y="4184"/>
                  <a:pt x="14362" y="4192"/>
                </a:cubicBezTo>
                <a:cubicBezTo>
                  <a:pt x="14306" y="4203"/>
                  <a:pt x="14272" y="4217"/>
                  <a:pt x="14213" y="4217"/>
                </a:cubicBezTo>
                <a:cubicBezTo>
                  <a:pt x="14188" y="4217"/>
                  <a:pt x="14180" y="4217"/>
                  <a:pt x="14163" y="4217"/>
                </a:cubicBezTo>
              </a:path>
              <a:path w="200" h="200">
                <a:moveTo>
                  <a:pt x="14337" y="4291"/>
                </a:moveTo>
                <a:cubicBezTo>
                  <a:pt x="14363" y="4326"/>
                  <a:pt x="14362" y="4322"/>
                  <a:pt x="14362" y="4366"/>
                </a:cubicBezTo>
                <a:cubicBezTo>
                  <a:pt x="14321" y="4366"/>
                  <a:pt x="14279" y="4366"/>
                  <a:pt x="1423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8160" y="146520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4858" y="4093"/>
                </a:moveTo>
                <a:cubicBezTo>
                  <a:pt x="14858" y="4068"/>
                  <a:pt x="14858" y="4060"/>
                  <a:pt x="14883" y="4068"/>
                </a:cubicBezTo>
                <a:cubicBezTo>
                  <a:pt x="14883" y="4141"/>
                  <a:pt x="14866" y="4196"/>
                  <a:pt x="14858" y="4266"/>
                </a:cubicBezTo>
                <a:cubicBezTo>
                  <a:pt x="14851" y="4330"/>
                  <a:pt x="14858" y="4400"/>
                  <a:pt x="14858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64080" y="1473120"/>
            <a:ext cx="135000" cy="125640"/>
          </a:xfrm>
          <a:custGeom>
            <a:avLst/>
            <a:gdLst/>
            <a:ahLst/>
            <a:rect l="l" t="t" r="r" b="b"/>
            <a:pathLst>
              <a:path w="374" h="348">
                <a:moveTo>
                  <a:pt x="15180" y="4266"/>
                </a:moveTo>
                <a:cubicBezTo>
                  <a:pt x="15180" y="4194"/>
                  <a:pt x="15173" y="4213"/>
                  <a:pt x="15230" y="4167"/>
                </a:cubicBezTo>
                <a:cubicBezTo>
                  <a:pt x="15289" y="4119"/>
                  <a:pt x="15316" y="4068"/>
                  <a:pt x="15404" y="4093"/>
                </a:cubicBezTo>
                <a:cubicBezTo>
                  <a:pt x="15488" y="4117"/>
                  <a:pt x="15539" y="4181"/>
                  <a:pt x="15553" y="4266"/>
                </a:cubicBezTo>
                <a:cubicBezTo>
                  <a:pt x="15561" y="4312"/>
                  <a:pt x="15568" y="4421"/>
                  <a:pt x="15503" y="4440"/>
                </a:cubicBezTo>
                <a:cubicBezTo>
                  <a:pt x="15456" y="4453"/>
                  <a:pt x="15367" y="4438"/>
                  <a:pt x="15329" y="4415"/>
                </a:cubicBezTo>
                <a:cubicBezTo>
                  <a:pt x="15307" y="4393"/>
                  <a:pt x="15302" y="4384"/>
                  <a:pt x="15280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5640" y="1473120"/>
            <a:ext cx="11736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5850" y="4242"/>
                </a:moveTo>
                <a:cubicBezTo>
                  <a:pt x="15904" y="4224"/>
                  <a:pt x="15851" y="4210"/>
                  <a:pt x="15875" y="4167"/>
                </a:cubicBezTo>
                <a:cubicBezTo>
                  <a:pt x="15896" y="4130"/>
                  <a:pt x="15961" y="4100"/>
                  <a:pt x="15999" y="4093"/>
                </a:cubicBezTo>
                <a:cubicBezTo>
                  <a:pt x="16066" y="4081"/>
                  <a:pt x="16118" y="4141"/>
                  <a:pt x="16148" y="4192"/>
                </a:cubicBezTo>
                <a:cubicBezTo>
                  <a:pt x="16194" y="4270"/>
                  <a:pt x="16173" y="4344"/>
                  <a:pt x="16123" y="4415"/>
                </a:cubicBezTo>
                <a:cubicBezTo>
                  <a:pt x="16093" y="4458"/>
                  <a:pt x="16024" y="4482"/>
                  <a:pt x="15974" y="4465"/>
                </a:cubicBezTo>
                <a:cubicBezTo>
                  <a:pt x="15896" y="4439"/>
                  <a:pt x="15900" y="4385"/>
                  <a:pt x="15900" y="4316"/>
                </a:cubicBezTo>
                <a:cubicBezTo>
                  <a:pt x="15900" y="4299"/>
                  <a:pt x="15900" y="4283"/>
                  <a:pt x="15900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71760" y="2473200"/>
            <a:ext cx="349200" cy="733680"/>
          </a:xfrm>
          <a:custGeom>
            <a:avLst/>
            <a:gdLst/>
            <a:ahLst/>
            <a:rect l="l" t="t" r="r" b="b"/>
            <a:pathLst>
              <a:path w="968" h="2035">
                <a:moveTo>
                  <a:pt x="4589" y="7441"/>
                </a:moveTo>
                <a:cubicBezTo>
                  <a:pt x="4623" y="7417"/>
                  <a:pt x="4649" y="7409"/>
                  <a:pt x="4663" y="7367"/>
                </a:cubicBezTo>
                <a:cubicBezTo>
                  <a:pt x="4672" y="7341"/>
                  <a:pt x="4663" y="7296"/>
                  <a:pt x="4663" y="7268"/>
                </a:cubicBezTo>
                <a:cubicBezTo>
                  <a:pt x="4606" y="7282"/>
                  <a:pt x="4564" y="7362"/>
                  <a:pt x="4539" y="7417"/>
                </a:cubicBezTo>
                <a:cubicBezTo>
                  <a:pt x="4518" y="7463"/>
                  <a:pt x="4475" y="7635"/>
                  <a:pt x="4539" y="7665"/>
                </a:cubicBezTo>
                <a:cubicBezTo>
                  <a:pt x="4556" y="7665"/>
                  <a:pt x="4572" y="7665"/>
                  <a:pt x="4589" y="7665"/>
                </a:cubicBezTo>
                <a:cubicBezTo>
                  <a:pt x="4697" y="7542"/>
                  <a:pt x="4726" y="7404"/>
                  <a:pt x="4762" y="7243"/>
                </a:cubicBezTo>
                <a:cubicBezTo>
                  <a:pt x="4788" y="7126"/>
                  <a:pt x="4814" y="6975"/>
                  <a:pt x="4762" y="6871"/>
                </a:cubicBezTo>
                <a:cubicBezTo>
                  <a:pt x="4700" y="6982"/>
                  <a:pt x="4713" y="7090"/>
                  <a:pt x="4713" y="7218"/>
                </a:cubicBezTo>
                <a:cubicBezTo>
                  <a:pt x="4713" y="7347"/>
                  <a:pt x="4718" y="7499"/>
                  <a:pt x="4787" y="7615"/>
                </a:cubicBezTo>
                <a:cubicBezTo>
                  <a:pt x="4816" y="7664"/>
                  <a:pt x="4856" y="7638"/>
                  <a:pt x="4887" y="7615"/>
                </a:cubicBezTo>
              </a:path>
              <a:path w="968" h="2035">
                <a:moveTo>
                  <a:pt x="5333" y="7962"/>
                </a:moveTo>
                <a:cubicBezTo>
                  <a:pt x="5163" y="7962"/>
                  <a:pt x="4884" y="7903"/>
                  <a:pt x="4738" y="7987"/>
                </a:cubicBezTo>
                <a:cubicBezTo>
                  <a:pt x="4730" y="7995"/>
                  <a:pt x="4721" y="8004"/>
                  <a:pt x="4713" y="8012"/>
                </a:cubicBezTo>
              </a:path>
              <a:path w="968" h="2035">
                <a:moveTo>
                  <a:pt x="4490" y="8508"/>
                </a:moveTo>
                <a:cubicBezTo>
                  <a:pt x="4464" y="8431"/>
                  <a:pt x="4438" y="8552"/>
                  <a:pt x="4415" y="8582"/>
                </a:cubicBezTo>
                <a:cubicBezTo>
                  <a:pt x="4352" y="8664"/>
                  <a:pt x="4366" y="8725"/>
                  <a:pt x="4366" y="8830"/>
                </a:cubicBezTo>
                <a:cubicBezTo>
                  <a:pt x="4472" y="8788"/>
                  <a:pt x="4465" y="8688"/>
                  <a:pt x="4490" y="8582"/>
                </a:cubicBezTo>
                <a:cubicBezTo>
                  <a:pt x="4520" y="8454"/>
                  <a:pt x="4502" y="8362"/>
                  <a:pt x="4490" y="8235"/>
                </a:cubicBezTo>
                <a:cubicBezTo>
                  <a:pt x="4441" y="8251"/>
                  <a:pt x="4465" y="8355"/>
                  <a:pt x="4465" y="8409"/>
                </a:cubicBezTo>
                <a:cubicBezTo>
                  <a:pt x="4465" y="8519"/>
                  <a:pt x="4479" y="8683"/>
                  <a:pt x="4539" y="8781"/>
                </a:cubicBezTo>
                <a:cubicBezTo>
                  <a:pt x="4556" y="8797"/>
                  <a:pt x="4572" y="8814"/>
                  <a:pt x="4589" y="8830"/>
                </a:cubicBezTo>
              </a:path>
              <a:path w="968" h="2035">
                <a:moveTo>
                  <a:pt x="5035" y="7516"/>
                </a:moveTo>
                <a:cubicBezTo>
                  <a:pt x="5035" y="7483"/>
                  <a:pt x="5035" y="7450"/>
                  <a:pt x="5035" y="7417"/>
                </a:cubicBezTo>
                <a:cubicBezTo>
                  <a:pt x="5035" y="7358"/>
                  <a:pt x="5053" y="7482"/>
                  <a:pt x="5060" y="7541"/>
                </a:cubicBezTo>
                <a:cubicBezTo>
                  <a:pt x="5072" y="7643"/>
                  <a:pt x="5067" y="7737"/>
                  <a:pt x="5085" y="7838"/>
                </a:cubicBezTo>
                <a:cubicBezTo>
                  <a:pt x="5085" y="7863"/>
                  <a:pt x="5085" y="7871"/>
                  <a:pt x="5085" y="7888"/>
                </a:cubicBezTo>
              </a:path>
              <a:path w="968" h="2035">
                <a:moveTo>
                  <a:pt x="5011" y="7590"/>
                </a:moveTo>
                <a:cubicBezTo>
                  <a:pt x="5002" y="7525"/>
                  <a:pt x="4968" y="7506"/>
                  <a:pt x="5011" y="7441"/>
                </a:cubicBezTo>
                <a:cubicBezTo>
                  <a:pt x="5047" y="7387"/>
                  <a:pt x="5081" y="7304"/>
                  <a:pt x="5159" y="7317"/>
                </a:cubicBezTo>
                <a:cubicBezTo>
                  <a:pt x="5249" y="7332"/>
                  <a:pt x="5234" y="7426"/>
                  <a:pt x="5234" y="7491"/>
                </a:cubicBezTo>
                <a:cubicBezTo>
                  <a:pt x="5234" y="7519"/>
                  <a:pt x="5232" y="7530"/>
                  <a:pt x="5209" y="7541"/>
                </a:cubicBezTo>
              </a:path>
              <a:path w="968" h="2035">
                <a:moveTo>
                  <a:pt x="4936" y="8508"/>
                </a:moveTo>
                <a:cubicBezTo>
                  <a:pt x="4959" y="8467"/>
                  <a:pt x="4986" y="8337"/>
                  <a:pt x="4986" y="8384"/>
                </a:cubicBezTo>
                <a:cubicBezTo>
                  <a:pt x="4986" y="8447"/>
                  <a:pt x="4938" y="8492"/>
                  <a:pt x="4936" y="8558"/>
                </a:cubicBezTo>
                <a:cubicBezTo>
                  <a:pt x="4932" y="8680"/>
                  <a:pt x="4919" y="8778"/>
                  <a:pt x="4986" y="8880"/>
                </a:cubicBezTo>
                <a:cubicBezTo>
                  <a:pt x="4994" y="8888"/>
                  <a:pt x="5003" y="8897"/>
                  <a:pt x="5011" y="8905"/>
                </a:cubicBezTo>
              </a:path>
              <a:path w="968" h="2035">
                <a:moveTo>
                  <a:pt x="5159" y="8682"/>
                </a:moveTo>
                <a:cubicBezTo>
                  <a:pt x="5079" y="8612"/>
                  <a:pt x="5080" y="8636"/>
                  <a:pt x="4986" y="8682"/>
                </a:cubicBezTo>
                <a:cubicBezTo>
                  <a:pt x="4969" y="8690"/>
                  <a:pt x="4953" y="8698"/>
                  <a:pt x="4936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5000" y="285768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6350" y="7962"/>
                </a:moveTo>
                <a:cubicBezTo>
                  <a:pt x="6350" y="7954"/>
                  <a:pt x="6350" y="7946"/>
                  <a:pt x="6350" y="7938"/>
                </a:cubicBezTo>
                <a:cubicBezTo>
                  <a:pt x="6301" y="7938"/>
                  <a:pt x="6291" y="7949"/>
                  <a:pt x="6251" y="7962"/>
                </a:cubicBezTo>
                <a:cubicBezTo>
                  <a:pt x="6220" y="7972"/>
                  <a:pt x="6181" y="7984"/>
                  <a:pt x="6152" y="7987"/>
                </a:cubicBezTo>
                <a:cubicBezTo>
                  <a:pt x="6144" y="7987"/>
                  <a:pt x="6135" y="7987"/>
                  <a:pt x="6127" y="7987"/>
                </a:cubicBezTo>
              </a:path>
              <a:path w="224" h="199">
                <a:moveTo>
                  <a:pt x="6325" y="8062"/>
                </a:moveTo>
                <a:cubicBezTo>
                  <a:pt x="6333" y="8070"/>
                  <a:pt x="6342" y="8078"/>
                  <a:pt x="6350" y="8086"/>
                </a:cubicBezTo>
                <a:cubicBezTo>
                  <a:pt x="6303" y="8086"/>
                  <a:pt x="6240" y="8092"/>
                  <a:pt x="6201" y="8111"/>
                </a:cubicBezTo>
                <a:cubicBezTo>
                  <a:pt x="6193" y="8119"/>
                  <a:pt x="6184" y="8128"/>
                  <a:pt x="617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90840" y="2857680"/>
            <a:ext cx="965160" cy="206280"/>
          </a:xfrm>
          <a:custGeom>
            <a:avLst/>
            <a:gdLst/>
            <a:ahLst/>
            <a:rect l="l" t="t" r="r" b="b"/>
            <a:pathLst>
              <a:path w="2679" h="571">
                <a:moveTo>
                  <a:pt x="8483" y="8037"/>
                </a:moveTo>
                <a:cubicBezTo>
                  <a:pt x="8487" y="8027"/>
                  <a:pt x="8548" y="7868"/>
                  <a:pt x="8508" y="7987"/>
                </a:cubicBezTo>
                <a:cubicBezTo>
                  <a:pt x="8471" y="8098"/>
                  <a:pt x="8483" y="8214"/>
                  <a:pt x="8483" y="8334"/>
                </a:cubicBezTo>
                <a:cubicBezTo>
                  <a:pt x="8483" y="8425"/>
                  <a:pt x="8483" y="8450"/>
                  <a:pt x="8483" y="8508"/>
                </a:cubicBezTo>
              </a:path>
              <a:path w="2679" h="571">
                <a:moveTo>
                  <a:pt x="8781" y="8136"/>
                </a:moveTo>
                <a:cubicBezTo>
                  <a:pt x="8753" y="8099"/>
                  <a:pt x="8732" y="8050"/>
                  <a:pt x="8781" y="8012"/>
                </a:cubicBezTo>
                <a:cubicBezTo>
                  <a:pt x="8858" y="7952"/>
                  <a:pt x="8936" y="7938"/>
                  <a:pt x="9004" y="8012"/>
                </a:cubicBezTo>
                <a:cubicBezTo>
                  <a:pt x="9092" y="8108"/>
                  <a:pt x="9140" y="8209"/>
                  <a:pt x="9103" y="8334"/>
                </a:cubicBezTo>
                <a:cubicBezTo>
                  <a:pt x="9070" y="8445"/>
                  <a:pt x="8962" y="8409"/>
                  <a:pt x="8880" y="8384"/>
                </a:cubicBezTo>
                <a:cubicBezTo>
                  <a:pt x="8798" y="8359"/>
                  <a:pt x="8803" y="8344"/>
                  <a:pt x="8756" y="8285"/>
                </a:cubicBezTo>
              </a:path>
              <a:path w="2679" h="571">
                <a:moveTo>
                  <a:pt x="9277" y="8136"/>
                </a:moveTo>
                <a:cubicBezTo>
                  <a:pt x="9277" y="8179"/>
                  <a:pt x="9287" y="8174"/>
                  <a:pt x="9252" y="8186"/>
                </a:cubicBezTo>
                <a:cubicBezTo>
                  <a:pt x="9252" y="8126"/>
                  <a:pt x="9230" y="8084"/>
                  <a:pt x="9302" y="8062"/>
                </a:cubicBezTo>
                <a:cubicBezTo>
                  <a:pt x="9382" y="8037"/>
                  <a:pt x="9474" y="8077"/>
                  <a:pt x="9525" y="8136"/>
                </a:cubicBezTo>
                <a:cubicBezTo>
                  <a:pt x="9603" y="8225"/>
                  <a:pt x="9599" y="8324"/>
                  <a:pt x="9599" y="8434"/>
                </a:cubicBezTo>
                <a:cubicBezTo>
                  <a:pt x="9514" y="8462"/>
                  <a:pt x="9432" y="8464"/>
                  <a:pt x="9351" y="8409"/>
                </a:cubicBezTo>
                <a:cubicBezTo>
                  <a:pt x="9280" y="8362"/>
                  <a:pt x="9252" y="8315"/>
                  <a:pt x="9252" y="8235"/>
                </a:cubicBezTo>
              </a:path>
              <a:path w="2679" h="571">
                <a:moveTo>
                  <a:pt x="6945" y="8136"/>
                </a:moveTo>
                <a:cubicBezTo>
                  <a:pt x="6945" y="8144"/>
                  <a:pt x="6945" y="8153"/>
                  <a:pt x="6945" y="8161"/>
                </a:cubicBezTo>
                <a:cubicBezTo>
                  <a:pt x="6938" y="8140"/>
                  <a:pt x="6901" y="8122"/>
                  <a:pt x="6921" y="8086"/>
                </a:cubicBezTo>
                <a:cubicBezTo>
                  <a:pt x="6937" y="8056"/>
                  <a:pt x="6959" y="7975"/>
                  <a:pt x="6995" y="7962"/>
                </a:cubicBezTo>
                <a:cubicBezTo>
                  <a:pt x="7040" y="7946"/>
                  <a:pt x="7142" y="7970"/>
                  <a:pt x="7169" y="8012"/>
                </a:cubicBezTo>
                <a:cubicBezTo>
                  <a:pt x="7219" y="8092"/>
                  <a:pt x="7218" y="8195"/>
                  <a:pt x="7218" y="8285"/>
                </a:cubicBezTo>
                <a:cubicBezTo>
                  <a:pt x="7218" y="8355"/>
                  <a:pt x="7171" y="8398"/>
                  <a:pt x="7094" y="8384"/>
                </a:cubicBezTo>
                <a:cubicBezTo>
                  <a:pt x="7040" y="8375"/>
                  <a:pt x="6949" y="8347"/>
                  <a:pt x="6945" y="8285"/>
                </a:cubicBezTo>
                <a:cubicBezTo>
                  <a:pt x="6945" y="8243"/>
                  <a:pt x="6945" y="8235"/>
                  <a:pt x="6945" y="8210"/>
                </a:cubicBezTo>
              </a:path>
              <a:path w="2679" h="571">
                <a:moveTo>
                  <a:pt x="7441" y="8334"/>
                </a:moveTo>
                <a:cubicBezTo>
                  <a:pt x="7449" y="8334"/>
                  <a:pt x="7458" y="8334"/>
                  <a:pt x="7466" y="8334"/>
                </a:cubicBezTo>
              </a:path>
              <a:path w="2679" h="571">
                <a:moveTo>
                  <a:pt x="7615" y="8186"/>
                </a:moveTo>
                <a:cubicBezTo>
                  <a:pt x="7587" y="8149"/>
                  <a:pt x="7584" y="8137"/>
                  <a:pt x="7565" y="8111"/>
                </a:cubicBezTo>
                <a:cubicBezTo>
                  <a:pt x="7522" y="8052"/>
                  <a:pt x="7556" y="8065"/>
                  <a:pt x="7590" y="8012"/>
                </a:cubicBezTo>
                <a:cubicBezTo>
                  <a:pt x="7622" y="7961"/>
                  <a:pt x="7612" y="7951"/>
                  <a:pt x="7665" y="7938"/>
                </a:cubicBezTo>
                <a:cubicBezTo>
                  <a:pt x="7708" y="7992"/>
                  <a:pt x="7753" y="8065"/>
                  <a:pt x="7764" y="8136"/>
                </a:cubicBezTo>
                <a:cubicBezTo>
                  <a:pt x="7773" y="8192"/>
                  <a:pt x="7778" y="8282"/>
                  <a:pt x="7714" y="8310"/>
                </a:cubicBezTo>
                <a:cubicBezTo>
                  <a:pt x="7663" y="8333"/>
                  <a:pt x="7650" y="8276"/>
                  <a:pt x="7615" y="8260"/>
                </a:cubicBezTo>
                <a:cubicBezTo>
                  <a:pt x="7582" y="8260"/>
                  <a:pt x="7573" y="8252"/>
                  <a:pt x="7590" y="8210"/>
                </a:cubicBezTo>
              </a:path>
              <a:path w="2679" h="571">
                <a:moveTo>
                  <a:pt x="7962" y="8012"/>
                </a:moveTo>
                <a:cubicBezTo>
                  <a:pt x="7970" y="8004"/>
                  <a:pt x="7979" y="7995"/>
                  <a:pt x="7987" y="7987"/>
                </a:cubicBezTo>
                <a:cubicBezTo>
                  <a:pt x="7944" y="7998"/>
                  <a:pt x="7906" y="8043"/>
                  <a:pt x="7888" y="8086"/>
                </a:cubicBezTo>
                <a:cubicBezTo>
                  <a:pt x="7877" y="8114"/>
                  <a:pt x="7885" y="8172"/>
                  <a:pt x="7913" y="8186"/>
                </a:cubicBezTo>
                <a:cubicBezTo>
                  <a:pt x="7948" y="8204"/>
                  <a:pt x="7979" y="8206"/>
                  <a:pt x="8012" y="8235"/>
                </a:cubicBezTo>
                <a:cubicBezTo>
                  <a:pt x="8051" y="8270"/>
                  <a:pt x="8062" y="8283"/>
                  <a:pt x="8062" y="8334"/>
                </a:cubicBezTo>
                <a:cubicBezTo>
                  <a:pt x="8062" y="8397"/>
                  <a:pt x="8010" y="8384"/>
                  <a:pt x="7962" y="8384"/>
                </a:cubicBezTo>
                <a:cubicBezTo>
                  <a:pt x="7919" y="8384"/>
                  <a:pt x="7923" y="8385"/>
                  <a:pt x="7888" y="8359"/>
                </a:cubicBezTo>
              </a:path>
              <a:path w="2679" h="571">
                <a:moveTo>
                  <a:pt x="8086" y="8037"/>
                </a:moveTo>
                <a:cubicBezTo>
                  <a:pt x="8132" y="7976"/>
                  <a:pt x="8101" y="7987"/>
                  <a:pt x="8037" y="7987"/>
                </a:cubicBezTo>
              </a:path>
              <a:path w="2679" h="571">
                <a:moveTo>
                  <a:pt x="8310" y="8186"/>
                </a:moveTo>
                <a:cubicBezTo>
                  <a:pt x="8310" y="8144"/>
                  <a:pt x="8300" y="8148"/>
                  <a:pt x="8334" y="8136"/>
                </a:cubicBezTo>
                <a:cubicBezTo>
                  <a:pt x="8301" y="8170"/>
                  <a:pt x="8268" y="8202"/>
                  <a:pt x="8235" y="8235"/>
                </a:cubicBezTo>
                <a:cubicBezTo>
                  <a:pt x="8199" y="8271"/>
                  <a:pt x="8173" y="8282"/>
                  <a:pt x="8136" y="8310"/>
                </a:cubicBezTo>
              </a:path>
              <a:path w="2679" h="571">
                <a:moveTo>
                  <a:pt x="8310" y="8310"/>
                </a:moveTo>
                <a:cubicBezTo>
                  <a:pt x="8299" y="8266"/>
                  <a:pt x="8269" y="8244"/>
                  <a:pt x="8235" y="8210"/>
                </a:cubicBezTo>
                <a:cubicBezTo>
                  <a:pt x="8207" y="8183"/>
                  <a:pt x="8192" y="8184"/>
                  <a:pt x="8161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1920" y="2894040"/>
            <a:ext cx="160200" cy="16992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996" y="8285"/>
                </a:moveTo>
                <a:cubicBezTo>
                  <a:pt x="9954" y="8349"/>
                  <a:pt x="10058" y="8297"/>
                  <a:pt x="10071" y="8285"/>
                </a:cubicBezTo>
                <a:cubicBezTo>
                  <a:pt x="10114" y="8246"/>
                  <a:pt x="10181" y="8175"/>
                  <a:pt x="10195" y="8111"/>
                </a:cubicBezTo>
                <a:cubicBezTo>
                  <a:pt x="10195" y="8095"/>
                  <a:pt x="10195" y="8078"/>
                  <a:pt x="10195" y="8062"/>
                </a:cubicBezTo>
                <a:cubicBezTo>
                  <a:pt x="10129" y="8023"/>
                  <a:pt x="10060" y="8022"/>
                  <a:pt x="9996" y="8086"/>
                </a:cubicBezTo>
                <a:cubicBezTo>
                  <a:pt x="9907" y="8175"/>
                  <a:pt x="9915" y="8276"/>
                  <a:pt x="9947" y="8384"/>
                </a:cubicBezTo>
                <a:cubicBezTo>
                  <a:pt x="9978" y="8492"/>
                  <a:pt x="10030" y="8532"/>
                  <a:pt x="10145" y="8508"/>
                </a:cubicBezTo>
                <a:cubicBezTo>
                  <a:pt x="10224" y="8491"/>
                  <a:pt x="10294" y="8440"/>
                  <a:pt x="10368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0120" y="270504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10740" y="7838"/>
                </a:moveTo>
                <a:cubicBezTo>
                  <a:pt x="10715" y="7838"/>
                  <a:pt x="10691" y="7838"/>
                  <a:pt x="10666" y="7838"/>
                </a:cubicBezTo>
                <a:cubicBezTo>
                  <a:pt x="10666" y="7788"/>
                  <a:pt x="10677" y="7780"/>
                  <a:pt x="10691" y="7739"/>
                </a:cubicBezTo>
                <a:cubicBezTo>
                  <a:pt x="10706" y="7693"/>
                  <a:pt x="10706" y="7644"/>
                  <a:pt x="10765" y="7640"/>
                </a:cubicBezTo>
                <a:cubicBezTo>
                  <a:pt x="10852" y="7634"/>
                  <a:pt x="10872" y="7664"/>
                  <a:pt x="10914" y="7739"/>
                </a:cubicBezTo>
                <a:cubicBezTo>
                  <a:pt x="10947" y="7798"/>
                  <a:pt x="10956" y="7861"/>
                  <a:pt x="10914" y="7913"/>
                </a:cubicBezTo>
                <a:cubicBezTo>
                  <a:pt x="10882" y="7953"/>
                  <a:pt x="10836" y="7938"/>
                  <a:pt x="10790" y="7938"/>
                </a:cubicBezTo>
              </a:path>
              <a:path w="1812" h="472">
                <a:moveTo>
                  <a:pt x="11212" y="7913"/>
                </a:move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</a:path>
              <a:path w="1812" h="472">
                <a:moveTo>
                  <a:pt x="11385" y="7739"/>
                </a:moveTo>
                <a:cubicBezTo>
                  <a:pt x="11385" y="7695"/>
                  <a:pt x="11391" y="7690"/>
                  <a:pt x="11410" y="7665"/>
                </a:cubicBezTo>
                <a:cubicBezTo>
                  <a:pt x="11427" y="7643"/>
                  <a:pt x="11480" y="7624"/>
                  <a:pt x="11509" y="7640"/>
                </a:cubicBezTo>
                <a:cubicBezTo>
                  <a:pt x="11566" y="7672"/>
                  <a:pt x="11594" y="7755"/>
                  <a:pt x="11609" y="7813"/>
                </a:cubicBezTo>
                <a:cubicBezTo>
                  <a:pt x="11622" y="7865"/>
                  <a:pt x="11613" y="7907"/>
                  <a:pt x="11559" y="7913"/>
                </a:cubicBezTo>
                <a:cubicBezTo>
                  <a:pt x="11513" y="7918"/>
                  <a:pt x="11478" y="7861"/>
                  <a:pt x="11460" y="7838"/>
                </a:cubicBezTo>
                <a:cubicBezTo>
                  <a:pt x="11433" y="7803"/>
                  <a:pt x="11435" y="7807"/>
                  <a:pt x="11435" y="7764"/>
                </a:cubicBezTo>
              </a:path>
              <a:path w="1812" h="472">
                <a:moveTo>
                  <a:pt x="11857" y="7640"/>
                </a:moveTo>
                <a:cubicBezTo>
                  <a:pt x="11879" y="7617"/>
                  <a:pt x="11887" y="7612"/>
                  <a:pt x="11881" y="7590"/>
                </a:cubicBezTo>
                <a:cubicBezTo>
                  <a:pt x="11853" y="7600"/>
                  <a:pt x="11837" y="7625"/>
                  <a:pt x="11832" y="7665"/>
                </a:cubicBezTo>
                <a:cubicBezTo>
                  <a:pt x="11827" y="7705"/>
                  <a:pt x="11880" y="7738"/>
                  <a:pt x="11906" y="7764"/>
                </a:cubicBezTo>
                <a:cubicBezTo>
                  <a:pt x="11939" y="7797"/>
                  <a:pt x="12011" y="7800"/>
                  <a:pt x="12030" y="7838"/>
                </a:cubicBezTo>
                <a:cubicBezTo>
                  <a:pt x="12043" y="7865"/>
                  <a:pt x="12031" y="7925"/>
                  <a:pt x="12005" y="7938"/>
                </a:cubicBezTo>
                <a:cubicBezTo>
                  <a:pt x="11978" y="7952"/>
                  <a:pt x="11914" y="7938"/>
                  <a:pt x="11881" y="7938"/>
                </a:cubicBezTo>
              </a:path>
              <a:path w="1812" h="472">
                <a:moveTo>
                  <a:pt x="12105" y="7565"/>
                </a:moveTo>
                <a:cubicBezTo>
                  <a:pt x="12105" y="7549"/>
                  <a:pt x="12105" y="7532"/>
                  <a:pt x="12105" y="7516"/>
                </a:cubicBezTo>
                <a:cubicBezTo>
                  <a:pt x="12055" y="7516"/>
                  <a:pt x="12006" y="7516"/>
                  <a:pt x="11956" y="7516"/>
                </a:cubicBezTo>
              </a:path>
              <a:path w="1812" h="472">
                <a:moveTo>
                  <a:pt x="12254" y="7689"/>
                </a:moveTo>
                <a:cubicBezTo>
                  <a:pt x="12254" y="7681"/>
                  <a:pt x="12254" y="7673"/>
                  <a:pt x="12254" y="7665"/>
                </a:cubicBezTo>
                <a:cubicBezTo>
                  <a:pt x="12254" y="7750"/>
                  <a:pt x="12241" y="7835"/>
                  <a:pt x="12278" y="7913"/>
                </a:cubicBezTo>
                <a:cubicBezTo>
                  <a:pt x="12306" y="7973"/>
                  <a:pt x="12316" y="7987"/>
                  <a:pt x="12378" y="7987"/>
                </a:cubicBezTo>
                <a:cubicBezTo>
                  <a:pt x="12414" y="7987"/>
                  <a:pt x="12443" y="7969"/>
                  <a:pt x="12477" y="7962"/>
                </a:cubicBezTo>
              </a:path>
              <a:path w="1812" h="472">
                <a:moveTo>
                  <a:pt x="12452" y="7789"/>
                </a:moveTo>
                <a:cubicBezTo>
                  <a:pt x="12415" y="7798"/>
                  <a:pt x="12363" y="7815"/>
                  <a:pt x="12328" y="7838"/>
                </a:cubicBezTo>
                <a:cubicBezTo>
                  <a:pt x="12305" y="7861"/>
                  <a:pt x="12301" y="7869"/>
                  <a:pt x="12278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48300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6152" y="9674"/>
                </a:moveTo>
                <a:cubicBezTo>
                  <a:pt x="6212" y="9674"/>
                  <a:pt x="6067" y="9696"/>
                  <a:pt x="6052" y="9699"/>
                </a:cubicBezTo>
                <a:cubicBezTo>
                  <a:pt x="6013" y="9706"/>
                  <a:pt x="5968" y="9699"/>
                  <a:pt x="5928" y="9699"/>
                </a:cubicBezTo>
              </a:path>
              <a:path w="249" h="249">
                <a:moveTo>
                  <a:pt x="6052" y="9823"/>
                </a:moveTo>
                <a:cubicBezTo>
                  <a:pt x="6067" y="9831"/>
                  <a:pt x="6190" y="9895"/>
                  <a:pt x="6102" y="9922"/>
                </a:cubicBezTo>
                <a:cubicBezTo>
                  <a:pt x="6068" y="9932"/>
                  <a:pt x="6014" y="9922"/>
                  <a:pt x="5978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348000"/>
            <a:ext cx="1249560" cy="268200"/>
          </a:xfrm>
          <a:custGeom>
            <a:avLst/>
            <a:gdLst/>
            <a:ahLst/>
            <a:rect l="l" t="t" r="r" b="b"/>
            <a:pathLst>
              <a:path w="3473" h="745">
                <a:moveTo>
                  <a:pt x="6846" y="9500"/>
                </a:moveTo>
                <a:cubicBezTo>
                  <a:pt x="6868" y="9462"/>
                  <a:pt x="6887" y="9438"/>
                  <a:pt x="6896" y="9401"/>
                </a:cubicBezTo>
                <a:cubicBezTo>
                  <a:pt x="6850" y="9447"/>
                  <a:pt x="6825" y="9491"/>
                  <a:pt x="6796" y="9550"/>
                </a:cubicBezTo>
                <a:cubicBezTo>
                  <a:pt x="6749" y="9644"/>
                  <a:pt x="6775" y="9647"/>
                  <a:pt x="6846" y="9699"/>
                </a:cubicBezTo>
                <a:cubicBezTo>
                  <a:pt x="6914" y="9749"/>
                  <a:pt x="6989" y="9748"/>
                  <a:pt x="7069" y="9773"/>
                </a:cubicBezTo>
                <a:cubicBezTo>
                  <a:pt x="7155" y="9800"/>
                  <a:pt x="7197" y="9821"/>
                  <a:pt x="7243" y="9897"/>
                </a:cubicBezTo>
                <a:cubicBezTo>
                  <a:pt x="7283" y="9963"/>
                  <a:pt x="7279" y="10025"/>
                  <a:pt x="7193" y="10046"/>
                </a:cubicBezTo>
                <a:cubicBezTo>
                  <a:pt x="7145" y="10057"/>
                  <a:pt x="6927" y="10073"/>
                  <a:pt x="6896" y="10021"/>
                </a:cubicBezTo>
                <a:cubicBezTo>
                  <a:pt x="6896" y="10004"/>
                  <a:pt x="6896" y="9988"/>
                  <a:pt x="6896" y="9971"/>
                </a:cubicBezTo>
              </a:path>
              <a:path w="3473" h="745">
                <a:moveTo>
                  <a:pt x="7268" y="9426"/>
                </a:moveTo>
                <a:cubicBezTo>
                  <a:pt x="7288" y="9386"/>
                  <a:pt x="7286" y="9369"/>
                  <a:pt x="7317" y="9376"/>
                </a:cubicBezTo>
                <a:cubicBezTo>
                  <a:pt x="7241" y="9386"/>
                  <a:pt x="7169" y="9403"/>
                  <a:pt x="7094" y="9426"/>
                </a:cubicBezTo>
                <a:cubicBezTo>
                  <a:pt x="7069" y="9434"/>
                  <a:pt x="7045" y="9443"/>
                  <a:pt x="7020" y="9451"/>
                </a:cubicBezTo>
              </a:path>
              <a:path w="3473" h="745">
                <a:moveTo>
                  <a:pt x="7441" y="9872"/>
                </a:moveTo>
                <a:cubicBezTo>
                  <a:pt x="7498" y="9872"/>
                  <a:pt x="7520" y="9873"/>
                  <a:pt x="7565" y="9847"/>
                </a:cubicBezTo>
                <a:cubicBezTo>
                  <a:pt x="7620" y="9816"/>
                  <a:pt x="7695" y="9788"/>
                  <a:pt x="7714" y="9723"/>
                </a:cubicBezTo>
                <a:cubicBezTo>
                  <a:pt x="7714" y="9682"/>
                  <a:pt x="7714" y="9674"/>
                  <a:pt x="7714" y="9649"/>
                </a:cubicBezTo>
                <a:cubicBezTo>
                  <a:pt x="7649" y="9662"/>
                  <a:pt x="7584" y="9692"/>
                  <a:pt x="7541" y="9748"/>
                </a:cubicBezTo>
                <a:cubicBezTo>
                  <a:pt x="7489" y="9817"/>
                  <a:pt x="7503" y="9905"/>
                  <a:pt x="7565" y="9947"/>
                </a:cubicBezTo>
                <a:cubicBezTo>
                  <a:pt x="7665" y="10015"/>
                  <a:pt x="7734" y="9981"/>
                  <a:pt x="7838" y="9947"/>
                </a:cubicBezTo>
                <a:cubicBezTo>
                  <a:pt x="7906" y="9924"/>
                  <a:pt x="7971" y="9901"/>
                  <a:pt x="8037" y="9872"/>
                </a:cubicBezTo>
              </a:path>
              <a:path w="3473" h="745">
                <a:moveTo>
                  <a:pt x="8260" y="9575"/>
                </a:moveTo>
                <a:cubicBezTo>
                  <a:pt x="8260" y="9635"/>
                  <a:pt x="8236" y="9515"/>
                  <a:pt x="8235" y="9500"/>
                </a:cubicBezTo>
                <a:cubicBezTo>
                  <a:pt x="8230" y="9444"/>
                  <a:pt x="8281" y="9389"/>
                  <a:pt x="8334" y="9376"/>
                </a:cubicBezTo>
                <a:cubicBezTo>
                  <a:pt x="8437" y="9352"/>
                  <a:pt x="8455" y="9486"/>
                  <a:pt x="8483" y="9550"/>
                </a:cubicBezTo>
                <a:cubicBezTo>
                  <a:pt x="8511" y="9614"/>
                  <a:pt x="8526" y="9674"/>
                  <a:pt x="8458" y="9723"/>
                </a:cubicBezTo>
                <a:cubicBezTo>
                  <a:pt x="8395" y="9768"/>
                  <a:pt x="8380" y="9744"/>
                  <a:pt x="8334" y="9699"/>
                </a:cubicBezTo>
              </a:path>
              <a:path w="3473" h="745">
                <a:moveTo>
                  <a:pt x="8731" y="9674"/>
                </a:moveTo>
                <a:cubicBezTo>
                  <a:pt x="8776" y="9674"/>
                  <a:pt x="8789" y="9671"/>
                  <a:pt x="8806" y="9699"/>
                </a:cubicBezTo>
              </a:path>
              <a:path w="3473" h="745">
                <a:moveTo>
                  <a:pt x="9054" y="9575"/>
                </a:moveTo>
                <a:cubicBezTo>
                  <a:pt x="9028" y="9529"/>
                  <a:pt x="8989" y="9506"/>
                  <a:pt x="8979" y="9475"/>
                </a:cubicBezTo>
                <a:cubicBezTo>
                  <a:pt x="8999" y="9455"/>
                  <a:pt x="9042" y="9400"/>
                  <a:pt x="9079" y="9426"/>
                </a:cubicBezTo>
                <a:cubicBezTo>
                  <a:pt x="9143" y="9472"/>
                  <a:pt x="9174" y="9550"/>
                  <a:pt x="9178" y="9624"/>
                </a:cubicBezTo>
                <a:cubicBezTo>
                  <a:pt x="9178" y="9666"/>
                  <a:pt x="9178" y="9674"/>
                  <a:pt x="9178" y="9699"/>
                </a:cubicBezTo>
                <a:cubicBezTo>
                  <a:pt x="9111" y="9699"/>
                  <a:pt x="9081" y="9696"/>
                  <a:pt x="9029" y="9649"/>
                </a:cubicBezTo>
                <a:cubicBezTo>
                  <a:pt x="9021" y="9641"/>
                  <a:pt x="9012" y="9632"/>
                  <a:pt x="9004" y="9624"/>
                </a:cubicBezTo>
              </a:path>
              <a:path w="3473" h="745">
                <a:moveTo>
                  <a:pt x="9525" y="9401"/>
                </a:moveTo>
                <a:cubicBezTo>
                  <a:pt x="9542" y="9384"/>
                  <a:pt x="9558" y="9368"/>
                  <a:pt x="9575" y="9351"/>
                </a:cubicBezTo>
                <a:cubicBezTo>
                  <a:pt x="9556" y="9370"/>
                  <a:pt x="9481" y="9416"/>
                  <a:pt x="9475" y="9426"/>
                </a:cubicBezTo>
                <a:cubicBezTo>
                  <a:pt x="9442" y="9476"/>
                  <a:pt x="9524" y="9511"/>
                  <a:pt x="9550" y="9525"/>
                </a:cubicBezTo>
                <a:cubicBezTo>
                  <a:pt x="9597" y="9550"/>
                  <a:pt x="9696" y="9575"/>
                  <a:pt x="9723" y="9624"/>
                </a:cubicBezTo>
                <a:cubicBezTo>
                  <a:pt x="9755" y="9683"/>
                  <a:pt x="9685" y="9697"/>
                  <a:pt x="9649" y="9699"/>
                </a:cubicBezTo>
                <a:cubicBezTo>
                  <a:pt x="9583" y="9703"/>
                  <a:pt x="9528" y="9706"/>
                  <a:pt x="9475" y="9674"/>
                </a:cubicBezTo>
              </a:path>
              <a:path w="3473" h="745">
                <a:moveTo>
                  <a:pt x="9723" y="9401"/>
                </a:moveTo>
                <a:cubicBezTo>
                  <a:pt x="9761" y="9345"/>
                  <a:pt x="9778" y="9342"/>
                  <a:pt x="9773" y="9302"/>
                </a:cubicBezTo>
                <a:cubicBezTo>
                  <a:pt x="9719" y="9302"/>
                  <a:pt x="9672" y="9311"/>
                  <a:pt x="9624" y="9327"/>
                </a:cubicBezTo>
                <a:cubicBezTo>
                  <a:pt x="9608" y="9335"/>
                  <a:pt x="9591" y="9343"/>
                  <a:pt x="9575" y="9351"/>
                </a:cubicBezTo>
              </a:path>
              <a:path w="3473" h="745">
                <a:moveTo>
                  <a:pt x="9996" y="9451"/>
                </a:moveTo>
                <a:cubicBezTo>
                  <a:pt x="10004" y="9443"/>
                  <a:pt x="10013" y="9434"/>
                  <a:pt x="10021" y="9426"/>
                </a:cubicBezTo>
                <a:cubicBezTo>
                  <a:pt x="10021" y="9502"/>
                  <a:pt x="9990" y="9667"/>
                  <a:pt x="10046" y="9723"/>
                </a:cubicBezTo>
                <a:cubicBezTo>
                  <a:pt x="10094" y="9747"/>
                  <a:pt x="10108" y="9755"/>
                  <a:pt x="10145" y="9748"/>
                </a:cubicBezTo>
              </a:path>
              <a:path w="3473" h="745">
                <a:moveTo>
                  <a:pt x="10244" y="9699"/>
                </a:moveTo>
                <a:cubicBezTo>
                  <a:pt x="10230" y="9640"/>
                  <a:pt x="10206" y="9628"/>
                  <a:pt x="10145" y="9624"/>
                </a:cubicBezTo>
                <a:cubicBezTo>
                  <a:pt x="10087" y="9624"/>
                  <a:pt x="10062" y="9624"/>
                  <a:pt x="10021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3902040"/>
            <a:ext cx="733320" cy="241200"/>
          </a:xfrm>
          <a:custGeom>
            <a:avLst/>
            <a:gdLst/>
            <a:ahLst/>
            <a:rect l="l" t="t" r="r" b="b"/>
            <a:pathLst>
              <a:path w="2035" h="670">
                <a:moveTo>
                  <a:pt x="3175" y="10964"/>
                </a:moveTo>
                <a:cubicBezTo>
                  <a:pt x="3200" y="10921"/>
                  <a:pt x="3294" y="10818"/>
                  <a:pt x="3249" y="10840"/>
                </a:cubicBezTo>
                <a:cubicBezTo>
                  <a:pt x="3205" y="10861"/>
                  <a:pt x="3189" y="10995"/>
                  <a:pt x="3175" y="11038"/>
                </a:cubicBezTo>
                <a:cubicBezTo>
                  <a:pt x="3139" y="11146"/>
                  <a:pt x="3152" y="11293"/>
                  <a:pt x="3225" y="11385"/>
                </a:cubicBezTo>
                <a:cubicBezTo>
                  <a:pt x="3273" y="11445"/>
                  <a:pt x="3391" y="11526"/>
                  <a:pt x="3473" y="11509"/>
                </a:cubicBezTo>
                <a:cubicBezTo>
                  <a:pt x="3522" y="11485"/>
                  <a:pt x="3539" y="11477"/>
                  <a:pt x="3572" y="11460"/>
                </a:cubicBezTo>
              </a:path>
              <a:path w="2035" h="670">
                <a:moveTo>
                  <a:pt x="3398" y="11088"/>
                </a:moveTo>
                <a:cubicBezTo>
                  <a:pt x="3398" y="11080"/>
                  <a:pt x="3398" y="11071"/>
                  <a:pt x="3398" y="11063"/>
                </a:cubicBezTo>
                <a:cubicBezTo>
                  <a:pt x="3344" y="11077"/>
                  <a:pt x="3284" y="11090"/>
                  <a:pt x="3225" y="11112"/>
                </a:cubicBezTo>
                <a:cubicBezTo>
                  <a:pt x="3176" y="11131"/>
                  <a:pt x="3141" y="11137"/>
                  <a:pt x="3101" y="11162"/>
                </a:cubicBezTo>
              </a:path>
              <a:path w="2035" h="670">
                <a:moveTo>
                  <a:pt x="3969" y="11112"/>
                </a:moveTo>
                <a:cubicBezTo>
                  <a:pt x="3997" y="11112"/>
                  <a:pt x="4007" y="11110"/>
                  <a:pt x="4018" y="11088"/>
                </a:cubicBezTo>
                <a:cubicBezTo>
                  <a:pt x="3944" y="11088"/>
                  <a:pt x="3854" y="11070"/>
                  <a:pt x="3795" y="11112"/>
                </a:cubicBezTo>
              </a:path>
              <a:path w="2035" h="670">
                <a:moveTo>
                  <a:pt x="4043" y="11212"/>
                </a:moveTo>
                <a:cubicBezTo>
                  <a:pt x="4060" y="11212"/>
                  <a:pt x="4076" y="11212"/>
                  <a:pt x="4093" y="11212"/>
                </a:cubicBezTo>
                <a:cubicBezTo>
                  <a:pt x="4041" y="11251"/>
                  <a:pt x="4007" y="11220"/>
                  <a:pt x="3944" y="11237"/>
                </a:cubicBezTo>
                <a:cubicBezTo>
                  <a:pt x="3899" y="11249"/>
                  <a:pt x="3885" y="11276"/>
                  <a:pt x="3845" y="11286"/>
                </a:cubicBezTo>
              </a:path>
              <a:path w="2035" h="670">
                <a:moveTo>
                  <a:pt x="4440" y="11038"/>
                </a:moveTo>
                <a:cubicBezTo>
                  <a:pt x="4440" y="11013"/>
                  <a:pt x="4440" y="10989"/>
                  <a:pt x="4440" y="10964"/>
                </a:cubicBezTo>
                <a:cubicBezTo>
                  <a:pt x="4440" y="11036"/>
                  <a:pt x="4394" y="11326"/>
                  <a:pt x="4465" y="11361"/>
                </a:cubicBezTo>
                <a:cubicBezTo>
                  <a:pt x="4473" y="11361"/>
                  <a:pt x="4482" y="11361"/>
                  <a:pt x="4490" y="11361"/>
                </a:cubicBezTo>
              </a:path>
              <a:path w="2035" h="670">
                <a:moveTo>
                  <a:pt x="4787" y="11112"/>
                </a:moveTo>
                <a:cubicBezTo>
                  <a:pt x="4787" y="11062"/>
                  <a:pt x="4776" y="11054"/>
                  <a:pt x="4762" y="11013"/>
                </a:cubicBezTo>
                <a:cubicBezTo>
                  <a:pt x="4746" y="10966"/>
                  <a:pt x="4799" y="10924"/>
                  <a:pt x="4837" y="10914"/>
                </a:cubicBezTo>
                <a:cubicBezTo>
                  <a:pt x="4914" y="10893"/>
                  <a:pt x="5009" y="10906"/>
                  <a:pt x="5060" y="10964"/>
                </a:cubicBezTo>
                <a:cubicBezTo>
                  <a:pt x="5102" y="11011"/>
                  <a:pt x="5160" y="11176"/>
                  <a:pt x="5135" y="11237"/>
                </a:cubicBezTo>
                <a:cubicBezTo>
                  <a:pt x="5107" y="11306"/>
                  <a:pt x="5002" y="11349"/>
                  <a:pt x="4936" y="11336"/>
                </a:cubicBezTo>
                <a:cubicBezTo>
                  <a:pt x="4838" y="11317"/>
                  <a:pt x="4837" y="11240"/>
                  <a:pt x="4837" y="11162"/>
                </a:cubicBezTo>
                <a:cubicBezTo>
                  <a:pt x="4837" y="11145"/>
                  <a:pt x="4837" y="11129"/>
                  <a:pt x="483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8160" y="4125960"/>
            <a:ext cx="54000" cy="106200"/>
          </a:xfrm>
          <a:custGeom>
            <a:avLst/>
            <a:gdLst/>
            <a:ahLst/>
            <a:rect l="l" t="t" r="r" b="b"/>
            <a:pathLst>
              <a:path w="150" h="298">
                <a:moveTo>
                  <a:pt x="6003" y="11460"/>
                </a:moveTo>
                <a:cubicBezTo>
                  <a:pt x="6003" y="11553"/>
                  <a:pt x="5974" y="11576"/>
                  <a:pt x="5928" y="11658"/>
                </a:cubicBezTo>
                <a:cubicBezTo>
                  <a:pt x="5902" y="11712"/>
                  <a:pt x="5890" y="11732"/>
                  <a:pt x="5854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73200" y="3884760"/>
            <a:ext cx="384480" cy="517320"/>
          </a:xfrm>
          <a:custGeom>
            <a:avLst/>
            <a:gdLst/>
            <a:ahLst/>
            <a:rect l="l" t="t" r="r" b="b"/>
            <a:pathLst>
              <a:path w="1068" h="1440">
                <a:moveTo>
                  <a:pt x="6945" y="11162"/>
                </a:moveTo>
                <a:cubicBezTo>
                  <a:pt x="6971" y="11127"/>
                  <a:pt x="6970" y="11131"/>
                  <a:pt x="6970" y="11088"/>
                </a:cubicBezTo>
                <a:cubicBezTo>
                  <a:pt x="6932" y="11097"/>
                  <a:pt x="6879" y="11145"/>
                  <a:pt x="6871" y="11187"/>
                </a:cubicBezTo>
                <a:cubicBezTo>
                  <a:pt x="6858" y="11251"/>
                  <a:pt x="6865" y="11270"/>
                  <a:pt x="6896" y="11311"/>
                </a:cubicBezTo>
                <a:cubicBezTo>
                  <a:pt x="6979" y="11299"/>
                  <a:pt x="7028" y="11244"/>
                  <a:pt x="7069" y="11162"/>
                </a:cubicBezTo>
                <a:cubicBezTo>
                  <a:pt x="7110" y="11080"/>
                  <a:pt x="7115" y="10954"/>
                  <a:pt x="7119" y="10864"/>
                </a:cubicBezTo>
                <a:cubicBezTo>
                  <a:pt x="7119" y="10823"/>
                  <a:pt x="7119" y="10815"/>
                  <a:pt x="7119" y="10790"/>
                </a:cubicBezTo>
                <a:cubicBezTo>
                  <a:pt x="7087" y="10853"/>
                  <a:pt x="7079" y="10960"/>
                  <a:pt x="7094" y="11038"/>
                </a:cubicBezTo>
                <a:cubicBezTo>
                  <a:pt x="7113" y="11137"/>
                  <a:pt x="7155" y="11237"/>
                  <a:pt x="7218" y="11311"/>
                </a:cubicBezTo>
                <a:cubicBezTo>
                  <a:pt x="7249" y="11348"/>
                  <a:pt x="7275" y="11361"/>
                  <a:pt x="7317" y="11385"/>
                </a:cubicBezTo>
              </a:path>
              <a:path w="1068" h="1440">
                <a:moveTo>
                  <a:pt x="7466" y="11187"/>
                </a:moveTo>
                <a:cubicBezTo>
                  <a:pt x="7466" y="11170"/>
                  <a:pt x="7466" y="11154"/>
                  <a:pt x="7466" y="11137"/>
                </a:cubicBezTo>
                <a:cubicBezTo>
                  <a:pt x="7505" y="11150"/>
                  <a:pt x="7514" y="11185"/>
                  <a:pt x="7516" y="11237"/>
                </a:cubicBezTo>
                <a:cubicBezTo>
                  <a:pt x="7521" y="11341"/>
                  <a:pt x="7505" y="11434"/>
                  <a:pt x="7541" y="11534"/>
                </a:cubicBezTo>
                <a:cubicBezTo>
                  <a:pt x="7559" y="11583"/>
                  <a:pt x="7565" y="11617"/>
                  <a:pt x="7590" y="11658"/>
                </a:cubicBezTo>
              </a:path>
              <a:path w="1068" h="1440">
                <a:moveTo>
                  <a:pt x="7516" y="11237"/>
                </a:moveTo>
                <a:cubicBezTo>
                  <a:pt x="7497" y="11196"/>
                  <a:pt x="7436" y="11097"/>
                  <a:pt x="7466" y="11038"/>
                </a:cubicBezTo>
                <a:cubicBezTo>
                  <a:pt x="7500" y="10971"/>
                  <a:pt x="7519" y="10964"/>
                  <a:pt x="7590" y="10964"/>
                </a:cubicBezTo>
                <a:cubicBezTo>
                  <a:pt x="7654" y="10964"/>
                  <a:pt x="7696" y="10961"/>
                  <a:pt x="7714" y="11038"/>
                </a:cubicBezTo>
                <a:cubicBezTo>
                  <a:pt x="7724" y="11080"/>
                  <a:pt x="7723" y="11160"/>
                  <a:pt x="7689" y="11187"/>
                </a:cubicBezTo>
                <a:cubicBezTo>
                  <a:pt x="7649" y="11207"/>
                  <a:pt x="7643" y="11216"/>
                  <a:pt x="7615" y="11212"/>
                </a:cubicBezTo>
              </a:path>
              <a:path w="1068" h="1440">
                <a:moveTo>
                  <a:pt x="7938" y="11361"/>
                </a:moveTo>
                <a:cubicBezTo>
                  <a:pt x="7879" y="11372"/>
                  <a:pt x="7823" y="11397"/>
                  <a:pt x="7764" y="11410"/>
                </a:cubicBezTo>
                <a:cubicBezTo>
                  <a:pt x="7647" y="11435"/>
                  <a:pt x="7534" y="11472"/>
                  <a:pt x="7417" y="11485"/>
                </a:cubicBezTo>
                <a:cubicBezTo>
                  <a:pt x="7339" y="11493"/>
                  <a:pt x="7216" y="11483"/>
                  <a:pt x="7144" y="11509"/>
                </a:cubicBezTo>
                <a:cubicBezTo>
                  <a:pt x="7112" y="11520"/>
                  <a:pt x="7072" y="11538"/>
                  <a:pt x="7045" y="11559"/>
                </a:cubicBezTo>
              </a:path>
              <a:path w="1068" h="1440">
                <a:moveTo>
                  <a:pt x="7268" y="11931"/>
                </a:moveTo>
                <a:cubicBezTo>
                  <a:pt x="7287" y="11875"/>
                  <a:pt x="7270" y="11914"/>
                  <a:pt x="7243" y="11956"/>
                </a:cubicBezTo>
                <a:cubicBezTo>
                  <a:pt x="7204" y="12017"/>
                  <a:pt x="7170" y="12105"/>
                  <a:pt x="7193" y="12179"/>
                </a:cubicBezTo>
                <a:cubicBezTo>
                  <a:pt x="7201" y="12187"/>
                  <a:pt x="7210" y="12196"/>
                  <a:pt x="7218" y="12204"/>
                </a:cubicBezTo>
                <a:cubicBezTo>
                  <a:pt x="7297" y="12188"/>
                  <a:pt x="7331" y="12141"/>
                  <a:pt x="7342" y="12055"/>
                </a:cubicBezTo>
                <a:cubicBezTo>
                  <a:pt x="7354" y="11962"/>
                  <a:pt x="7357" y="11820"/>
                  <a:pt x="7317" y="11733"/>
                </a:cubicBezTo>
                <a:cubicBezTo>
                  <a:pt x="7309" y="11725"/>
                  <a:pt x="7301" y="11716"/>
                  <a:pt x="7293" y="11708"/>
                </a:cubicBezTo>
                <a:cubicBezTo>
                  <a:pt x="7293" y="11812"/>
                  <a:pt x="7288" y="11905"/>
                  <a:pt x="7317" y="12005"/>
                </a:cubicBezTo>
                <a:cubicBezTo>
                  <a:pt x="7335" y="12065"/>
                  <a:pt x="7356" y="12194"/>
                  <a:pt x="7417" y="12229"/>
                </a:cubicBezTo>
                <a:cubicBezTo>
                  <a:pt x="7425" y="12229"/>
                  <a:pt x="7433" y="12229"/>
                  <a:pt x="7441" y="12229"/>
                </a:cubicBezTo>
              </a:path>
              <a:path w="1068" h="1440">
                <a:moveTo>
                  <a:pt x="7640" y="12005"/>
                </a:moveTo>
                <a:cubicBezTo>
                  <a:pt x="7647" y="11932"/>
                  <a:pt x="7651" y="11936"/>
                  <a:pt x="7665" y="11881"/>
                </a:cubicBezTo>
                <a:cubicBezTo>
                  <a:pt x="7640" y="11923"/>
                  <a:pt x="7605" y="11999"/>
                  <a:pt x="7615" y="12055"/>
                </a:cubicBezTo>
                <a:cubicBezTo>
                  <a:pt x="7630" y="12138"/>
                  <a:pt x="7654" y="12161"/>
                  <a:pt x="7714" y="12204"/>
                </a:cubicBezTo>
              </a:path>
              <a:path w="1068" h="1440">
                <a:moveTo>
                  <a:pt x="7863" y="12105"/>
                </a:moveTo>
                <a:cubicBezTo>
                  <a:pt x="7815" y="12036"/>
                  <a:pt x="7816" y="12005"/>
                  <a:pt x="7739" y="12005"/>
                </a:cubicBezTo>
                <a:cubicBezTo>
                  <a:pt x="7698" y="12005"/>
                  <a:pt x="7690" y="12005"/>
                  <a:pt x="766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1880" y="4143240"/>
            <a:ext cx="712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682" y="11509"/>
                </a:moveTo>
                <a:cubicBezTo>
                  <a:pt x="8690" y="11509"/>
                  <a:pt x="8698" y="11509"/>
                  <a:pt x="8706" y="11509"/>
                </a:cubicBezTo>
                <a:cubicBezTo>
                  <a:pt x="8657" y="11509"/>
                  <a:pt x="8626" y="11504"/>
                  <a:pt x="8582" y="11534"/>
                </a:cubicBezTo>
                <a:cubicBezTo>
                  <a:pt x="8558" y="11559"/>
                  <a:pt x="8550" y="11568"/>
                  <a:pt x="8533" y="11584"/>
                </a:cubicBezTo>
              </a:path>
              <a:path w="199" h="200">
                <a:moveTo>
                  <a:pt x="8682" y="11658"/>
                </a:moveTo>
                <a:cubicBezTo>
                  <a:pt x="8722" y="11678"/>
                  <a:pt x="8738" y="11677"/>
                  <a:pt x="8731" y="11708"/>
                </a:cubicBezTo>
                <a:cubicBezTo>
                  <a:pt x="8698" y="11708"/>
                  <a:pt x="8665" y="11708"/>
                  <a:pt x="8632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1920" y="4027320"/>
            <a:ext cx="857160" cy="285840"/>
          </a:xfrm>
          <a:custGeom>
            <a:avLst/>
            <a:gdLst/>
            <a:ahLst/>
            <a:rect l="l" t="t" r="r" b="b"/>
            <a:pathLst>
              <a:path w="2382" h="795">
                <a:moveTo>
                  <a:pt x="9971" y="11336"/>
                </a:moveTo>
                <a:cubicBezTo>
                  <a:pt x="10013" y="11294"/>
                  <a:pt x="10021" y="11286"/>
                  <a:pt x="10046" y="11261"/>
                </a:cubicBezTo>
                <a:cubicBezTo>
                  <a:pt x="9983" y="11306"/>
                  <a:pt x="9929" y="11354"/>
                  <a:pt x="9922" y="11435"/>
                </a:cubicBezTo>
                <a:cubicBezTo>
                  <a:pt x="9911" y="11559"/>
                  <a:pt x="9961" y="11580"/>
                  <a:pt x="10071" y="11584"/>
                </a:cubicBezTo>
                <a:cubicBezTo>
                  <a:pt x="10173" y="11588"/>
                  <a:pt x="10249" y="11567"/>
                  <a:pt x="10319" y="11658"/>
                </a:cubicBezTo>
                <a:cubicBezTo>
                  <a:pt x="10365" y="11718"/>
                  <a:pt x="10382" y="11799"/>
                  <a:pt x="10319" y="11857"/>
                </a:cubicBezTo>
                <a:cubicBezTo>
                  <a:pt x="10256" y="11915"/>
                  <a:pt x="10138" y="11879"/>
                  <a:pt x="10071" y="11857"/>
                </a:cubicBezTo>
                <a:cubicBezTo>
                  <a:pt x="10046" y="11849"/>
                  <a:pt x="10021" y="11840"/>
                  <a:pt x="9996" y="11832"/>
                </a:cubicBezTo>
              </a:path>
              <a:path w="2382" h="795">
                <a:moveTo>
                  <a:pt x="10319" y="11286"/>
                </a:moveTo>
                <a:cubicBezTo>
                  <a:pt x="10377" y="11228"/>
                  <a:pt x="10385" y="11220"/>
                  <a:pt x="10418" y="11187"/>
                </a:cubicBezTo>
                <a:cubicBezTo>
                  <a:pt x="10329" y="11187"/>
                  <a:pt x="10253" y="11184"/>
                  <a:pt x="10170" y="11212"/>
                </a:cubicBezTo>
                <a:cubicBezTo>
                  <a:pt x="10145" y="11220"/>
                  <a:pt x="10121" y="11229"/>
                  <a:pt x="10096" y="11237"/>
                </a:cubicBezTo>
              </a:path>
              <a:path w="2382" h="795">
                <a:moveTo>
                  <a:pt x="10567" y="11708"/>
                </a:moveTo>
                <a:cubicBezTo>
                  <a:pt x="10606" y="11765"/>
                  <a:pt x="10618" y="11776"/>
                  <a:pt x="10691" y="11782"/>
                </a:cubicBezTo>
                <a:cubicBezTo>
                  <a:pt x="10741" y="11786"/>
                  <a:pt x="10834" y="11718"/>
                  <a:pt x="10864" y="11683"/>
                </a:cubicBezTo>
                <a:cubicBezTo>
                  <a:pt x="10894" y="11648"/>
                  <a:pt x="10889" y="11623"/>
                  <a:pt x="10889" y="11584"/>
                </a:cubicBezTo>
                <a:cubicBezTo>
                  <a:pt x="10836" y="11563"/>
                  <a:pt x="10755" y="11591"/>
                  <a:pt x="10716" y="11658"/>
                </a:cubicBezTo>
                <a:cubicBezTo>
                  <a:pt x="10674" y="11730"/>
                  <a:pt x="10678" y="11869"/>
                  <a:pt x="10740" y="11931"/>
                </a:cubicBezTo>
                <a:cubicBezTo>
                  <a:pt x="10815" y="12006"/>
                  <a:pt x="10905" y="11965"/>
                  <a:pt x="10988" y="11931"/>
                </a:cubicBezTo>
                <a:cubicBezTo>
                  <a:pt x="11005" y="11923"/>
                  <a:pt x="11021" y="11914"/>
                  <a:pt x="11038" y="11906"/>
                </a:cubicBezTo>
              </a:path>
              <a:path w="2382" h="795">
                <a:moveTo>
                  <a:pt x="11311" y="11435"/>
                </a:moveTo>
                <a:cubicBezTo>
                  <a:pt x="11311" y="11372"/>
                  <a:pt x="11302" y="11362"/>
                  <a:pt x="11336" y="11336"/>
                </a:cubicBezTo>
                <a:cubicBezTo>
                  <a:pt x="11381" y="11302"/>
                  <a:pt x="11421" y="11307"/>
                  <a:pt x="11460" y="11361"/>
                </a:cubicBezTo>
                <a:cubicBezTo>
                  <a:pt x="11497" y="11412"/>
                  <a:pt x="11533" y="11521"/>
                  <a:pt x="11509" y="11584"/>
                </a:cubicBezTo>
                <a:cubicBezTo>
                  <a:pt x="11494" y="11625"/>
                  <a:pt x="11392" y="11618"/>
                  <a:pt x="11361" y="11609"/>
                </a:cubicBezTo>
                <a:cubicBezTo>
                  <a:pt x="11320" y="11589"/>
                  <a:pt x="11314" y="11580"/>
                  <a:pt x="11286" y="11584"/>
                </a:cubicBezTo>
              </a:path>
              <a:path w="2382" h="795">
                <a:moveTo>
                  <a:pt x="11708" y="11633"/>
                </a:moveTo>
                <a:cubicBezTo>
                  <a:pt x="11794" y="11672"/>
                  <a:pt x="11758" y="11667"/>
                  <a:pt x="11807" y="11683"/>
                </a:cubicBezTo>
              </a:path>
              <a:path w="2382" h="795">
                <a:moveTo>
                  <a:pt x="12105" y="11286"/>
                </a:moveTo>
                <a:cubicBezTo>
                  <a:pt x="12105" y="11270"/>
                  <a:pt x="12105" y="11253"/>
                  <a:pt x="12105" y="11237"/>
                </a:cubicBezTo>
                <a:cubicBezTo>
                  <a:pt x="12072" y="11280"/>
                  <a:pt x="12060" y="11304"/>
                  <a:pt x="12055" y="11361"/>
                </a:cubicBezTo>
                <a:cubicBezTo>
                  <a:pt x="12055" y="11385"/>
                  <a:pt x="12055" y="11394"/>
                  <a:pt x="12055" y="11410"/>
                </a:cubicBezTo>
                <a:cubicBezTo>
                  <a:pt x="12116" y="11419"/>
                  <a:pt x="12173" y="11447"/>
                  <a:pt x="12229" y="11485"/>
                </a:cubicBezTo>
                <a:cubicBezTo>
                  <a:pt x="12237" y="11493"/>
                  <a:pt x="12246" y="11501"/>
                  <a:pt x="12254" y="11509"/>
                </a:cubicBezTo>
                <a:cubicBezTo>
                  <a:pt x="12239" y="11569"/>
                  <a:pt x="12214" y="11559"/>
                  <a:pt x="12154" y="11559"/>
                </a:cubicBezTo>
                <a:cubicBezTo>
                  <a:pt x="12138" y="11559"/>
                  <a:pt x="12121" y="11559"/>
                  <a:pt x="12105" y="11559"/>
                </a:cubicBezTo>
              </a:path>
              <a:path w="2382" h="795">
                <a:moveTo>
                  <a:pt x="12254" y="11237"/>
                </a:moveTo>
                <a:cubicBezTo>
                  <a:pt x="12270" y="11220"/>
                  <a:pt x="12287" y="11204"/>
                  <a:pt x="12303" y="11187"/>
                </a:cubicBezTo>
                <a:cubicBezTo>
                  <a:pt x="12288" y="11248"/>
                  <a:pt x="12246" y="11273"/>
                  <a:pt x="12179" y="11286"/>
                </a:cubicBezTo>
                <a:cubicBezTo>
                  <a:pt x="12162" y="11286"/>
                  <a:pt x="12146" y="11286"/>
                  <a:pt x="1212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6920" y="4187880"/>
            <a:ext cx="903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2998" y="11633"/>
                </a:moveTo>
                <a:cubicBezTo>
                  <a:pt x="13022" y="11633"/>
                  <a:pt x="13031" y="11633"/>
                  <a:pt x="13047" y="11633"/>
                </a:cubicBezTo>
                <a:cubicBezTo>
                  <a:pt x="12964" y="11633"/>
                  <a:pt x="12867" y="11617"/>
                  <a:pt x="12799" y="11658"/>
                </a:cubicBezTo>
              </a:path>
              <a:path w="249" h="299">
                <a:moveTo>
                  <a:pt x="12998" y="11857"/>
                </a:moveTo>
                <a:cubicBezTo>
                  <a:pt x="13006" y="11857"/>
                  <a:pt x="13014" y="11857"/>
                  <a:pt x="13022" y="11857"/>
                </a:cubicBezTo>
                <a:cubicBezTo>
                  <a:pt x="13022" y="11933"/>
                  <a:pt x="13012" y="11887"/>
                  <a:pt x="12948" y="11906"/>
                </a:cubicBezTo>
                <a:cubicBezTo>
                  <a:pt x="12931" y="11914"/>
                  <a:pt x="12915" y="11923"/>
                  <a:pt x="1289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7320" y="4106880"/>
            <a:ext cx="884520" cy="304920"/>
          </a:xfrm>
          <a:custGeom>
            <a:avLst/>
            <a:gdLst/>
            <a:ahLst/>
            <a:rect l="l" t="t" r="r" b="b"/>
            <a:pathLst>
              <a:path w="2457" h="845">
                <a:moveTo>
                  <a:pt x="14709" y="11534"/>
                </a:moveTo>
                <a:cubicBezTo>
                  <a:pt x="14757" y="11514"/>
                  <a:pt x="14802" y="11514"/>
                  <a:pt x="14808" y="11460"/>
                </a:cubicBezTo>
                <a:cubicBezTo>
                  <a:pt x="14808" y="11452"/>
                  <a:pt x="14808" y="11443"/>
                  <a:pt x="14808" y="11435"/>
                </a:cubicBezTo>
                <a:cubicBezTo>
                  <a:pt x="14750" y="11390"/>
                  <a:pt x="14703" y="11412"/>
                  <a:pt x="14635" y="11435"/>
                </a:cubicBezTo>
                <a:cubicBezTo>
                  <a:pt x="14546" y="11465"/>
                  <a:pt x="14482" y="11499"/>
                  <a:pt x="14436" y="11584"/>
                </a:cubicBezTo>
                <a:cubicBezTo>
                  <a:pt x="14405" y="11642"/>
                  <a:pt x="14462" y="11670"/>
                  <a:pt x="14486" y="11708"/>
                </a:cubicBezTo>
                <a:cubicBezTo>
                  <a:pt x="14538" y="11787"/>
                  <a:pt x="14622" y="11794"/>
                  <a:pt x="14709" y="11832"/>
                </a:cubicBezTo>
                <a:cubicBezTo>
                  <a:pt x="14777" y="11861"/>
                  <a:pt x="14803" y="11914"/>
                  <a:pt x="14808" y="11981"/>
                </a:cubicBezTo>
                <a:cubicBezTo>
                  <a:pt x="14815" y="12065"/>
                  <a:pt x="14748" y="12076"/>
                  <a:pt x="14684" y="12080"/>
                </a:cubicBezTo>
                <a:cubicBezTo>
                  <a:pt x="14630" y="12083"/>
                  <a:pt x="14539" y="12057"/>
                  <a:pt x="14560" y="11981"/>
                </a:cubicBezTo>
                <a:cubicBezTo>
                  <a:pt x="14589" y="11873"/>
                  <a:pt x="14696" y="11795"/>
                  <a:pt x="14759" y="11708"/>
                </a:cubicBezTo>
                <a:cubicBezTo>
                  <a:pt x="14794" y="11660"/>
                  <a:pt x="14888" y="11485"/>
                  <a:pt x="14957" y="11485"/>
                </a:cubicBezTo>
                <a:cubicBezTo>
                  <a:pt x="14965" y="11493"/>
                  <a:pt x="14974" y="11501"/>
                  <a:pt x="14982" y="11509"/>
                </a:cubicBezTo>
              </a:path>
              <a:path w="2457" h="845">
                <a:moveTo>
                  <a:pt x="15255" y="11981"/>
                </a:moveTo>
                <a:cubicBezTo>
                  <a:pt x="15278" y="12003"/>
                  <a:pt x="15286" y="12008"/>
                  <a:pt x="15280" y="12030"/>
                </a:cubicBezTo>
              </a:path>
              <a:path w="2457" h="845">
                <a:moveTo>
                  <a:pt x="15577" y="11683"/>
                </a:moveTo>
                <a:cubicBezTo>
                  <a:pt x="15584" y="11654"/>
                  <a:pt x="15628" y="11580"/>
                  <a:pt x="15652" y="11559"/>
                </a:cubicBezTo>
                <a:cubicBezTo>
                  <a:pt x="15672" y="11542"/>
                  <a:pt x="15778" y="11510"/>
                  <a:pt x="15801" y="11534"/>
                </a:cubicBezTo>
                <a:cubicBezTo>
                  <a:pt x="15864" y="11599"/>
                  <a:pt x="15853" y="11682"/>
                  <a:pt x="15825" y="11757"/>
                </a:cubicBezTo>
                <a:cubicBezTo>
                  <a:pt x="15802" y="11818"/>
                  <a:pt x="15769" y="11883"/>
                  <a:pt x="15726" y="11931"/>
                </a:cubicBezTo>
                <a:cubicBezTo>
                  <a:pt x="15699" y="11961"/>
                  <a:pt x="15686" y="11968"/>
                  <a:pt x="15677" y="12005"/>
                </a:cubicBezTo>
                <a:cubicBezTo>
                  <a:pt x="15720" y="12038"/>
                  <a:pt x="15743" y="12030"/>
                  <a:pt x="15801" y="12030"/>
                </a:cubicBezTo>
                <a:cubicBezTo>
                  <a:pt x="15875" y="12030"/>
                  <a:pt x="15938" y="12043"/>
                  <a:pt x="15999" y="12055"/>
                </a:cubicBezTo>
                <a:cubicBezTo>
                  <a:pt x="16027" y="12061"/>
                  <a:pt x="16068" y="12055"/>
                  <a:pt x="16098" y="12055"/>
                </a:cubicBezTo>
              </a:path>
              <a:path w="2457" h="845">
                <a:moveTo>
                  <a:pt x="16297" y="11609"/>
                </a:moveTo>
                <a:cubicBezTo>
                  <a:pt x="16316" y="11551"/>
                  <a:pt x="16306" y="11526"/>
                  <a:pt x="16346" y="11534"/>
                </a:cubicBezTo>
                <a:cubicBezTo>
                  <a:pt x="16373" y="11543"/>
                  <a:pt x="16385" y="11570"/>
                  <a:pt x="16371" y="11609"/>
                </a:cubicBezTo>
                <a:cubicBezTo>
                  <a:pt x="16343" y="11686"/>
                  <a:pt x="16346" y="11748"/>
                  <a:pt x="16346" y="11832"/>
                </a:cubicBezTo>
                <a:cubicBezTo>
                  <a:pt x="16346" y="11877"/>
                  <a:pt x="16366" y="11965"/>
                  <a:pt x="16421" y="11981"/>
                </a:cubicBezTo>
                <a:cubicBezTo>
                  <a:pt x="16554" y="12019"/>
                  <a:pt x="16750" y="11981"/>
                  <a:pt x="16892" y="11981"/>
                </a:cubicBezTo>
              </a:path>
              <a:path w="2457" h="845">
                <a:moveTo>
                  <a:pt x="16669" y="11757"/>
                </a:moveTo>
                <a:cubicBezTo>
                  <a:pt x="16655" y="11815"/>
                  <a:pt x="16644" y="11862"/>
                  <a:pt x="16644" y="11931"/>
                </a:cubicBezTo>
                <a:cubicBezTo>
                  <a:pt x="16644" y="12042"/>
                  <a:pt x="16619" y="12141"/>
                  <a:pt x="16619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67320" y="4384800"/>
            <a:ext cx="17640" cy="27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17686" y="12204"/>
                </a:moveTo>
                <a:cubicBezTo>
                  <a:pt x="17686" y="12196"/>
                  <a:pt x="17686" y="12187"/>
                  <a:pt x="17686" y="12179"/>
                </a:cubicBezTo>
                <a:cubicBezTo>
                  <a:pt x="17738" y="12179"/>
                  <a:pt x="17735" y="12177"/>
                  <a:pt x="17735" y="12229"/>
                </a:cubicBezTo>
                <a:cubicBezTo>
                  <a:pt x="17735" y="12237"/>
                  <a:pt x="17735" y="12246"/>
                  <a:pt x="17735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60680" y="1251000"/>
            <a:ext cx="161640" cy="615960"/>
          </a:xfrm>
          <a:custGeom>
            <a:avLst/>
            <a:gdLst/>
            <a:ahLst/>
            <a:rect l="l" t="t" r="r" b="b"/>
            <a:pathLst>
              <a:path w="447" h="1712">
                <a:moveTo>
                  <a:pt x="4986" y="3671"/>
                </a:moveTo>
                <a:cubicBezTo>
                  <a:pt x="5038" y="3680"/>
                  <a:pt x="5008" y="3675"/>
                  <a:pt x="5035" y="3696"/>
                </a:cubicBezTo>
                <a:cubicBezTo>
                  <a:pt x="5055" y="3662"/>
                  <a:pt x="5070" y="3642"/>
                  <a:pt x="5060" y="3597"/>
                </a:cubicBezTo>
                <a:cubicBezTo>
                  <a:pt x="5050" y="3554"/>
                  <a:pt x="5020" y="3530"/>
                  <a:pt x="4986" y="3497"/>
                </a:cubicBezTo>
                <a:cubicBezTo>
                  <a:pt x="4960" y="3471"/>
                  <a:pt x="4938" y="3456"/>
                  <a:pt x="4887" y="3497"/>
                </a:cubicBezTo>
                <a:cubicBezTo>
                  <a:pt x="4855" y="3523"/>
                  <a:pt x="4797" y="3585"/>
                  <a:pt x="4787" y="3621"/>
                </a:cubicBezTo>
                <a:cubicBezTo>
                  <a:pt x="4772" y="3678"/>
                  <a:pt x="4765" y="3762"/>
                  <a:pt x="4762" y="3820"/>
                </a:cubicBezTo>
                <a:cubicBezTo>
                  <a:pt x="4758" y="3890"/>
                  <a:pt x="4768" y="3978"/>
                  <a:pt x="4787" y="4043"/>
                </a:cubicBezTo>
                <a:cubicBezTo>
                  <a:pt x="4811" y="4126"/>
                  <a:pt x="4852" y="4204"/>
                  <a:pt x="4862" y="4291"/>
                </a:cubicBezTo>
                <a:cubicBezTo>
                  <a:pt x="4872" y="4376"/>
                  <a:pt x="4901" y="4457"/>
                  <a:pt x="4911" y="4539"/>
                </a:cubicBezTo>
                <a:cubicBezTo>
                  <a:pt x="4922" y="4630"/>
                  <a:pt x="4939" y="4723"/>
                  <a:pt x="4961" y="4812"/>
                </a:cubicBezTo>
                <a:cubicBezTo>
                  <a:pt x="4979" y="4885"/>
                  <a:pt x="4999" y="4964"/>
                  <a:pt x="5011" y="5035"/>
                </a:cubicBezTo>
                <a:cubicBezTo>
                  <a:pt x="5017" y="5069"/>
                  <a:pt x="5008" y="5164"/>
                  <a:pt x="4986" y="5184"/>
                </a:cubicBezTo>
                <a:cubicBezTo>
                  <a:pt x="4961" y="5207"/>
                  <a:pt x="4878" y="5166"/>
                  <a:pt x="4862" y="5159"/>
                </a:cubicBezTo>
                <a:cubicBezTo>
                  <a:pt x="4778" y="5122"/>
                  <a:pt x="4728" y="5075"/>
                  <a:pt x="4663" y="5011"/>
                </a:cubicBezTo>
                <a:cubicBezTo>
                  <a:pt x="4633" y="4981"/>
                  <a:pt x="4622" y="4967"/>
                  <a:pt x="4614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5080" y="1465200"/>
            <a:ext cx="14472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5655" y="4465"/>
                </a:moveTo>
                <a:cubicBezTo>
                  <a:pt x="5662" y="4487"/>
                  <a:pt x="5694" y="4510"/>
                  <a:pt x="5730" y="4490"/>
                </a:cubicBezTo>
                <a:cubicBezTo>
                  <a:pt x="5773" y="4466"/>
                  <a:pt x="5808" y="4406"/>
                  <a:pt x="5829" y="4366"/>
                </a:cubicBezTo>
                <a:cubicBezTo>
                  <a:pt x="5870" y="4289"/>
                  <a:pt x="5909" y="4226"/>
                  <a:pt x="5928" y="4142"/>
                </a:cubicBezTo>
                <a:cubicBezTo>
                  <a:pt x="5934" y="4115"/>
                  <a:pt x="5910" y="4094"/>
                  <a:pt x="5904" y="4068"/>
                </a:cubicBezTo>
                <a:cubicBezTo>
                  <a:pt x="5844" y="4102"/>
                  <a:pt x="5765" y="4155"/>
                  <a:pt x="5730" y="4217"/>
                </a:cubicBezTo>
                <a:cubicBezTo>
                  <a:pt x="5682" y="4303"/>
                  <a:pt x="5702" y="4406"/>
                  <a:pt x="5730" y="4490"/>
                </a:cubicBezTo>
                <a:cubicBezTo>
                  <a:pt x="5751" y="4553"/>
                  <a:pt x="5779" y="4628"/>
                  <a:pt x="5854" y="4638"/>
                </a:cubicBezTo>
                <a:cubicBezTo>
                  <a:pt x="5902" y="4644"/>
                  <a:pt x="5989" y="4632"/>
                  <a:pt x="6028" y="4614"/>
                </a:cubicBezTo>
                <a:cubicBezTo>
                  <a:pt x="6036" y="4606"/>
                  <a:pt x="6044" y="4597"/>
                  <a:pt x="605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6640" y="1347840"/>
            <a:ext cx="411120" cy="15228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6325" y="4093"/>
                </a:moveTo>
                <a:cubicBezTo>
                  <a:pt x="6361" y="4084"/>
                  <a:pt x="6392" y="4050"/>
                  <a:pt x="6424" y="4043"/>
                </a:cubicBezTo>
                <a:cubicBezTo>
                  <a:pt x="6468" y="4034"/>
                  <a:pt x="6528" y="4043"/>
                  <a:pt x="6573" y="4043"/>
                </a:cubicBezTo>
              </a:path>
              <a:path w="1142" h="422">
                <a:moveTo>
                  <a:pt x="6821" y="3870"/>
                </a:moveTo>
                <a:cubicBezTo>
                  <a:pt x="6789" y="3859"/>
                  <a:pt x="6782" y="3852"/>
                  <a:pt x="6772" y="3820"/>
                </a:cubicBezTo>
                <a:cubicBezTo>
                  <a:pt x="6797" y="3794"/>
                  <a:pt x="6837" y="3753"/>
                  <a:pt x="6871" y="3746"/>
                </a:cubicBezTo>
                <a:cubicBezTo>
                  <a:pt x="6902" y="3740"/>
                  <a:pt x="6978" y="3736"/>
                  <a:pt x="6995" y="3770"/>
                </a:cubicBezTo>
                <a:cubicBezTo>
                  <a:pt x="7017" y="3813"/>
                  <a:pt x="6987" y="3883"/>
                  <a:pt x="6970" y="3919"/>
                </a:cubicBezTo>
                <a:cubicBezTo>
                  <a:pt x="6944" y="3973"/>
                  <a:pt x="6918" y="4018"/>
                  <a:pt x="6896" y="4068"/>
                </a:cubicBezTo>
                <a:cubicBezTo>
                  <a:pt x="6896" y="4076"/>
                  <a:pt x="6896" y="4085"/>
                  <a:pt x="6896" y="4093"/>
                </a:cubicBezTo>
                <a:cubicBezTo>
                  <a:pt x="6943" y="4093"/>
                  <a:pt x="7007" y="4088"/>
                  <a:pt x="7045" y="4068"/>
                </a:cubicBezTo>
                <a:cubicBezTo>
                  <a:pt x="7053" y="4060"/>
                  <a:pt x="7061" y="4051"/>
                  <a:pt x="7069" y="4043"/>
                </a:cubicBezTo>
              </a:path>
              <a:path w="1142" h="422">
                <a:moveTo>
                  <a:pt x="7144" y="3994"/>
                </a:moveTo>
                <a:cubicBezTo>
                  <a:pt x="7157" y="3944"/>
                  <a:pt x="7201" y="3945"/>
                  <a:pt x="7218" y="3919"/>
                </a:cubicBezTo>
                <a:cubicBezTo>
                  <a:pt x="7236" y="3891"/>
                  <a:pt x="7285" y="3872"/>
                  <a:pt x="7317" y="3919"/>
                </a:cubicBezTo>
                <a:cubicBezTo>
                  <a:pt x="7338" y="3950"/>
                  <a:pt x="7361" y="4030"/>
                  <a:pt x="7342" y="4068"/>
                </a:cubicBezTo>
                <a:cubicBezTo>
                  <a:pt x="7325" y="4102"/>
                  <a:pt x="7298" y="4093"/>
                  <a:pt x="7268" y="4093"/>
                </a:cubicBezTo>
              </a:path>
              <a:path w="1142" h="422">
                <a:moveTo>
                  <a:pt x="7367" y="3919"/>
                </a:moveTo>
                <a:cubicBezTo>
                  <a:pt x="7445" y="3842"/>
                  <a:pt x="7442" y="3824"/>
                  <a:pt x="7392" y="3919"/>
                </a:cubicBezTo>
                <a:cubicBezTo>
                  <a:pt x="7352" y="3994"/>
                  <a:pt x="7369" y="4049"/>
                  <a:pt x="7417" y="4118"/>
                </a:cubicBezTo>
                <a:cubicBezTo>
                  <a:pt x="7441" y="4142"/>
                  <a:pt x="7450" y="4151"/>
                  <a:pt x="7466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0960" y="1500120"/>
            <a:ext cx="1000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8062" y="4266"/>
                </a:moveTo>
                <a:cubicBezTo>
                  <a:pt x="8084" y="4289"/>
                  <a:pt x="8089" y="4297"/>
                  <a:pt x="8111" y="4291"/>
                </a:cubicBezTo>
                <a:cubicBezTo>
                  <a:pt x="8095" y="4340"/>
                  <a:pt x="8082" y="4300"/>
                  <a:pt x="8037" y="4316"/>
                </a:cubicBezTo>
                <a:cubicBezTo>
                  <a:pt x="7976" y="4338"/>
                  <a:pt x="7951" y="4361"/>
                  <a:pt x="7888" y="4366"/>
                </a:cubicBezTo>
                <a:cubicBezTo>
                  <a:pt x="7846" y="4370"/>
                  <a:pt x="7849" y="4374"/>
                  <a:pt x="7838" y="4341"/>
                </a:cubicBezTo>
              </a:path>
              <a:path w="274" h="348">
                <a:moveTo>
                  <a:pt x="7913" y="4167"/>
                </a:moveTo>
                <a:cubicBezTo>
                  <a:pt x="7954" y="4235"/>
                  <a:pt x="7920" y="4288"/>
                  <a:pt x="7938" y="4366"/>
                </a:cubicBezTo>
                <a:cubicBezTo>
                  <a:pt x="7950" y="4420"/>
                  <a:pt x="7962" y="4455"/>
                  <a:pt x="7962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10000" y="1197000"/>
            <a:ext cx="704880" cy="534960"/>
          </a:xfrm>
          <a:custGeom>
            <a:avLst/>
            <a:gdLst/>
            <a:ahLst/>
            <a:rect l="l" t="t" r="r" b="b"/>
            <a:pathLst>
              <a:path w="1961" h="1489">
                <a:moveTo>
                  <a:pt x="10691" y="3398"/>
                </a:moveTo>
                <a:cubicBezTo>
                  <a:pt x="10730" y="3340"/>
                  <a:pt x="10716" y="3361"/>
                  <a:pt x="10765" y="3324"/>
                </a:cubicBezTo>
                <a:cubicBezTo>
                  <a:pt x="10804" y="3375"/>
                  <a:pt x="10790" y="3429"/>
                  <a:pt x="10790" y="3497"/>
                </a:cubicBezTo>
                <a:cubicBezTo>
                  <a:pt x="10790" y="3619"/>
                  <a:pt x="10799" y="3727"/>
                  <a:pt x="10815" y="3845"/>
                </a:cubicBezTo>
                <a:cubicBezTo>
                  <a:pt x="10815" y="3861"/>
                  <a:pt x="10815" y="3878"/>
                  <a:pt x="10815" y="3894"/>
                </a:cubicBezTo>
              </a:path>
              <a:path w="1961" h="1489">
                <a:moveTo>
                  <a:pt x="11708" y="4018"/>
                </a:moveTo>
                <a:cubicBezTo>
                  <a:pt x="11307" y="4018"/>
                  <a:pt x="10887" y="3977"/>
                  <a:pt x="10492" y="4043"/>
                </a:cubicBezTo>
                <a:cubicBezTo>
                  <a:pt x="10340" y="4069"/>
                  <a:pt x="10196" y="4075"/>
                  <a:pt x="10046" y="4118"/>
                </a:cubicBezTo>
                <a:cubicBezTo>
                  <a:pt x="9969" y="4140"/>
                  <a:pt x="9900" y="4147"/>
                  <a:pt x="9823" y="4167"/>
                </a:cubicBezTo>
              </a:path>
              <a:path w="1961" h="1489">
                <a:moveTo>
                  <a:pt x="9748" y="4341"/>
                </a:moveTo>
                <a:cubicBezTo>
                  <a:pt x="9768" y="4300"/>
                  <a:pt x="9766" y="4284"/>
                  <a:pt x="9798" y="4291"/>
                </a:cubicBezTo>
                <a:cubicBezTo>
                  <a:pt x="9845" y="4307"/>
                  <a:pt x="9823" y="4385"/>
                  <a:pt x="9823" y="4440"/>
                </a:cubicBezTo>
                <a:cubicBezTo>
                  <a:pt x="9823" y="4551"/>
                  <a:pt x="9847" y="4650"/>
                  <a:pt x="9847" y="4762"/>
                </a:cubicBezTo>
                <a:cubicBezTo>
                  <a:pt x="9847" y="4779"/>
                  <a:pt x="9847" y="4795"/>
                  <a:pt x="9847" y="4812"/>
                </a:cubicBezTo>
              </a:path>
              <a:path w="1961" h="1489">
                <a:moveTo>
                  <a:pt x="10145" y="4688"/>
                </a:moveTo>
                <a:cubicBezTo>
                  <a:pt x="10184" y="4678"/>
                  <a:pt x="10200" y="4663"/>
                  <a:pt x="10244" y="4663"/>
                </a:cubicBezTo>
                <a:cubicBezTo>
                  <a:pt x="10327" y="4663"/>
                  <a:pt x="10409" y="4663"/>
                  <a:pt x="10492" y="4663"/>
                </a:cubicBezTo>
              </a:path>
              <a:path w="1961" h="1489">
                <a:moveTo>
                  <a:pt x="10740" y="4589"/>
                </a:moveTo>
                <a:cubicBezTo>
                  <a:pt x="10743" y="4567"/>
                  <a:pt x="10769" y="4473"/>
                  <a:pt x="10790" y="4465"/>
                </a:cubicBezTo>
                <a:cubicBezTo>
                  <a:pt x="10843" y="4446"/>
                  <a:pt x="10886" y="4429"/>
                  <a:pt x="10939" y="4465"/>
                </a:cubicBezTo>
                <a:cubicBezTo>
                  <a:pt x="10992" y="4500"/>
                  <a:pt x="11010" y="4581"/>
                  <a:pt x="11013" y="4638"/>
                </a:cubicBezTo>
                <a:cubicBezTo>
                  <a:pt x="11015" y="4682"/>
                  <a:pt x="10993" y="4772"/>
                  <a:pt x="10939" y="4787"/>
                </a:cubicBezTo>
                <a:cubicBezTo>
                  <a:pt x="10922" y="4787"/>
                  <a:pt x="10906" y="4787"/>
                  <a:pt x="10889" y="4787"/>
                </a:cubicBezTo>
              </a:path>
              <a:path w="1961" h="1489">
                <a:moveTo>
                  <a:pt x="11112" y="4366"/>
                </a:moveTo>
                <a:cubicBezTo>
                  <a:pt x="11112" y="4316"/>
                  <a:pt x="11112" y="4415"/>
                  <a:pt x="11112" y="4465"/>
                </a:cubicBezTo>
                <a:cubicBezTo>
                  <a:pt x="11112" y="4530"/>
                  <a:pt x="11112" y="4658"/>
                  <a:pt x="11187" y="4688"/>
                </a:cubicBezTo>
                <a:cubicBezTo>
                  <a:pt x="11225" y="4703"/>
                  <a:pt x="11343" y="4688"/>
                  <a:pt x="11385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3000" y="1295280"/>
            <a:ext cx="482400" cy="258840"/>
          </a:xfrm>
          <a:custGeom>
            <a:avLst/>
            <a:gdLst/>
            <a:ahLst/>
            <a:rect l="l" t="t" r="r" b="b"/>
            <a:pathLst>
              <a:path w="1341" h="720">
                <a:moveTo>
                  <a:pt x="13022" y="4018"/>
                </a:moveTo>
                <a:cubicBezTo>
                  <a:pt x="13065" y="3987"/>
                  <a:pt x="13072" y="4000"/>
                  <a:pt x="13072" y="3944"/>
                </a:cubicBezTo>
                <a:cubicBezTo>
                  <a:pt x="13009" y="3944"/>
                  <a:pt x="12941" y="3939"/>
                  <a:pt x="12923" y="4018"/>
                </a:cubicBezTo>
                <a:cubicBezTo>
                  <a:pt x="12904" y="4101"/>
                  <a:pt x="12899" y="4237"/>
                  <a:pt x="12998" y="4266"/>
                </a:cubicBezTo>
                <a:cubicBezTo>
                  <a:pt x="13122" y="4302"/>
                  <a:pt x="13133" y="4081"/>
                  <a:pt x="13146" y="4018"/>
                </a:cubicBezTo>
                <a:cubicBezTo>
                  <a:pt x="13174" y="3884"/>
                  <a:pt x="13171" y="3757"/>
                  <a:pt x="13171" y="3621"/>
                </a:cubicBezTo>
                <a:cubicBezTo>
                  <a:pt x="13171" y="3597"/>
                  <a:pt x="13171" y="3589"/>
                  <a:pt x="13171" y="3621"/>
                </a:cubicBezTo>
                <a:cubicBezTo>
                  <a:pt x="13171" y="3715"/>
                  <a:pt x="13149" y="3800"/>
                  <a:pt x="13146" y="3894"/>
                </a:cubicBezTo>
                <a:cubicBezTo>
                  <a:pt x="13142" y="4020"/>
                  <a:pt x="13188" y="4102"/>
                  <a:pt x="13221" y="4217"/>
                </a:cubicBezTo>
                <a:cubicBezTo>
                  <a:pt x="13221" y="4225"/>
                  <a:pt x="13221" y="4234"/>
                  <a:pt x="13221" y="4242"/>
                </a:cubicBezTo>
              </a:path>
              <a:path w="1341" h="720">
                <a:moveTo>
                  <a:pt x="13519" y="4068"/>
                </a:moveTo>
                <a:cubicBezTo>
                  <a:pt x="13519" y="4076"/>
                  <a:pt x="13519" y="4085"/>
                  <a:pt x="13519" y="4093"/>
                </a:cubicBezTo>
                <a:cubicBezTo>
                  <a:pt x="13548" y="4083"/>
                  <a:pt x="13561" y="4050"/>
                  <a:pt x="13593" y="4018"/>
                </a:cubicBezTo>
                <a:cubicBezTo>
                  <a:pt x="13645" y="3967"/>
                  <a:pt x="13692" y="3954"/>
                  <a:pt x="13742" y="4018"/>
                </a:cubicBezTo>
                <a:cubicBezTo>
                  <a:pt x="13792" y="4082"/>
                  <a:pt x="13813" y="4184"/>
                  <a:pt x="13791" y="4266"/>
                </a:cubicBezTo>
                <a:cubicBezTo>
                  <a:pt x="13771" y="4341"/>
                  <a:pt x="13705" y="4316"/>
                  <a:pt x="13643" y="4316"/>
                </a:cubicBezTo>
                <a:cubicBezTo>
                  <a:pt x="13635" y="4316"/>
                  <a:pt x="13626" y="4316"/>
                  <a:pt x="13618" y="4316"/>
                </a:cubicBezTo>
              </a:path>
              <a:path w="1341" h="720">
                <a:moveTo>
                  <a:pt x="13940" y="3969"/>
                </a:moveTo>
                <a:cubicBezTo>
                  <a:pt x="13960" y="3928"/>
                  <a:pt x="13979" y="3912"/>
                  <a:pt x="13940" y="3919"/>
                </a:cubicBezTo>
                <a:cubicBezTo>
                  <a:pt x="13855" y="3953"/>
                  <a:pt x="13866" y="3980"/>
                  <a:pt x="13866" y="4068"/>
                </a:cubicBezTo>
                <a:cubicBezTo>
                  <a:pt x="13866" y="4167"/>
                  <a:pt x="13942" y="4248"/>
                  <a:pt x="14039" y="4266"/>
                </a:cubicBezTo>
                <a:cubicBezTo>
                  <a:pt x="14140" y="4285"/>
                  <a:pt x="14204" y="4261"/>
                  <a:pt x="1426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2419200"/>
            <a:ext cx="9036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3919" y="6747"/>
                </a:moveTo>
                <a:cubicBezTo>
                  <a:pt x="3897" y="6730"/>
                  <a:pt x="3854" y="6703"/>
                  <a:pt x="3820" y="6722"/>
                </a:cubicBezTo>
                <a:cubicBezTo>
                  <a:pt x="3779" y="6745"/>
                  <a:pt x="3772" y="6747"/>
                  <a:pt x="3721" y="6747"/>
                </a:cubicBezTo>
                <a:cubicBezTo>
                  <a:pt x="3696" y="6747"/>
                  <a:pt x="3688" y="6747"/>
                  <a:pt x="3671" y="6747"/>
                </a:cubicBezTo>
              </a:path>
              <a:path w="249" h="200">
                <a:moveTo>
                  <a:pt x="3919" y="6921"/>
                </a:moveTo>
                <a:cubicBezTo>
                  <a:pt x="3919" y="6913"/>
                  <a:pt x="3919" y="6904"/>
                  <a:pt x="3919" y="6896"/>
                </a:cubicBezTo>
                <a:cubicBezTo>
                  <a:pt x="3851" y="6896"/>
                  <a:pt x="3774" y="6881"/>
                  <a:pt x="3721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2152800"/>
            <a:ext cx="1214280" cy="500040"/>
          </a:xfrm>
          <a:custGeom>
            <a:avLst/>
            <a:gdLst/>
            <a:ahLst/>
            <a:rect l="l" t="t" r="r" b="b"/>
            <a:pathLst>
              <a:path w="3374" h="1390">
                <a:moveTo>
                  <a:pt x="5829" y="6722"/>
                </a:moveTo>
                <a:cubicBezTo>
                  <a:pt x="5835" y="6747"/>
                  <a:pt x="5862" y="6814"/>
                  <a:pt x="5904" y="6796"/>
                </a:cubicBezTo>
                <a:cubicBezTo>
                  <a:pt x="5941" y="6780"/>
                  <a:pt x="5998" y="6724"/>
                  <a:pt x="6028" y="6697"/>
                </a:cubicBezTo>
                <a:cubicBezTo>
                  <a:pt x="6090" y="6640"/>
                  <a:pt x="6120" y="6641"/>
                  <a:pt x="6127" y="6548"/>
                </a:cubicBezTo>
                <a:cubicBezTo>
                  <a:pt x="6131" y="6501"/>
                  <a:pt x="6129" y="6485"/>
                  <a:pt x="6102" y="6449"/>
                </a:cubicBezTo>
                <a:cubicBezTo>
                  <a:pt x="6008" y="6470"/>
                  <a:pt x="5927" y="6506"/>
                  <a:pt x="5879" y="6598"/>
                </a:cubicBezTo>
                <a:cubicBezTo>
                  <a:pt x="5839" y="6675"/>
                  <a:pt x="5834" y="6820"/>
                  <a:pt x="5879" y="6896"/>
                </a:cubicBezTo>
                <a:cubicBezTo>
                  <a:pt x="5937" y="6994"/>
                  <a:pt x="5970" y="6995"/>
                  <a:pt x="6077" y="6995"/>
                </a:cubicBezTo>
                <a:cubicBezTo>
                  <a:pt x="6174" y="6995"/>
                  <a:pt x="6240" y="6963"/>
                  <a:pt x="6325" y="6921"/>
                </a:cubicBezTo>
                <a:cubicBezTo>
                  <a:pt x="6342" y="6913"/>
                  <a:pt x="6358" y="6904"/>
                  <a:pt x="6375" y="6896"/>
                </a:cubicBezTo>
              </a:path>
              <a:path w="3374" h="1390">
                <a:moveTo>
                  <a:pt x="6697" y="6350"/>
                </a:moveTo>
                <a:cubicBezTo>
                  <a:pt x="6709" y="6303"/>
                  <a:pt x="6751" y="6285"/>
                  <a:pt x="6796" y="6276"/>
                </a:cubicBezTo>
                <a:cubicBezTo>
                  <a:pt x="6842" y="6267"/>
                  <a:pt x="6898" y="6276"/>
                  <a:pt x="6945" y="6276"/>
                </a:cubicBezTo>
              </a:path>
              <a:path w="3374" h="1390">
                <a:moveTo>
                  <a:pt x="7193" y="6127"/>
                </a:moveTo>
                <a:cubicBezTo>
                  <a:pt x="7189" y="6112"/>
                  <a:pt x="7148" y="6045"/>
                  <a:pt x="7169" y="6028"/>
                </a:cubicBezTo>
                <a:cubicBezTo>
                  <a:pt x="7201" y="6002"/>
                  <a:pt x="7247" y="5978"/>
                  <a:pt x="7293" y="5978"/>
                </a:cubicBezTo>
                <a:cubicBezTo>
                  <a:pt x="7357" y="5978"/>
                  <a:pt x="7361" y="5986"/>
                  <a:pt x="7367" y="6052"/>
                </a:cubicBezTo>
                <a:cubicBezTo>
                  <a:pt x="7373" y="6122"/>
                  <a:pt x="7359" y="6169"/>
                  <a:pt x="7342" y="6226"/>
                </a:cubicBezTo>
                <a:cubicBezTo>
                  <a:pt x="7342" y="6251"/>
                  <a:pt x="7342" y="6259"/>
                  <a:pt x="7342" y="6276"/>
                </a:cubicBezTo>
                <a:cubicBezTo>
                  <a:pt x="7387" y="6276"/>
                  <a:pt x="7401" y="6254"/>
                  <a:pt x="7441" y="6251"/>
                </a:cubicBezTo>
                <a:cubicBezTo>
                  <a:pt x="7474" y="6249"/>
                  <a:pt x="7508" y="6251"/>
                  <a:pt x="7541" y="6251"/>
                </a:cubicBezTo>
              </a:path>
              <a:path w="3374" h="1390">
                <a:moveTo>
                  <a:pt x="7615" y="6226"/>
                </a:moveTo>
                <a:cubicBezTo>
                  <a:pt x="7615" y="6172"/>
                  <a:pt x="7627" y="6166"/>
                  <a:pt x="7665" y="6127"/>
                </a:cubicBezTo>
                <a:cubicBezTo>
                  <a:pt x="7690" y="6101"/>
                  <a:pt x="7740" y="6080"/>
                  <a:pt x="7764" y="6127"/>
                </a:cubicBezTo>
                <a:cubicBezTo>
                  <a:pt x="7782" y="6163"/>
                  <a:pt x="7772" y="6247"/>
                  <a:pt x="7739" y="6251"/>
                </a:cubicBezTo>
                <a:cubicBezTo>
                  <a:pt x="7731" y="6251"/>
                  <a:pt x="7722" y="6251"/>
                  <a:pt x="7714" y="6251"/>
                </a:cubicBezTo>
              </a:path>
              <a:path w="3374" h="1390">
                <a:moveTo>
                  <a:pt x="7838" y="6003"/>
                </a:moveTo>
                <a:cubicBezTo>
                  <a:pt x="7806" y="5940"/>
                  <a:pt x="7813" y="6073"/>
                  <a:pt x="7813" y="6102"/>
                </a:cubicBezTo>
                <a:cubicBezTo>
                  <a:pt x="7813" y="6177"/>
                  <a:pt x="7850" y="6196"/>
                  <a:pt x="7913" y="6201"/>
                </a:cubicBezTo>
                <a:cubicBezTo>
                  <a:pt x="7946" y="6201"/>
                  <a:pt x="7962" y="6201"/>
                  <a:pt x="7987" y="6201"/>
                </a:cubicBezTo>
              </a:path>
              <a:path w="3374" h="1390">
                <a:moveTo>
                  <a:pt x="4862" y="6672"/>
                </a:moveTo>
                <a:cubicBezTo>
                  <a:pt x="4870" y="6672"/>
                  <a:pt x="4879" y="6672"/>
                  <a:pt x="4887" y="6672"/>
                </a:cubicBezTo>
                <a:cubicBezTo>
                  <a:pt x="4873" y="6633"/>
                  <a:pt x="4837" y="6648"/>
                  <a:pt x="4787" y="6648"/>
                </a:cubicBezTo>
                <a:cubicBezTo>
                  <a:pt x="4729" y="6648"/>
                  <a:pt x="4672" y="6648"/>
                  <a:pt x="4614" y="6648"/>
                </a:cubicBezTo>
              </a:path>
              <a:path w="3374" h="1390">
                <a:moveTo>
                  <a:pt x="5209" y="6201"/>
                </a:moveTo>
                <a:cubicBezTo>
                  <a:pt x="5243" y="6156"/>
                  <a:pt x="5234" y="6141"/>
                  <a:pt x="5234" y="6201"/>
                </a:cubicBezTo>
                <a:cubicBezTo>
                  <a:pt x="5234" y="6275"/>
                  <a:pt x="5238" y="6355"/>
                  <a:pt x="5259" y="6424"/>
                </a:cubicBezTo>
                <a:cubicBezTo>
                  <a:pt x="5279" y="6465"/>
                  <a:pt x="5287" y="6471"/>
                  <a:pt x="5283" y="6499"/>
                </a:cubicBezTo>
              </a:path>
              <a:path w="3374" h="1390">
                <a:moveTo>
                  <a:pt x="5507" y="6722"/>
                </a:moveTo>
                <a:cubicBezTo>
                  <a:pt x="5531" y="6722"/>
                  <a:pt x="5540" y="6722"/>
                  <a:pt x="5556" y="6722"/>
                </a:cubicBezTo>
                <a:cubicBezTo>
                  <a:pt x="5436" y="6722"/>
                  <a:pt x="5323" y="6728"/>
                  <a:pt x="5209" y="6747"/>
                </a:cubicBezTo>
                <a:cubicBezTo>
                  <a:pt x="5168" y="6747"/>
                  <a:pt x="5160" y="6747"/>
                  <a:pt x="5135" y="6747"/>
                </a:cubicBezTo>
              </a:path>
              <a:path w="3374" h="1390">
                <a:moveTo>
                  <a:pt x="5283" y="6995"/>
                </a:moveTo>
                <a:cubicBezTo>
                  <a:pt x="5264" y="7021"/>
                  <a:pt x="5259" y="7089"/>
                  <a:pt x="5259" y="7045"/>
                </a:cubicBezTo>
                <a:cubicBezTo>
                  <a:pt x="5259" y="6993"/>
                  <a:pt x="5311" y="6940"/>
                  <a:pt x="5358" y="6921"/>
                </a:cubicBezTo>
                <a:cubicBezTo>
                  <a:pt x="5388" y="6909"/>
                  <a:pt x="5465" y="6912"/>
                  <a:pt x="5482" y="6945"/>
                </a:cubicBezTo>
                <a:cubicBezTo>
                  <a:pt x="5504" y="6989"/>
                  <a:pt x="5450" y="7059"/>
                  <a:pt x="5432" y="7094"/>
                </a:cubicBezTo>
                <a:cubicBezTo>
                  <a:pt x="5400" y="7158"/>
                  <a:pt x="5340" y="7194"/>
                  <a:pt x="5333" y="7268"/>
                </a:cubicBezTo>
                <a:cubicBezTo>
                  <a:pt x="5328" y="7323"/>
                  <a:pt x="5341" y="7324"/>
                  <a:pt x="5383" y="7342"/>
                </a:cubicBezTo>
                <a:cubicBezTo>
                  <a:pt x="5483" y="7386"/>
                  <a:pt x="5473" y="7334"/>
                  <a:pt x="5556" y="7317"/>
                </a:cubicBezTo>
                <a:cubicBezTo>
                  <a:pt x="5581" y="7317"/>
                  <a:pt x="5606" y="7317"/>
                  <a:pt x="563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401920"/>
            <a:ext cx="161640" cy="19080"/>
          </a:xfrm>
          <a:custGeom>
            <a:avLst/>
            <a:gdLst/>
            <a:ahLst/>
            <a:rect l="l" t="t" r="r" b="b"/>
            <a:pathLst>
              <a:path w="448" h="51">
                <a:moveTo>
                  <a:pt x="9550" y="6722"/>
                </a:moveTo>
                <a:cubicBezTo>
                  <a:pt x="9537" y="6682"/>
                  <a:pt x="9502" y="6697"/>
                  <a:pt x="9451" y="6697"/>
                </a:cubicBezTo>
                <a:cubicBezTo>
                  <a:pt x="9338" y="6697"/>
                  <a:pt x="9226" y="6701"/>
                  <a:pt x="9128" y="6672"/>
                </a:cubicBezTo>
                <a:cubicBezTo>
                  <a:pt x="9120" y="6672"/>
                  <a:pt x="9111" y="6672"/>
                  <a:pt x="9103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2240" y="2232000"/>
            <a:ext cx="366840" cy="21420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1286" y="6722"/>
                </a:moveTo>
                <a:cubicBezTo>
                  <a:pt x="11286" y="6747"/>
                  <a:pt x="11286" y="6755"/>
                  <a:pt x="11286" y="6772"/>
                </a:cubicBezTo>
                <a:cubicBezTo>
                  <a:pt x="11332" y="6772"/>
                  <a:pt x="11358" y="6765"/>
                  <a:pt x="11385" y="6722"/>
                </a:cubicBezTo>
                <a:cubicBezTo>
                  <a:pt x="11424" y="6661"/>
                  <a:pt x="11469" y="6609"/>
                  <a:pt x="11509" y="6548"/>
                </a:cubicBezTo>
                <a:cubicBezTo>
                  <a:pt x="11555" y="6477"/>
                  <a:pt x="11586" y="6394"/>
                  <a:pt x="11633" y="6325"/>
                </a:cubicBezTo>
                <a:cubicBezTo>
                  <a:pt x="11653" y="6296"/>
                  <a:pt x="11679" y="6235"/>
                  <a:pt x="11683" y="6226"/>
                </a:cubicBezTo>
                <a:cubicBezTo>
                  <a:pt x="11683" y="6218"/>
                  <a:pt x="11683" y="6209"/>
                  <a:pt x="11683" y="6201"/>
                </a:cubicBezTo>
                <a:cubicBezTo>
                  <a:pt x="11645" y="6210"/>
                  <a:pt x="11608" y="6239"/>
                  <a:pt x="11584" y="6276"/>
                </a:cubicBezTo>
                <a:cubicBezTo>
                  <a:pt x="11562" y="6310"/>
                  <a:pt x="11537" y="6363"/>
                  <a:pt x="11509" y="6400"/>
                </a:cubicBezTo>
                <a:cubicBezTo>
                  <a:pt x="11476" y="6445"/>
                  <a:pt x="11463" y="6514"/>
                  <a:pt x="11460" y="6573"/>
                </a:cubicBezTo>
                <a:cubicBezTo>
                  <a:pt x="11457" y="6629"/>
                  <a:pt x="11451" y="6679"/>
                  <a:pt x="11485" y="6722"/>
                </a:cubicBezTo>
                <a:cubicBezTo>
                  <a:pt x="11524" y="6771"/>
                  <a:pt x="11548" y="6793"/>
                  <a:pt x="11609" y="6796"/>
                </a:cubicBezTo>
                <a:cubicBezTo>
                  <a:pt x="11647" y="6798"/>
                  <a:pt x="11703" y="6790"/>
                  <a:pt x="11733" y="6772"/>
                </a:cubicBezTo>
                <a:cubicBezTo>
                  <a:pt x="11780" y="6743"/>
                  <a:pt x="11806" y="6683"/>
                  <a:pt x="11832" y="6648"/>
                </a:cubicBezTo>
                <a:cubicBezTo>
                  <a:pt x="11846" y="6629"/>
                  <a:pt x="11903" y="6575"/>
                  <a:pt x="11906" y="6573"/>
                </a:cubicBezTo>
                <a:cubicBezTo>
                  <a:pt x="11914" y="6573"/>
                  <a:pt x="11923" y="6573"/>
                  <a:pt x="11931" y="6573"/>
                </a:cubicBezTo>
                <a:cubicBezTo>
                  <a:pt x="11931" y="6599"/>
                  <a:pt x="11938" y="6675"/>
                  <a:pt x="11981" y="6672"/>
                </a:cubicBezTo>
                <a:cubicBezTo>
                  <a:pt x="12046" y="6668"/>
                  <a:pt x="12064" y="6607"/>
                  <a:pt x="12105" y="6573"/>
                </a:cubicBezTo>
                <a:cubicBezTo>
                  <a:pt x="12166" y="6523"/>
                  <a:pt x="12198" y="6543"/>
                  <a:pt x="12229" y="6598"/>
                </a:cubicBezTo>
                <a:cubicBezTo>
                  <a:pt x="12254" y="6643"/>
                  <a:pt x="12271" y="6682"/>
                  <a:pt x="12303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05200" y="2152800"/>
            <a:ext cx="930600" cy="384120"/>
          </a:xfrm>
          <a:custGeom>
            <a:avLst/>
            <a:gdLst/>
            <a:ahLst/>
            <a:rect l="l" t="t" r="r" b="b"/>
            <a:pathLst>
              <a:path w="2581" h="1068">
                <a:moveTo>
                  <a:pt x="13246" y="6077"/>
                </a:moveTo>
                <a:cubicBezTo>
                  <a:pt x="13294" y="6045"/>
                  <a:pt x="13307" y="6042"/>
                  <a:pt x="13320" y="6003"/>
                </a:cubicBezTo>
                <a:cubicBezTo>
                  <a:pt x="13261" y="6003"/>
                  <a:pt x="13236" y="6025"/>
                  <a:pt x="13196" y="6077"/>
                </a:cubicBezTo>
                <a:cubicBezTo>
                  <a:pt x="13112" y="6185"/>
                  <a:pt x="13086" y="6365"/>
                  <a:pt x="13072" y="6499"/>
                </a:cubicBezTo>
                <a:cubicBezTo>
                  <a:pt x="13061" y="6608"/>
                  <a:pt x="13109" y="6695"/>
                  <a:pt x="13122" y="6796"/>
                </a:cubicBezTo>
              </a:path>
              <a:path w="2581" h="1068">
                <a:moveTo>
                  <a:pt x="13494" y="6201"/>
                </a:moveTo>
                <a:cubicBezTo>
                  <a:pt x="13502" y="6185"/>
                  <a:pt x="13511" y="6168"/>
                  <a:pt x="13519" y="6152"/>
                </a:cubicBezTo>
                <a:cubicBezTo>
                  <a:pt x="13534" y="6229"/>
                  <a:pt x="13543" y="6292"/>
                  <a:pt x="13543" y="6375"/>
                </a:cubicBezTo>
                <a:cubicBezTo>
                  <a:pt x="13543" y="6483"/>
                  <a:pt x="13546" y="6572"/>
                  <a:pt x="13568" y="6672"/>
                </a:cubicBezTo>
                <a:cubicBezTo>
                  <a:pt x="13568" y="6680"/>
                  <a:pt x="13568" y="6689"/>
                  <a:pt x="13568" y="6697"/>
                </a:cubicBezTo>
              </a:path>
              <a:path w="2581" h="1068">
                <a:moveTo>
                  <a:pt x="13915" y="6548"/>
                </a:moveTo>
                <a:cubicBezTo>
                  <a:pt x="14075" y="6548"/>
                  <a:pt x="14236" y="6538"/>
                  <a:pt x="14387" y="6573"/>
                </a:cubicBezTo>
                <a:cubicBezTo>
                  <a:pt x="14395" y="6573"/>
                  <a:pt x="14404" y="6573"/>
                  <a:pt x="14412" y="6573"/>
                </a:cubicBezTo>
              </a:path>
              <a:path w="2581" h="1068">
                <a:moveTo>
                  <a:pt x="14585" y="6499"/>
                </a:moveTo>
                <a:cubicBezTo>
                  <a:pt x="14602" y="6432"/>
                  <a:pt x="14617" y="6473"/>
                  <a:pt x="14660" y="6449"/>
                </a:cubicBezTo>
                <a:cubicBezTo>
                  <a:pt x="14698" y="6428"/>
                  <a:pt x="14750" y="6398"/>
                  <a:pt x="14784" y="6449"/>
                </a:cubicBezTo>
                <a:cubicBezTo>
                  <a:pt x="14816" y="6496"/>
                  <a:pt x="14857" y="6562"/>
                  <a:pt x="14833" y="6623"/>
                </a:cubicBezTo>
                <a:cubicBezTo>
                  <a:pt x="14818" y="6662"/>
                  <a:pt x="14781" y="6695"/>
                  <a:pt x="14734" y="6672"/>
                </a:cubicBezTo>
                <a:cubicBezTo>
                  <a:pt x="14711" y="6650"/>
                  <a:pt x="14706" y="6642"/>
                  <a:pt x="14684" y="6648"/>
                </a:cubicBezTo>
              </a:path>
              <a:path w="2581" h="1068">
                <a:moveTo>
                  <a:pt x="14858" y="6474"/>
                </a:moveTo>
                <a:cubicBezTo>
                  <a:pt x="14962" y="6394"/>
                  <a:pt x="14979" y="6342"/>
                  <a:pt x="14932" y="6400"/>
                </a:cubicBezTo>
                <a:cubicBezTo>
                  <a:pt x="14881" y="6462"/>
                  <a:pt x="14877" y="6507"/>
                  <a:pt x="14908" y="6573"/>
                </a:cubicBezTo>
                <a:cubicBezTo>
                  <a:pt x="14941" y="6645"/>
                  <a:pt x="14985" y="6623"/>
                  <a:pt x="15056" y="6623"/>
                </a:cubicBezTo>
                <a:cubicBezTo>
                  <a:pt x="15098" y="6623"/>
                  <a:pt x="15106" y="6623"/>
                  <a:pt x="15131" y="6623"/>
                </a:cubicBezTo>
              </a:path>
              <a:path w="2581" h="1068">
                <a:moveTo>
                  <a:pt x="15081" y="6003"/>
                </a:moveTo>
                <a:cubicBezTo>
                  <a:pt x="15119" y="5980"/>
                  <a:pt x="15205" y="5956"/>
                  <a:pt x="15255" y="5978"/>
                </a:cubicBezTo>
                <a:cubicBezTo>
                  <a:pt x="15364" y="6026"/>
                  <a:pt x="15483" y="6100"/>
                  <a:pt x="15553" y="6201"/>
                </a:cubicBezTo>
                <a:cubicBezTo>
                  <a:pt x="15643" y="6332"/>
                  <a:pt x="15671" y="6548"/>
                  <a:pt x="15627" y="6697"/>
                </a:cubicBezTo>
                <a:cubicBezTo>
                  <a:pt x="15580" y="6855"/>
                  <a:pt x="15443" y="6943"/>
                  <a:pt x="15329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2224080"/>
            <a:ext cx="18756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8827" y="6325"/>
                </a:moveTo>
                <a:cubicBezTo>
                  <a:pt x="18894" y="6325"/>
                  <a:pt x="18788" y="6325"/>
                  <a:pt x="18777" y="6325"/>
                </a:cubicBezTo>
                <a:cubicBezTo>
                  <a:pt x="18687" y="6325"/>
                  <a:pt x="18616" y="6338"/>
                  <a:pt x="18529" y="6350"/>
                </a:cubicBezTo>
                <a:cubicBezTo>
                  <a:pt x="18466" y="6359"/>
                  <a:pt x="18394" y="6350"/>
                  <a:pt x="18331" y="6350"/>
                </a:cubicBezTo>
              </a:path>
              <a:path w="522" h="373">
                <a:moveTo>
                  <a:pt x="18554" y="6201"/>
                </a:moveTo>
                <a:cubicBezTo>
                  <a:pt x="18562" y="6193"/>
                  <a:pt x="18571" y="6184"/>
                  <a:pt x="18579" y="6176"/>
                </a:cubicBezTo>
                <a:cubicBezTo>
                  <a:pt x="18579" y="6272"/>
                  <a:pt x="18590" y="6359"/>
                  <a:pt x="18604" y="6449"/>
                </a:cubicBezTo>
                <a:cubicBezTo>
                  <a:pt x="18604" y="6499"/>
                  <a:pt x="18604" y="6515"/>
                  <a:pt x="18604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91200" y="2205000"/>
            <a:ext cx="233640" cy="14436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9670" y="6176"/>
                </a:moveTo>
                <a:cubicBezTo>
                  <a:pt x="19714" y="6139"/>
                  <a:pt x="19758" y="6127"/>
                  <a:pt x="19720" y="6127"/>
                </a:cubicBezTo>
                <a:cubicBezTo>
                  <a:pt x="19664" y="6134"/>
                  <a:pt x="19539" y="6162"/>
                  <a:pt x="19496" y="6201"/>
                </a:cubicBezTo>
                <a:cubicBezTo>
                  <a:pt x="19415" y="6275"/>
                  <a:pt x="19393" y="6395"/>
                  <a:pt x="19472" y="6474"/>
                </a:cubicBezTo>
                <a:cubicBezTo>
                  <a:pt x="19530" y="6532"/>
                  <a:pt x="19646" y="6536"/>
                  <a:pt x="19720" y="6524"/>
                </a:cubicBezTo>
                <a:cubicBezTo>
                  <a:pt x="19838" y="6505"/>
                  <a:pt x="19954" y="6462"/>
                  <a:pt x="20067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2411280"/>
            <a:ext cx="285840" cy="303480"/>
          </a:xfrm>
          <a:custGeom>
            <a:avLst/>
            <a:gdLst/>
            <a:ahLst/>
            <a:rect l="l" t="t" r="r" b="b"/>
            <a:pathLst>
              <a:path w="794" h="845">
                <a:moveTo>
                  <a:pt x="2084" y="6722"/>
                </a:moveTo>
                <a:cubicBezTo>
                  <a:pt x="2084" y="6789"/>
                  <a:pt x="2071" y="6861"/>
                  <a:pt x="2108" y="6921"/>
                </a:cubicBezTo>
                <a:cubicBezTo>
                  <a:pt x="2116" y="6929"/>
                  <a:pt x="2125" y="6937"/>
                  <a:pt x="2133" y="6945"/>
                </a:cubicBezTo>
                <a:cubicBezTo>
                  <a:pt x="2207" y="6927"/>
                  <a:pt x="2204" y="6862"/>
                  <a:pt x="2232" y="6796"/>
                </a:cubicBezTo>
                <a:cubicBezTo>
                  <a:pt x="2253" y="6746"/>
                  <a:pt x="2268" y="6717"/>
                  <a:pt x="2307" y="6697"/>
                </a:cubicBezTo>
                <a:cubicBezTo>
                  <a:pt x="2392" y="6771"/>
                  <a:pt x="2424" y="6880"/>
                  <a:pt x="2456" y="6995"/>
                </a:cubicBezTo>
                <a:cubicBezTo>
                  <a:pt x="2491" y="7122"/>
                  <a:pt x="2502" y="7283"/>
                  <a:pt x="2406" y="7392"/>
                </a:cubicBezTo>
                <a:cubicBezTo>
                  <a:pt x="2328" y="7480"/>
                  <a:pt x="2146" y="7528"/>
                  <a:pt x="2034" y="7541"/>
                </a:cubicBezTo>
                <a:cubicBezTo>
                  <a:pt x="1943" y="7551"/>
                  <a:pt x="1796" y="7552"/>
                  <a:pt x="1712" y="7516"/>
                </a:cubicBezTo>
                <a:cubicBezTo>
                  <a:pt x="1704" y="7508"/>
                  <a:pt x="1695" y="7499"/>
                  <a:pt x="1687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2960" y="3081240"/>
            <a:ext cx="2142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1836" y="8582"/>
                </a:moveTo>
                <a:cubicBezTo>
                  <a:pt x="1876" y="8562"/>
                  <a:pt x="1892" y="8544"/>
                  <a:pt x="1885" y="8582"/>
                </a:cubicBezTo>
                <a:cubicBezTo>
                  <a:pt x="1871" y="8638"/>
                  <a:pt x="1853" y="8692"/>
                  <a:pt x="1836" y="8756"/>
                </a:cubicBezTo>
                <a:cubicBezTo>
                  <a:pt x="1804" y="8880"/>
                  <a:pt x="1786" y="8975"/>
                  <a:pt x="1786" y="9103"/>
                </a:cubicBezTo>
                <a:cubicBezTo>
                  <a:pt x="1786" y="9188"/>
                  <a:pt x="1775" y="9252"/>
                  <a:pt x="1860" y="9302"/>
                </a:cubicBezTo>
                <a:cubicBezTo>
                  <a:pt x="1915" y="9334"/>
                  <a:pt x="2035" y="9273"/>
                  <a:pt x="2084" y="9252"/>
                </a:cubicBezTo>
                <a:cubicBezTo>
                  <a:pt x="2135" y="9230"/>
                  <a:pt x="2209" y="9212"/>
                  <a:pt x="2257" y="9203"/>
                </a:cubicBezTo>
                <a:cubicBezTo>
                  <a:pt x="2318" y="9191"/>
                  <a:pt x="2326" y="9193"/>
                  <a:pt x="2356" y="9178"/>
                </a:cubicBezTo>
                <a:cubicBezTo>
                  <a:pt x="2393" y="9160"/>
                  <a:pt x="2363" y="9183"/>
                  <a:pt x="2356" y="9203"/>
                </a:cubicBezTo>
              </a:path>
              <a:path w="596" h="943">
                <a:moveTo>
                  <a:pt x="2108" y="9103"/>
                </a:moveTo>
                <a:cubicBezTo>
                  <a:pt x="2108" y="9062"/>
                  <a:pt x="2108" y="9137"/>
                  <a:pt x="2108" y="9178"/>
                </a:cubicBezTo>
                <a:cubicBezTo>
                  <a:pt x="2108" y="9275"/>
                  <a:pt x="2164" y="9359"/>
                  <a:pt x="2183" y="9451"/>
                </a:cubicBezTo>
                <a:cubicBezTo>
                  <a:pt x="2183" y="9467"/>
                  <a:pt x="2183" y="9484"/>
                  <a:pt x="2183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4280" y="3197160"/>
            <a:ext cx="108000" cy="4464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3671" y="8880"/>
                </a:moveTo>
                <a:cubicBezTo>
                  <a:pt x="3614" y="8880"/>
                  <a:pt x="3593" y="8890"/>
                  <a:pt x="3547" y="8905"/>
                </a:cubicBezTo>
                <a:cubicBezTo>
                  <a:pt x="3482" y="8927"/>
                  <a:pt x="3431" y="8886"/>
                  <a:pt x="3373" y="8930"/>
                </a:cubicBezTo>
              </a:path>
              <a:path w="299" h="125">
                <a:moveTo>
                  <a:pt x="3621" y="9004"/>
                </a:moveTo>
                <a:cubicBezTo>
                  <a:pt x="3563" y="9004"/>
                  <a:pt x="3506" y="9004"/>
                  <a:pt x="3448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8320" y="2938320"/>
            <a:ext cx="1054080" cy="534960"/>
          </a:xfrm>
          <a:custGeom>
            <a:avLst/>
            <a:gdLst/>
            <a:ahLst/>
            <a:rect l="l" t="t" r="r" b="b"/>
            <a:pathLst>
              <a:path w="2928" h="1489">
                <a:moveTo>
                  <a:pt x="5234" y="8905"/>
                </a:moveTo>
                <a:cubicBezTo>
                  <a:pt x="5234" y="8930"/>
                  <a:pt x="5234" y="8938"/>
                  <a:pt x="5259" y="8930"/>
                </a:cubicBezTo>
                <a:cubicBezTo>
                  <a:pt x="5143" y="8930"/>
                  <a:pt x="5027" y="8930"/>
                  <a:pt x="4911" y="8930"/>
                </a:cubicBezTo>
              </a:path>
              <a:path w="2928" h="1489">
                <a:moveTo>
                  <a:pt x="5606" y="8458"/>
                </a:moveTo>
                <a:cubicBezTo>
                  <a:pt x="5633" y="8423"/>
                  <a:pt x="5623" y="8420"/>
                  <a:pt x="5655" y="8409"/>
                </a:cubicBezTo>
                <a:cubicBezTo>
                  <a:pt x="5655" y="8466"/>
                  <a:pt x="5662" y="8530"/>
                  <a:pt x="5680" y="8582"/>
                </a:cubicBezTo>
                <a:cubicBezTo>
                  <a:pt x="5698" y="8636"/>
                  <a:pt x="5697" y="8688"/>
                  <a:pt x="5730" y="8731"/>
                </a:cubicBezTo>
              </a:path>
              <a:path w="2928" h="1489">
                <a:moveTo>
                  <a:pt x="5953" y="8880"/>
                </a:moveTo>
                <a:cubicBezTo>
                  <a:pt x="5907" y="8880"/>
                  <a:pt x="5873" y="8893"/>
                  <a:pt x="5829" y="8905"/>
                </a:cubicBezTo>
                <a:cubicBezTo>
                  <a:pt x="5741" y="8929"/>
                  <a:pt x="5646" y="8942"/>
                  <a:pt x="5556" y="8954"/>
                </a:cubicBezTo>
                <a:cubicBezTo>
                  <a:pt x="5515" y="8954"/>
                  <a:pt x="5507" y="8954"/>
                  <a:pt x="5482" y="8954"/>
                </a:cubicBezTo>
              </a:path>
              <a:path w="2928" h="1489">
                <a:moveTo>
                  <a:pt x="5680" y="9128"/>
                </a:moveTo>
                <a:cubicBezTo>
                  <a:pt x="5664" y="9128"/>
                  <a:pt x="5647" y="9128"/>
                  <a:pt x="5631" y="9128"/>
                </a:cubicBezTo>
                <a:cubicBezTo>
                  <a:pt x="5667" y="9092"/>
                  <a:pt x="5711" y="9063"/>
                  <a:pt x="5755" y="9054"/>
                </a:cubicBezTo>
                <a:cubicBezTo>
                  <a:pt x="5829" y="9039"/>
                  <a:pt x="5850" y="9060"/>
                  <a:pt x="5854" y="9128"/>
                </a:cubicBezTo>
                <a:cubicBezTo>
                  <a:pt x="5858" y="9204"/>
                  <a:pt x="5814" y="9243"/>
                  <a:pt x="5779" y="9302"/>
                </a:cubicBezTo>
                <a:cubicBezTo>
                  <a:pt x="5756" y="9340"/>
                  <a:pt x="5740" y="9388"/>
                  <a:pt x="5730" y="9426"/>
                </a:cubicBezTo>
                <a:cubicBezTo>
                  <a:pt x="5788" y="9426"/>
                  <a:pt x="5783" y="9406"/>
                  <a:pt x="5829" y="9376"/>
                </a:cubicBezTo>
                <a:cubicBezTo>
                  <a:pt x="5890" y="9337"/>
                  <a:pt x="5934" y="9327"/>
                  <a:pt x="6003" y="9327"/>
                </a:cubicBezTo>
                <a:cubicBezTo>
                  <a:pt x="6053" y="9327"/>
                  <a:pt x="6102" y="9327"/>
                  <a:pt x="6152" y="9327"/>
                </a:cubicBezTo>
              </a:path>
              <a:path w="2928" h="1489">
                <a:moveTo>
                  <a:pt x="6424" y="9128"/>
                </a:moveTo>
                <a:cubicBezTo>
                  <a:pt x="6424" y="9159"/>
                  <a:pt x="6422" y="9128"/>
                  <a:pt x="6474" y="9128"/>
                </a:cubicBezTo>
                <a:cubicBezTo>
                  <a:pt x="6524" y="9128"/>
                  <a:pt x="6535" y="9079"/>
                  <a:pt x="6573" y="9054"/>
                </a:cubicBezTo>
                <a:cubicBezTo>
                  <a:pt x="6625" y="9020"/>
                  <a:pt x="6676" y="8969"/>
                  <a:pt x="6697" y="8905"/>
                </a:cubicBezTo>
                <a:cubicBezTo>
                  <a:pt x="6697" y="8880"/>
                  <a:pt x="6697" y="8872"/>
                  <a:pt x="6697" y="8855"/>
                </a:cubicBezTo>
                <a:cubicBezTo>
                  <a:pt x="6643" y="8855"/>
                  <a:pt x="6569" y="8875"/>
                  <a:pt x="6524" y="8905"/>
                </a:cubicBezTo>
                <a:cubicBezTo>
                  <a:pt x="6445" y="8957"/>
                  <a:pt x="6428" y="9069"/>
                  <a:pt x="6424" y="9153"/>
                </a:cubicBezTo>
                <a:cubicBezTo>
                  <a:pt x="6420" y="9234"/>
                  <a:pt x="6461" y="9263"/>
                  <a:pt x="6524" y="9302"/>
                </a:cubicBezTo>
                <a:cubicBezTo>
                  <a:pt x="6613" y="9356"/>
                  <a:pt x="6677" y="9314"/>
                  <a:pt x="6747" y="9252"/>
                </a:cubicBezTo>
                <a:cubicBezTo>
                  <a:pt x="6806" y="9199"/>
                  <a:pt x="6844" y="9159"/>
                  <a:pt x="6896" y="9103"/>
                </a:cubicBezTo>
                <a:cubicBezTo>
                  <a:pt x="6904" y="9095"/>
                  <a:pt x="6913" y="9087"/>
                  <a:pt x="6921" y="9079"/>
                </a:cubicBezTo>
              </a:path>
              <a:path w="2928" h="1489">
                <a:moveTo>
                  <a:pt x="7020" y="8806"/>
                </a:moveTo>
                <a:cubicBezTo>
                  <a:pt x="7020" y="8753"/>
                  <a:pt x="7016" y="8754"/>
                  <a:pt x="7045" y="8731"/>
                </a:cubicBezTo>
                <a:cubicBezTo>
                  <a:pt x="7088" y="8698"/>
                  <a:pt x="7087" y="8682"/>
                  <a:pt x="7144" y="8682"/>
                </a:cubicBezTo>
                <a:cubicBezTo>
                  <a:pt x="7194" y="8682"/>
                  <a:pt x="7226" y="8739"/>
                  <a:pt x="7243" y="8781"/>
                </a:cubicBezTo>
                <a:cubicBezTo>
                  <a:pt x="7267" y="8839"/>
                  <a:pt x="7294" y="8921"/>
                  <a:pt x="7218" y="8954"/>
                </a:cubicBezTo>
                <a:cubicBezTo>
                  <a:pt x="7192" y="8965"/>
                  <a:pt x="7106" y="8948"/>
                  <a:pt x="7094" y="8930"/>
                </a:cubicBezTo>
                <a:cubicBezTo>
                  <a:pt x="7087" y="8919"/>
                  <a:pt x="7094" y="8835"/>
                  <a:pt x="7094" y="8830"/>
                </a:cubicBezTo>
              </a:path>
              <a:path w="2928" h="1489">
                <a:moveTo>
                  <a:pt x="6325" y="9624"/>
                </a:moveTo>
                <a:cubicBezTo>
                  <a:pt x="6345" y="9585"/>
                  <a:pt x="6322" y="9609"/>
                  <a:pt x="6350" y="9575"/>
                </a:cubicBezTo>
                <a:cubicBezTo>
                  <a:pt x="6412" y="9499"/>
                  <a:pt x="6486" y="9451"/>
                  <a:pt x="6548" y="9376"/>
                </a:cubicBezTo>
                <a:cubicBezTo>
                  <a:pt x="6627" y="9280"/>
                  <a:pt x="6716" y="9201"/>
                  <a:pt x="6796" y="9103"/>
                </a:cubicBezTo>
                <a:cubicBezTo>
                  <a:pt x="6888" y="8990"/>
                  <a:pt x="6974" y="8866"/>
                  <a:pt x="7069" y="8756"/>
                </a:cubicBezTo>
                <a:cubicBezTo>
                  <a:pt x="7135" y="8680"/>
                  <a:pt x="7212" y="8616"/>
                  <a:pt x="7268" y="8533"/>
                </a:cubicBezTo>
                <a:cubicBezTo>
                  <a:pt x="7298" y="8488"/>
                  <a:pt x="7353" y="8458"/>
                  <a:pt x="7367" y="8409"/>
                </a:cubicBezTo>
                <a:cubicBezTo>
                  <a:pt x="7376" y="8377"/>
                  <a:pt x="7385" y="8367"/>
                  <a:pt x="7392" y="8334"/>
                </a:cubicBezTo>
                <a:cubicBezTo>
                  <a:pt x="7397" y="8310"/>
                  <a:pt x="7389" y="8284"/>
                  <a:pt x="7392" y="8260"/>
                </a:cubicBezTo>
                <a:cubicBezTo>
                  <a:pt x="7410" y="8290"/>
                  <a:pt x="7417" y="8317"/>
                  <a:pt x="7417" y="8384"/>
                </a:cubicBezTo>
                <a:cubicBezTo>
                  <a:pt x="7417" y="8459"/>
                  <a:pt x="7436" y="8540"/>
                  <a:pt x="7466" y="8607"/>
                </a:cubicBezTo>
                <a:cubicBezTo>
                  <a:pt x="7466" y="8635"/>
                  <a:pt x="7468" y="8646"/>
                  <a:pt x="7491" y="8657"/>
                </a:cubicBezTo>
                <a:cubicBezTo>
                  <a:pt x="7505" y="8621"/>
                  <a:pt x="7534" y="8568"/>
                  <a:pt x="7541" y="8533"/>
                </a:cubicBezTo>
                <a:cubicBezTo>
                  <a:pt x="7553" y="8468"/>
                  <a:pt x="7539" y="8410"/>
                  <a:pt x="7516" y="8359"/>
                </a:cubicBezTo>
                <a:cubicBezTo>
                  <a:pt x="7489" y="8298"/>
                  <a:pt x="7458" y="8315"/>
                  <a:pt x="7392" y="8285"/>
                </a:cubicBezTo>
                <a:cubicBezTo>
                  <a:pt x="7335" y="8259"/>
                  <a:pt x="7271" y="8223"/>
                  <a:pt x="7218" y="8210"/>
                </a:cubicBezTo>
                <a:cubicBezTo>
                  <a:pt x="7210" y="8210"/>
                  <a:pt x="7201" y="8210"/>
                  <a:pt x="7193" y="8210"/>
                </a:cubicBezTo>
              </a:path>
              <a:path w="2928" h="1489">
                <a:moveTo>
                  <a:pt x="7813" y="8186"/>
                </a:moveTo>
                <a:cubicBezTo>
                  <a:pt x="7813" y="8178"/>
                  <a:pt x="7813" y="8169"/>
                  <a:pt x="7813" y="8161"/>
                </a:cubicBezTo>
                <a:cubicBezTo>
                  <a:pt x="7840" y="8170"/>
                  <a:pt x="7852" y="8196"/>
                  <a:pt x="7838" y="8235"/>
                </a:cubicBezTo>
                <a:cubicBezTo>
                  <a:pt x="7814" y="8283"/>
                  <a:pt x="7806" y="8297"/>
                  <a:pt x="7813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3251160"/>
            <a:ext cx="125280" cy="79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9426" y="9054"/>
                </a:moveTo>
                <a:cubicBezTo>
                  <a:pt x="9413" y="9016"/>
                  <a:pt x="9396" y="9029"/>
                  <a:pt x="9351" y="9029"/>
                </a:cubicBezTo>
                <a:cubicBezTo>
                  <a:pt x="9288" y="9029"/>
                  <a:pt x="9248" y="9054"/>
                  <a:pt x="9178" y="9054"/>
                </a:cubicBezTo>
                <a:cubicBezTo>
                  <a:pt x="9128" y="9054"/>
                  <a:pt x="9112" y="9054"/>
                  <a:pt x="907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3960" y="2963880"/>
            <a:ext cx="974880" cy="457200"/>
          </a:xfrm>
          <a:custGeom>
            <a:avLst/>
            <a:gdLst/>
            <a:ahLst/>
            <a:rect l="l" t="t" r="r" b="b"/>
            <a:pathLst>
              <a:path w="2705" h="1266">
                <a:moveTo>
                  <a:pt x="11038" y="9153"/>
                </a:moveTo>
                <a:cubicBezTo>
                  <a:pt x="11031" y="9205"/>
                  <a:pt x="11024" y="9189"/>
                  <a:pt x="11013" y="9227"/>
                </a:cubicBezTo>
                <a:cubicBezTo>
                  <a:pt x="11013" y="9235"/>
                  <a:pt x="11013" y="9244"/>
                  <a:pt x="11013" y="9252"/>
                </a:cubicBezTo>
                <a:cubicBezTo>
                  <a:pt x="11064" y="9224"/>
                  <a:pt x="11085" y="9226"/>
                  <a:pt x="11137" y="9178"/>
                </a:cubicBezTo>
                <a:cubicBezTo>
                  <a:pt x="11188" y="9131"/>
                  <a:pt x="11224" y="9061"/>
                  <a:pt x="11261" y="9004"/>
                </a:cubicBezTo>
                <a:cubicBezTo>
                  <a:pt x="11309" y="8930"/>
                  <a:pt x="11356" y="8870"/>
                  <a:pt x="11361" y="8781"/>
                </a:cubicBezTo>
                <a:cubicBezTo>
                  <a:pt x="11364" y="8732"/>
                  <a:pt x="11361" y="8681"/>
                  <a:pt x="11361" y="8632"/>
                </a:cubicBezTo>
                <a:cubicBezTo>
                  <a:pt x="11295" y="8651"/>
                  <a:pt x="11297" y="8658"/>
                  <a:pt x="11261" y="8731"/>
                </a:cubicBezTo>
                <a:cubicBezTo>
                  <a:pt x="11214" y="8827"/>
                  <a:pt x="11194" y="8947"/>
                  <a:pt x="11212" y="9054"/>
                </a:cubicBezTo>
                <a:cubicBezTo>
                  <a:pt x="11229" y="9158"/>
                  <a:pt x="11316" y="9253"/>
                  <a:pt x="11385" y="9327"/>
                </a:cubicBezTo>
                <a:cubicBezTo>
                  <a:pt x="11431" y="9376"/>
                  <a:pt x="11482" y="9395"/>
                  <a:pt x="11534" y="9351"/>
                </a:cubicBezTo>
                <a:cubicBezTo>
                  <a:pt x="11596" y="9298"/>
                  <a:pt x="11622" y="9249"/>
                  <a:pt x="11658" y="9178"/>
                </a:cubicBezTo>
                <a:cubicBezTo>
                  <a:pt x="11687" y="9120"/>
                  <a:pt x="11687" y="9130"/>
                  <a:pt x="11708" y="9103"/>
                </a:cubicBezTo>
                <a:cubicBezTo>
                  <a:pt x="11745" y="9140"/>
                  <a:pt x="11738" y="9178"/>
                  <a:pt x="11807" y="9178"/>
                </a:cubicBezTo>
                <a:cubicBezTo>
                  <a:pt x="11850" y="9178"/>
                  <a:pt x="11877" y="9133"/>
                  <a:pt x="11906" y="9103"/>
                </a:cubicBezTo>
                <a:cubicBezTo>
                  <a:pt x="11964" y="9149"/>
                  <a:pt x="11974" y="9165"/>
                  <a:pt x="12005" y="9227"/>
                </a:cubicBezTo>
              </a:path>
              <a:path w="2705" h="1266">
                <a:moveTo>
                  <a:pt x="12799" y="8830"/>
                </a:moveTo>
                <a:cubicBezTo>
                  <a:pt x="12821" y="8779"/>
                  <a:pt x="12813" y="8768"/>
                  <a:pt x="12849" y="8756"/>
                </a:cubicBezTo>
                <a:cubicBezTo>
                  <a:pt x="12849" y="8851"/>
                  <a:pt x="12865" y="8936"/>
                  <a:pt x="12874" y="9029"/>
                </a:cubicBezTo>
                <a:cubicBezTo>
                  <a:pt x="12882" y="9110"/>
                  <a:pt x="12908" y="9176"/>
                  <a:pt x="12923" y="9252"/>
                </a:cubicBezTo>
              </a:path>
              <a:path w="2705" h="1266">
                <a:moveTo>
                  <a:pt x="13047" y="8434"/>
                </a:moveTo>
                <a:cubicBezTo>
                  <a:pt x="13088" y="8434"/>
                  <a:pt x="13125" y="8413"/>
                  <a:pt x="13097" y="8434"/>
                </a:cubicBezTo>
                <a:cubicBezTo>
                  <a:pt x="13027" y="8487"/>
                  <a:pt x="12942" y="8524"/>
                  <a:pt x="12874" y="8582"/>
                </a:cubicBezTo>
                <a:cubicBezTo>
                  <a:pt x="12755" y="8683"/>
                  <a:pt x="12616" y="8805"/>
                  <a:pt x="12477" y="8880"/>
                </a:cubicBezTo>
                <a:cubicBezTo>
                  <a:pt x="12326" y="8961"/>
                  <a:pt x="12202" y="9063"/>
                  <a:pt x="12055" y="9153"/>
                </a:cubicBezTo>
                <a:cubicBezTo>
                  <a:pt x="11946" y="9220"/>
                  <a:pt x="11861" y="9304"/>
                  <a:pt x="11757" y="9376"/>
                </a:cubicBezTo>
                <a:cubicBezTo>
                  <a:pt x="11705" y="9412"/>
                  <a:pt x="11655" y="9440"/>
                  <a:pt x="11609" y="9475"/>
                </a:cubicBezTo>
                <a:cubicBezTo>
                  <a:pt x="11601" y="9483"/>
                  <a:pt x="11592" y="9492"/>
                  <a:pt x="11584" y="9500"/>
                </a:cubicBezTo>
              </a:path>
              <a:path w="2705" h="1266">
                <a:moveTo>
                  <a:pt x="13072" y="8533"/>
                </a:moveTo>
                <a:cubicBezTo>
                  <a:pt x="13084" y="8484"/>
                  <a:pt x="13083" y="8463"/>
                  <a:pt x="13097" y="8483"/>
                </a:cubicBezTo>
                <a:cubicBezTo>
                  <a:pt x="13141" y="8544"/>
                  <a:pt x="13146" y="8549"/>
                  <a:pt x="13146" y="8632"/>
                </a:cubicBezTo>
                <a:cubicBezTo>
                  <a:pt x="13146" y="8665"/>
                  <a:pt x="13146" y="8698"/>
                  <a:pt x="13146" y="8731"/>
                </a:cubicBezTo>
                <a:cubicBezTo>
                  <a:pt x="13146" y="8678"/>
                  <a:pt x="13178" y="8451"/>
                  <a:pt x="13122" y="8434"/>
                </a:cubicBezTo>
                <a:cubicBezTo>
                  <a:pt x="13061" y="8415"/>
                  <a:pt x="12987" y="8373"/>
                  <a:pt x="12923" y="8359"/>
                </a:cubicBezTo>
                <a:cubicBezTo>
                  <a:pt x="12882" y="8359"/>
                  <a:pt x="12874" y="8359"/>
                  <a:pt x="12849" y="8359"/>
                </a:cubicBezTo>
              </a:path>
              <a:path w="2705" h="1266">
                <a:moveTo>
                  <a:pt x="13494" y="8334"/>
                </a:moveTo>
                <a:cubicBezTo>
                  <a:pt x="13494" y="8282"/>
                  <a:pt x="13490" y="8282"/>
                  <a:pt x="13519" y="8260"/>
                </a:cubicBezTo>
                <a:cubicBezTo>
                  <a:pt x="13546" y="8239"/>
                  <a:pt x="13579" y="8221"/>
                  <a:pt x="13618" y="8235"/>
                </a:cubicBezTo>
                <a:cubicBezTo>
                  <a:pt x="13673" y="8255"/>
                  <a:pt x="13709" y="8301"/>
                  <a:pt x="13717" y="8359"/>
                </a:cubicBezTo>
                <a:cubicBezTo>
                  <a:pt x="13724" y="8412"/>
                  <a:pt x="13701" y="8500"/>
                  <a:pt x="13643" y="8508"/>
                </a:cubicBezTo>
                <a:cubicBezTo>
                  <a:pt x="13581" y="8517"/>
                  <a:pt x="13530" y="8513"/>
                  <a:pt x="13494" y="8458"/>
                </a:cubicBezTo>
                <a:cubicBezTo>
                  <a:pt x="13453" y="8395"/>
                  <a:pt x="13510" y="8369"/>
                  <a:pt x="13543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3205080"/>
            <a:ext cx="162000" cy="907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5825" y="9029"/>
                </a:moveTo>
                <a:cubicBezTo>
                  <a:pt x="15833" y="9021"/>
                  <a:pt x="15842" y="9012"/>
                  <a:pt x="15850" y="9004"/>
                </a:cubicBezTo>
                <a:cubicBezTo>
                  <a:pt x="15808" y="9015"/>
                  <a:pt x="15768" y="9039"/>
                  <a:pt x="15726" y="9054"/>
                </a:cubicBezTo>
                <a:cubicBezTo>
                  <a:pt x="15651" y="9081"/>
                  <a:pt x="15559" y="9092"/>
                  <a:pt x="15478" y="9103"/>
                </a:cubicBezTo>
                <a:cubicBezTo>
                  <a:pt x="15437" y="9103"/>
                  <a:pt x="15429" y="9103"/>
                  <a:pt x="15404" y="9103"/>
                </a:cubicBezTo>
              </a:path>
              <a:path w="447" h="249">
                <a:moveTo>
                  <a:pt x="15553" y="8905"/>
                </a:moveTo>
                <a:cubicBezTo>
                  <a:pt x="15640" y="8930"/>
                  <a:pt x="15627" y="8962"/>
                  <a:pt x="15627" y="9054"/>
                </a:cubicBezTo>
                <a:cubicBezTo>
                  <a:pt x="15627" y="9103"/>
                  <a:pt x="15627" y="9120"/>
                  <a:pt x="1562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37200" y="3116160"/>
            <a:ext cx="177840" cy="1890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6942" y="8756"/>
                </a:moveTo>
                <a:cubicBezTo>
                  <a:pt x="17000" y="8698"/>
                  <a:pt x="17008" y="8690"/>
                  <a:pt x="17041" y="8657"/>
                </a:cubicBezTo>
                <a:cubicBezTo>
                  <a:pt x="16953" y="8668"/>
                  <a:pt x="16871" y="8698"/>
                  <a:pt x="16818" y="8781"/>
                </a:cubicBezTo>
                <a:cubicBezTo>
                  <a:pt x="16751" y="8886"/>
                  <a:pt x="16766" y="8986"/>
                  <a:pt x="16842" y="9079"/>
                </a:cubicBezTo>
                <a:cubicBezTo>
                  <a:pt x="16932" y="9188"/>
                  <a:pt x="17060" y="9208"/>
                  <a:pt x="17190" y="9153"/>
                </a:cubicBezTo>
                <a:cubicBezTo>
                  <a:pt x="17215" y="9136"/>
                  <a:pt x="17239" y="9120"/>
                  <a:pt x="17264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0960" y="3571920"/>
            <a:ext cx="195120" cy="258840"/>
          </a:xfrm>
          <a:custGeom>
            <a:avLst/>
            <a:gdLst/>
            <a:ahLst/>
            <a:rect l="l" t="t" r="r" b="b"/>
            <a:pathLst>
              <a:path w="546" h="720">
                <a:moveTo>
                  <a:pt x="2133" y="9947"/>
                </a:moveTo>
                <a:cubicBezTo>
                  <a:pt x="2141" y="9939"/>
                  <a:pt x="2150" y="9930"/>
                  <a:pt x="2158" y="9922"/>
                </a:cubicBezTo>
                <a:cubicBezTo>
                  <a:pt x="2146" y="9980"/>
                  <a:pt x="2123" y="10039"/>
                  <a:pt x="2108" y="10096"/>
                </a:cubicBezTo>
                <a:cubicBezTo>
                  <a:pt x="2084" y="10190"/>
                  <a:pt x="2084" y="10270"/>
                  <a:pt x="2084" y="10368"/>
                </a:cubicBezTo>
                <a:cubicBezTo>
                  <a:pt x="2084" y="10408"/>
                  <a:pt x="2109" y="10478"/>
                  <a:pt x="2158" y="10492"/>
                </a:cubicBezTo>
                <a:cubicBezTo>
                  <a:pt x="2292" y="10529"/>
                  <a:pt x="2487" y="10492"/>
                  <a:pt x="2629" y="10492"/>
                </a:cubicBezTo>
              </a:path>
              <a:path w="546" h="720">
                <a:moveTo>
                  <a:pt x="2431" y="10368"/>
                </a:moveTo>
                <a:cubicBezTo>
                  <a:pt x="2384" y="10384"/>
                  <a:pt x="2406" y="10462"/>
                  <a:pt x="2406" y="10517"/>
                </a:cubicBezTo>
                <a:cubicBezTo>
                  <a:pt x="2406" y="10575"/>
                  <a:pt x="2403" y="10595"/>
                  <a:pt x="2431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6200" y="364320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3795" y="10120"/>
                </a:moveTo>
                <a:cubicBezTo>
                  <a:pt x="3860" y="10120"/>
                  <a:pt x="3737" y="10115"/>
                  <a:pt x="3721" y="10120"/>
                </a:cubicBezTo>
                <a:cubicBezTo>
                  <a:pt x="3668" y="10138"/>
                  <a:pt x="3625" y="10150"/>
                  <a:pt x="3572" y="10170"/>
                </a:cubicBezTo>
              </a:path>
              <a:path w="274" h="225">
                <a:moveTo>
                  <a:pt x="3721" y="10269"/>
                </a:moveTo>
                <a:cubicBezTo>
                  <a:pt x="3737" y="10269"/>
                  <a:pt x="3754" y="10269"/>
                  <a:pt x="3770" y="10269"/>
                </a:cubicBezTo>
                <a:cubicBezTo>
                  <a:pt x="3735" y="10296"/>
                  <a:pt x="3694" y="10316"/>
                  <a:pt x="3646" y="10319"/>
                </a:cubicBezTo>
                <a:cubicBezTo>
                  <a:pt x="3595" y="10322"/>
                  <a:pt x="3590" y="10333"/>
                  <a:pt x="354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9040" y="3562200"/>
            <a:ext cx="393840" cy="349560"/>
          </a:xfrm>
          <a:custGeom>
            <a:avLst/>
            <a:gdLst/>
            <a:ahLst/>
            <a:rect l="l" t="t" r="r" b="b"/>
            <a:pathLst>
              <a:path w="1093" h="968">
                <a:moveTo>
                  <a:pt x="4415" y="10368"/>
                </a:moveTo>
                <a:cubicBezTo>
                  <a:pt x="4415" y="10376"/>
                  <a:pt x="4415" y="10385"/>
                  <a:pt x="4415" y="10393"/>
                </a:cubicBezTo>
                <a:cubicBezTo>
                  <a:pt x="4468" y="10393"/>
                  <a:pt x="4485" y="10373"/>
                  <a:pt x="4539" y="10368"/>
                </a:cubicBezTo>
                <a:cubicBezTo>
                  <a:pt x="4588" y="10364"/>
                  <a:pt x="4605" y="10344"/>
                  <a:pt x="4663" y="10344"/>
                </a:cubicBezTo>
                <a:cubicBezTo>
                  <a:pt x="4671" y="10344"/>
                  <a:pt x="4680" y="10344"/>
                  <a:pt x="4688" y="10344"/>
                </a:cubicBezTo>
              </a:path>
              <a:path w="1093" h="968">
                <a:moveTo>
                  <a:pt x="5085" y="9971"/>
                </a:moveTo>
                <a:cubicBezTo>
                  <a:pt x="5085" y="9916"/>
                  <a:pt x="5085" y="9871"/>
                  <a:pt x="5085" y="9947"/>
                </a:cubicBezTo>
                <a:cubicBezTo>
                  <a:pt x="5085" y="10039"/>
                  <a:pt x="5096" y="10110"/>
                  <a:pt x="5110" y="10195"/>
                </a:cubicBezTo>
                <a:cubicBezTo>
                  <a:pt x="5110" y="10211"/>
                  <a:pt x="5110" y="10228"/>
                  <a:pt x="5110" y="10244"/>
                </a:cubicBezTo>
              </a:path>
              <a:path w="1093" h="968">
                <a:moveTo>
                  <a:pt x="5383" y="10393"/>
                </a:moveTo>
                <a:cubicBezTo>
                  <a:pt x="5407" y="10393"/>
                  <a:pt x="5415" y="10393"/>
                  <a:pt x="5407" y="10418"/>
                </a:cubicBezTo>
                <a:cubicBezTo>
                  <a:pt x="5345" y="10418"/>
                  <a:pt x="5266" y="10426"/>
                  <a:pt x="5209" y="10443"/>
                </a:cubicBezTo>
                <a:cubicBezTo>
                  <a:pt x="5162" y="10457"/>
                  <a:pt x="5075" y="10473"/>
                  <a:pt x="5035" y="10492"/>
                </a:cubicBezTo>
                <a:cubicBezTo>
                  <a:pt x="4993" y="10511"/>
                  <a:pt x="4987" y="10517"/>
                  <a:pt x="4936" y="10517"/>
                </a:cubicBezTo>
              </a:path>
              <a:path w="1093" h="968">
                <a:moveTo>
                  <a:pt x="5135" y="10616"/>
                </a:moveTo>
                <a:cubicBezTo>
                  <a:pt x="5148" y="10642"/>
                  <a:pt x="5175" y="10595"/>
                  <a:pt x="5234" y="10592"/>
                </a:cubicBezTo>
                <a:cubicBezTo>
                  <a:pt x="5287" y="10589"/>
                  <a:pt x="5326" y="10582"/>
                  <a:pt x="5333" y="10641"/>
                </a:cubicBezTo>
                <a:cubicBezTo>
                  <a:pt x="5338" y="10685"/>
                  <a:pt x="5284" y="10756"/>
                  <a:pt x="5259" y="10790"/>
                </a:cubicBezTo>
                <a:cubicBezTo>
                  <a:pt x="5233" y="10825"/>
                  <a:pt x="5234" y="10821"/>
                  <a:pt x="5234" y="10864"/>
                </a:cubicBezTo>
                <a:cubicBezTo>
                  <a:pt x="5289" y="10864"/>
                  <a:pt x="5332" y="10846"/>
                  <a:pt x="5383" y="10840"/>
                </a:cubicBezTo>
                <a:cubicBezTo>
                  <a:pt x="5451" y="10840"/>
                  <a:pt x="5470" y="10843"/>
                  <a:pt x="550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59000" y="370512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6573" y="10468"/>
                </a:moveTo>
                <a:cubicBezTo>
                  <a:pt x="6596" y="10445"/>
                  <a:pt x="6604" y="10441"/>
                  <a:pt x="6598" y="10418"/>
                </a:cubicBezTo>
                <a:cubicBezTo>
                  <a:pt x="6541" y="10418"/>
                  <a:pt x="6478" y="10429"/>
                  <a:pt x="6424" y="10443"/>
                </a:cubicBezTo>
                <a:cubicBezTo>
                  <a:pt x="6349" y="10462"/>
                  <a:pt x="6347" y="10468"/>
                  <a:pt x="6276" y="10468"/>
                </a:cubicBezTo>
              </a:path>
              <a:path w="323" h="299">
                <a:moveTo>
                  <a:pt x="6350" y="10294"/>
                </a:moveTo>
                <a:cubicBezTo>
                  <a:pt x="6419" y="10305"/>
                  <a:pt x="6421" y="10337"/>
                  <a:pt x="6424" y="10418"/>
                </a:cubicBezTo>
                <a:cubicBezTo>
                  <a:pt x="6427" y="10485"/>
                  <a:pt x="6441" y="10528"/>
                  <a:pt x="644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71840" y="3697200"/>
            <a:ext cx="1429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7293" y="10294"/>
                </a:moveTo>
                <a:cubicBezTo>
                  <a:pt x="7332" y="10210"/>
                  <a:pt x="7208" y="10353"/>
                  <a:pt x="7193" y="10368"/>
                </a:cubicBezTo>
                <a:cubicBezTo>
                  <a:pt x="7127" y="10434"/>
                  <a:pt x="7114" y="10512"/>
                  <a:pt x="7193" y="10567"/>
                </a:cubicBezTo>
                <a:cubicBezTo>
                  <a:pt x="7293" y="10636"/>
                  <a:pt x="7362" y="10602"/>
                  <a:pt x="7466" y="10567"/>
                </a:cubicBezTo>
                <a:cubicBezTo>
                  <a:pt x="7491" y="10559"/>
                  <a:pt x="7516" y="10550"/>
                  <a:pt x="7541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98800" y="4179960"/>
            <a:ext cx="125280" cy="142920"/>
          </a:xfrm>
          <a:custGeom>
            <a:avLst/>
            <a:gdLst/>
            <a:ahLst/>
            <a:rect l="l" t="t" r="r" b="b"/>
            <a:pathLst>
              <a:path w="348" h="397">
                <a:moveTo>
                  <a:pt x="6003" y="11683"/>
                </a:moveTo>
                <a:cubicBezTo>
                  <a:pt x="6030" y="11674"/>
                  <a:pt x="6048" y="11665"/>
                  <a:pt x="6052" y="11633"/>
                </a:cubicBezTo>
                <a:cubicBezTo>
                  <a:pt x="6052" y="11625"/>
                  <a:pt x="6052" y="11617"/>
                  <a:pt x="6052" y="11609"/>
                </a:cubicBezTo>
                <a:cubicBezTo>
                  <a:pt x="5993" y="11609"/>
                  <a:pt x="5987" y="11635"/>
                  <a:pt x="5953" y="11683"/>
                </a:cubicBezTo>
                <a:cubicBezTo>
                  <a:pt x="5901" y="11758"/>
                  <a:pt x="5851" y="11842"/>
                  <a:pt x="5829" y="11931"/>
                </a:cubicBezTo>
                <a:cubicBezTo>
                  <a:pt x="5829" y="11964"/>
                  <a:pt x="5829" y="11980"/>
                  <a:pt x="5829" y="12005"/>
                </a:cubicBezTo>
                <a:cubicBezTo>
                  <a:pt x="5908" y="12005"/>
                  <a:pt x="5978" y="12012"/>
                  <a:pt x="6052" y="11981"/>
                </a:cubicBezTo>
                <a:cubicBezTo>
                  <a:pt x="6102" y="11960"/>
                  <a:pt x="6122" y="11956"/>
                  <a:pt x="617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4760" y="420516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4490" y="11708"/>
                </a:moveTo>
                <a:cubicBezTo>
                  <a:pt x="4490" y="11700"/>
                  <a:pt x="4490" y="11691"/>
                  <a:pt x="4490" y="11683"/>
                </a:cubicBezTo>
                <a:cubicBezTo>
                  <a:pt x="4431" y="11683"/>
                  <a:pt x="4437" y="11719"/>
                  <a:pt x="4390" y="11733"/>
                </a:cubicBezTo>
                <a:cubicBezTo>
                  <a:pt x="4331" y="11750"/>
                  <a:pt x="4337" y="11737"/>
                  <a:pt x="4291" y="11782"/>
                </a:cubicBezTo>
              </a:path>
              <a:path w="224" h="299">
                <a:moveTo>
                  <a:pt x="4490" y="11931"/>
                </a:moveTo>
                <a:cubicBezTo>
                  <a:pt x="4498" y="11931"/>
                  <a:pt x="4506" y="11931"/>
                  <a:pt x="4514" y="11931"/>
                </a:cubicBezTo>
                <a:cubicBezTo>
                  <a:pt x="4481" y="11956"/>
                  <a:pt x="4455" y="11971"/>
                  <a:pt x="4415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3160" y="4044960"/>
            <a:ext cx="474840" cy="29520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2282" y="11336"/>
                </a:moveTo>
                <a:cubicBezTo>
                  <a:pt x="2322" y="11295"/>
                  <a:pt x="2344" y="11285"/>
                  <a:pt x="2356" y="11237"/>
                </a:cubicBezTo>
                <a:cubicBezTo>
                  <a:pt x="2299" y="11309"/>
                  <a:pt x="2302" y="11351"/>
                  <a:pt x="2282" y="11435"/>
                </a:cubicBezTo>
                <a:cubicBezTo>
                  <a:pt x="2256" y="11545"/>
                  <a:pt x="2232" y="11618"/>
                  <a:pt x="2232" y="11733"/>
                </a:cubicBezTo>
                <a:cubicBezTo>
                  <a:pt x="2232" y="11789"/>
                  <a:pt x="2243" y="11852"/>
                  <a:pt x="2307" y="11857"/>
                </a:cubicBezTo>
                <a:cubicBezTo>
                  <a:pt x="2394" y="11863"/>
                  <a:pt x="2428" y="11820"/>
                  <a:pt x="2505" y="11807"/>
                </a:cubicBezTo>
                <a:cubicBezTo>
                  <a:pt x="2574" y="11795"/>
                  <a:pt x="2658" y="11807"/>
                  <a:pt x="2729" y="11807"/>
                </a:cubicBezTo>
              </a:path>
              <a:path w="1316" h="819">
                <a:moveTo>
                  <a:pt x="2530" y="11708"/>
                </a:moveTo>
                <a:cubicBezTo>
                  <a:pt x="2530" y="11789"/>
                  <a:pt x="2544" y="11853"/>
                  <a:pt x="2555" y="11931"/>
                </a:cubicBezTo>
                <a:cubicBezTo>
                  <a:pt x="2561" y="11976"/>
                  <a:pt x="2571" y="12011"/>
                  <a:pt x="2580" y="12055"/>
                </a:cubicBezTo>
              </a:path>
              <a:path w="1316" h="819">
                <a:moveTo>
                  <a:pt x="3076" y="11261"/>
                </a:moveTo>
                <a:cubicBezTo>
                  <a:pt x="3076" y="11199"/>
                  <a:pt x="3071" y="11318"/>
                  <a:pt x="3076" y="11336"/>
                </a:cubicBezTo>
                <a:cubicBezTo>
                  <a:pt x="3090" y="11392"/>
                  <a:pt x="3104" y="11433"/>
                  <a:pt x="3125" y="11485"/>
                </a:cubicBezTo>
              </a:path>
              <a:path w="1316" h="819">
                <a:moveTo>
                  <a:pt x="3324" y="11584"/>
                </a:moveTo>
                <a:cubicBezTo>
                  <a:pt x="3324" y="11592"/>
                  <a:pt x="3324" y="11601"/>
                  <a:pt x="3324" y="11609"/>
                </a:cubicBezTo>
                <a:cubicBezTo>
                  <a:pt x="3277" y="11618"/>
                  <a:pt x="3191" y="11639"/>
                  <a:pt x="3150" y="11658"/>
                </a:cubicBezTo>
                <a:cubicBezTo>
                  <a:pt x="3105" y="11679"/>
                  <a:pt x="3073" y="11721"/>
                  <a:pt x="3026" y="11733"/>
                </a:cubicBezTo>
              </a:path>
              <a:path w="1316" h="819">
                <a:moveTo>
                  <a:pt x="3175" y="11832"/>
                </a:moveTo>
                <a:cubicBezTo>
                  <a:pt x="3167" y="11840"/>
                  <a:pt x="3158" y="11849"/>
                  <a:pt x="3150" y="11857"/>
                </a:cubicBezTo>
                <a:cubicBezTo>
                  <a:pt x="3193" y="11825"/>
                  <a:pt x="3218" y="11812"/>
                  <a:pt x="3274" y="11807"/>
                </a:cubicBezTo>
                <a:cubicBezTo>
                  <a:pt x="3299" y="11807"/>
                  <a:pt x="3307" y="11807"/>
                  <a:pt x="3324" y="11807"/>
                </a:cubicBezTo>
                <a:cubicBezTo>
                  <a:pt x="3324" y="11856"/>
                  <a:pt x="3329" y="11886"/>
                  <a:pt x="3299" y="11931"/>
                </a:cubicBezTo>
                <a:cubicBezTo>
                  <a:pt x="3272" y="11971"/>
                  <a:pt x="3274" y="11981"/>
                  <a:pt x="3274" y="12030"/>
                </a:cubicBezTo>
                <a:cubicBezTo>
                  <a:pt x="3351" y="12030"/>
                  <a:pt x="3402" y="12008"/>
                  <a:pt x="3473" y="11981"/>
                </a:cubicBezTo>
                <a:cubicBezTo>
                  <a:pt x="3498" y="11973"/>
                  <a:pt x="3522" y="11964"/>
                  <a:pt x="3547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867200"/>
            <a:ext cx="322200" cy="249480"/>
          </a:xfrm>
          <a:custGeom>
            <a:avLst/>
            <a:gdLst/>
            <a:ahLst/>
            <a:rect l="l" t="t" r="r" b="b"/>
            <a:pathLst>
              <a:path w="894" h="695">
                <a:moveTo>
                  <a:pt x="6127" y="13717"/>
                </a:moveTo>
                <a:cubicBezTo>
                  <a:pt x="6170" y="13674"/>
                  <a:pt x="6266" y="13632"/>
                  <a:pt x="6300" y="13593"/>
                </a:cubicBezTo>
                <a:cubicBezTo>
                  <a:pt x="6311" y="13581"/>
                  <a:pt x="6320" y="13538"/>
                  <a:pt x="6325" y="13519"/>
                </a:cubicBezTo>
                <a:cubicBezTo>
                  <a:pt x="6263" y="13519"/>
                  <a:pt x="6211" y="13514"/>
                  <a:pt x="6152" y="13543"/>
                </a:cubicBezTo>
                <a:cubicBezTo>
                  <a:pt x="6100" y="13569"/>
                  <a:pt x="5953" y="13699"/>
                  <a:pt x="5953" y="13767"/>
                </a:cubicBezTo>
                <a:cubicBezTo>
                  <a:pt x="5953" y="13881"/>
                  <a:pt x="6067" y="13927"/>
                  <a:pt x="6152" y="13965"/>
                </a:cubicBezTo>
                <a:cubicBezTo>
                  <a:pt x="6230" y="14000"/>
                  <a:pt x="6318" y="13986"/>
                  <a:pt x="6325" y="14089"/>
                </a:cubicBezTo>
                <a:cubicBezTo>
                  <a:pt x="6330" y="14163"/>
                  <a:pt x="6221" y="14204"/>
                  <a:pt x="6152" y="14213"/>
                </a:cubicBezTo>
                <a:cubicBezTo>
                  <a:pt x="6081" y="14222"/>
                  <a:pt x="6000" y="14213"/>
                  <a:pt x="5928" y="14213"/>
                </a:cubicBezTo>
              </a:path>
              <a:path w="894" h="695">
                <a:moveTo>
                  <a:pt x="6623" y="14039"/>
                </a:moveTo>
                <a:cubicBezTo>
                  <a:pt x="6537" y="14039"/>
                  <a:pt x="6606" y="14001"/>
                  <a:pt x="6648" y="13990"/>
                </a:cubicBezTo>
                <a:cubicBezTo>
                  <a:pt x="6716" y="13972"/>
                  <a:pt x="6799" y="13991"/>
                  <a:pt x="6821" y="14064"/>
                </a:cubicBezTo>
                <a:cubicBezTo>
                  <a:pt x="6844" y="14143"/>
                  <a:pt x="6821" y="14184"/>
                  <a:pt x="6747" y="14188"/>
                </a:cubicBezTo>
                <a:cubicBezTo>
                  <a:pt x="6686" y="14192"/>
                  <a:pt x="6621" y="14165"/>
                  <a:pt x="6573" y="14139"/>
                </a:cubicBezTo>
                <a:cubicBezTo>
                  <a:pt x="6557" y="14131"/>
                  <a:pt x="6540" y="14122"/>
                  <a:pt x="6524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0800" y="4911840"/>
            <a:ext cx="554040" cy="330120"/>
          </a:xfrm>
          <a:custGeom>
            <a:avLst/>
            <a:gdLst/>
            <a:ahLst/>
            <a:rect l="l" t="t" r="r" b="b"/>
            <a:pathLst>
              <a:path w="1539" h="918">
                <a:moveTo>
                  <a:pt x="8979" y="13866"/>
                </a:moveTo>
                <a:cubicBezTo>
                  <a:pt x="9043" y="13866"/>
                  <a:pt x="9134" y="13893"/>
                  <a:pt x="9153" y="13816"/>
                </a:cubicBezTo>
                <a:cubicBezTo>
                  <a:pt x="9169" y="13753"/>
                  <a:pt x="9114" y="13660"/>
                  <a:pt x="9054" y="13643"/>
                </a:cubicBezTo>
                <a:cubicBezTo>
                  <a:pt x="8959" y="13615"/>
                  <a:pt x="8876" y="13801"/>
                  <a:pt x="8855" y="13866"/>
                </a:cubicBezTo>
                <a:cubicBezTo>
                  <a:pt x="8802" y="14028"/>
                  <a:pt x="8830" y="14219"/>
                  <a:pt x="8830" y="14387"/>
                </a:cubicBezTo>
                <a:cubicBezTo>
                  <a:pt x="8830" y="14453"/>
                  <a:pt x="8830" y="14470"/>
                  <a:pt x="8830" y="14511"/>
                </a:cubicBezTo>
              </a:path>
              <a:path w="1539" h="918">
                <a:moveTo>
                  <a:pt x="8930" y="14263"/>
                </a:moveTo>
                <a:cubicBezTo>
                  <a:pt x="8930" y="14246"/>
                  <a:pt x="8930" y="14230"/>
                  <a:pt x="8930" y="14213"/>
                </a:cubicBezTo>
                <a:cubicBezTo>
                  <a:pt x="8877" y="14226"/>
                  <a:pt x="8842" y="14255"/>
                  <a:pt x="8781" y="14263"/>
                </a:cubicBezTo>
              </a:path>
              <a:path w="1539" h="918">
                <a:moveTo>
                  <a:pt x="9525" y="13866"/>
                </a:moveTo>
                <a:cubicBezTo>
                  <a:pt x="9558" y="13833"/>
                  <a:pt x="9591" y="13800"/>
                  <a:pt x="9624" y="13767"/>
                </a:cubicBezTo>
                <a:cubicBezTo>
                  <a:pt x="9545" y="13767"/>
                  <a:pt x="9497" y="13795"/>
                  <a:pt x="9451" y="13866"/>
                </a:cubicBezTo>
                <a:cubicBezTo>
                  <a:pt x="9365" y="13999"/>
                  <a:pt x="9363" y="14140"/>
                  <a:pt x="9401" y="14288"/>
                </a:cubicBezTo>
                <a:cubicBezTo>
                  <a:pt x="9409" y="14313"/>
                  <a:pt x="9418" y="14337"/>
                  <a:pt x="9426" y="14362"/>
                </a:cubicBezTo>
              </a:path>
              <a:path w="1539" h="918">
                <a:moveTo>
                  <a:pt x="9575" y="14288"/>
                </a:moveTo>
                <a:cubicBezTo>
                  <a:pt x="9608" y="14228"/>
                  <a:pt x="9608" y="14213"/>
                  <a:pt x="9674" y="14213"/>
                </a:cubicBezTo>
                <a:cubicBezTo>
                  <a:pt x="9766" y="14213"/>
                  <a:pt x="9748" y="14260"/>
                  <a:pt x="9748" y="14337"/>
                </a:cubicBezTo>
                <a:cubicBezTo>
                  <a:pt x="9748" y="14388"/>
                  <a:pt x="9725" y="14450"/>
                  <a:pt x="9674" y="14461"/>
                </a:cubicBezTo>
                <a:cubicBezTo>
                  <a:pt x="9635" y="14469"/>
                  <a:pt x="9627" y="14457"/>
                  <a:pt x="9599" y="14436"/>
                </a:cubicBezTo>
              </a:path>
              <a:path w="1539" h="918">
                <a:moveTo>
                  <a:pt x="9649" y="14387"/>
                </a:moveTo>
                <a:cubicBezTo>
                  <a:pt x="9687" y="14349"/>
                  <a:pt x="9820" y="14251"/>
                  <a:pt x="9847" y="14188"/>
                </a:cubicBezTo>
                <a:cubicBezTo>
                  <a:pt x="9847" y="14180"/>
                  <a:pt x="9847" y="14171"/>
                  <a:pt x="9847" y="14163"/>
                </a:cubicBezTo>
                <a:cubicBezTo>
                  <a:pt x="9815" y="14208"/>
                  <a:pt x="9801" y="14253"/>
                  <a:pt x="9798" y="14312"/>
                </a:cubicBezTo>
                <a:cubicBezTo>
                  <a:pt x="9794" y="14406"/>
                  <a:pt x="9814" y="14424"/>
                  <a:pt x="9897" y="14436"/>
                </a:cubicBezTo>
              </a:path>
              <a:path w="1539" h="918">
                <a:moveTo>
                  <a:pt x="9971" y="13891"/>
                </a:moveTo>
                <a:cubicBezTo>
                  <a:pt x="10090" y="13840"/>
                  <a:pt x="10168" y="13801"/>
                  <a:pt x="10244" y="13940"/>
                </a:cubicBezTo>
                <a:cubicBezTo>
                  <a:pt x="10330" y="14098"/>
                  <a:pt x="10333" y="14265"/>
                  <a:pt x="10294" y="14436"/>
                </a:cubicBezTo>
                <a:cubicBezTo>
                  <a:pt x="10270" y="14508"/>
                  <a:pt x="10264" y="14531"/>
                  <a:pt x="10220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1760" y="5072040"/>
            <a:ext cx="10620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1063" y="14089"/>
                </a:moveTo>
                <a:cubicBezTo>
                  <a:pt x="11071" y="14089"/>
                  <a:pt x="11080" y="14089"/>
                  <a:pt x="11088" y="14089"/>
                </a:cubicBezTo>
                <a:cubicBezTo>
                  <a:pt x="11019" y="14089"/>
                  <a:pt x="11003" y="14098"/>
                  <a:pt x="10939" y="14114"/>
                </a:cubicBezTo>
                <a:cubicBezTo>
                  <a:pt x="10904" y="14114"/>
                  <a:pt x="10886" y="14119"/>
                  <a:pt x="10864" y="14139"/>
                </a:cubicBezTo>
              </a:path>
              <a:path w="299" h="274">
                <a:moveTo>
                  <a:pt x="11112" y="14312"/>
                </a:moveTo>
                <a:cubicBezTo>
                  <a:pt x="11153" y="14332"/>
                  <a:pt x="11169" y="14330"/>
                  <a:pt x="11162" y="14362"/>
                </a:cubicBezTo>
                <a:cubicBezTo>
                  <a:pt x="11121" y="14362"/>
                  <a:pt x="11079" y="14362"/>
                  <a:pt x="11038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56080" y="4929120"/>
            <a:ext cx="1152720" cy="401760"/>
          </a:xfrm>
          <a:custGeom>
            <a:avLst/>
            <a:gdLst/>
            <a:ahLst/>
            <a:rect l="l" t="t" r="r" b="b"/>
            <a:pathLst>
              <a:path w="3200" h="1117">
                <a:moveTo>
                  <a:pt x="12650" y="14263"/>
                </a:moveTo>
                <a:cubicBezTo>
                  <a:pt x="12667" y="14255"/>
                  <a:pt x="12683" y="14246"/>
                  <a:pt x="12700" y="14238"/>
                </a:cubicBezTo>
                <a:cubicBezTo>
                  <a:pt x="12593" y="14238"/>
                  <a:pt x="12485" y="14238"/>
                  <a:pt x="12378" y="14238"/>
                </a:cubicBezTo>
              </a:path>
              <a:path w="3200" h="1117">
                <a:moveTo>
                  <a:pt x="13146" y="13742"/>
                </a:moveTo>
                <a:cubicBezTo>
                  <a:pt x="13154" y="13725"/>
                  <a:pt x="13163" y="13709"/>
                  <a:pt x="13171" y="13692"/>
                </a:cubicBezTo>
                <a:cubicBezTo>
                  <a:pt x="13171" y="13774"/>
                  <a:pt x="13149" y="13834"/>
                  <a:pt x="13146" y="13915"/>
                </a:cubicBezTo>
                <a:cubicBezTo>
                  <a:pt x="13143" y="14010"/>
                  <a:pt x="13147" y="14051"/>
                  <a:pt x="13171" y="14139"/>
                </a:cubicBezTo>
              </a:path>
              <a:path w="3200" h="1117">
                <a:moveTo>
                  <a:pt x="13395" y="14213"/>
                </a:moveTo>
                <a:cubicBezTo>
                  <a:pt x="13362" y="14262"/>
                  <a:pt x="13290" y="14225"/>
                  <a:pt x="13221" y="14238"/>
                </a:cubicBezTo>
                <a:cubicBezTo>
                  <a:pt x="13140" y="14254"/>
                  <a:pt x="13082" y="14263"/>
                  <a:pt x="12998" y="14263"/>
                </a:cubicBezTo>
                <a:cubicBezTo>
                  <a:pt x="12990" y="14263"/>
                  <a:pt x="12981" y="14263"/>
                  <a:pt x="12973" y="14263"/>
                </a:cubicBezTo>
              </a:path>
              <a:path w="3200" h="1117">
                <a:moveTo>
                  <a:pt x="13122" y="14511"/>
                </a:moveTo>
                <a:cubicBezTo>
                  <a:pt x="13097" y="14511"/>
                  <a:pt x="13089" y="14511"/>
                  <a:pt x="13072" y="14511"/>
                </a:cubicBezTo>
                <a:cubicBezTo>
                  <a:pt x="13120" y="14499"/>
                  <a:pt x="13168" y="14470"/>
                  <a:pt x="13221" y="14461"/>
                </a:cubicBezTo>
                <a:cubicBezTo>
                  <a:pt x="13278" y="14451"/>
                  <a:pt x="13338" y="14461"/>
                  <a:pt x="13320" y="14536"/>
                </a:cubicBezTo>
                <a:cubicBezTo>
                  <a:pt x="13301" y="14615"/>
                  <a:pt x="13222" y="14668"/>
                  <a:pt x="13196" y="14734"/>
                </a:cubicBezTo>
                <a:cubicBezTo>
                  <a:pt x="13196" y="14775"/>
                  <a:pt x="13196" y="14783"/>
                  <a:pt x="13196" y="14808"/>
                </a:cubicBezTo>
                <a:cubicBezTo>
                  <a:pt x="13260" y="14808"/>
                  <a:pt x="13307" y="14793"/>
                  <a:pt x="13370" y="14784"/>
                </a:cubicBezTo>
                <a:cubicBezTo>
                  <a:pt x="13429" y="14784"/>
                  <a:pt x="13455" y="14781"/>
                  <a:pt x="13494" y="14759"/>
                </a:cubicBezTo>
              </a:path>
              <a:path w="3200" h="1117">
                <a:moveTo>
                  <a:pt x="13767" y="14486"/>
                </a:moveTo>
                <a:cubicBezTo>
                  <a:pt x="13809" y="14486"/>
                  <a:pt x="13908" y="14478"/>
                  <a:pt x="13940" y="14461"/>
                </a:cubicBezTo>
                <a:cubicBezTo>
                  <a:pt x="14010" y="14423"/>
                  <a:pt x="14091" y="14365"/>
                  <a:pt x="14139" y="14312"/>
                </a:cubicBezTo>
                <a:cubicBezTo>
                  <a:pt x="14161" y="14290"/>
                  <a:pt x="14169" y="14285"/>
                  <a:pt x="14163" y="14263"/>
                </a:cubicBezTo>
                <a:cubicBezTo>
                  <a:pt x="14090" y="14263"/>
                  <a:pt x="14026" y="14265"/>
                  <a:pt x="13965" y="14312"/>
                </a:cubicBezTo>
                <a:cubicBezTo>
                  <a:pt x="13914" y="14351"/>
                  <a:pt x="13869" y="14418"/>
                  <a:pt x="13891" y="14486"/>
                </a:cubicBezTo>
                <a:cubicBezTo>
                  <a:pt x="13917" y="14568"/>
                  <a:pt x="14013" y="14577"/>
                  <a:pt x="14089" y="14560"/>
                </a:cubicBezTo>
                <a:cubicBezTo>
                  <a:pt x="14139" y="14536"/>
                  <a:pt x="14155" y="14528"/>
                  <a:pt x="14188" y="14511"/>
                </a:cubicBezTo>
              </a:path>
              <a:path w="3200" h="1117">
                <a:moveTo>
                  <a:pt x="14486" y="14263"/>
                </a:moveTo>
                <a:cubicBezTo>
                  <a:pt x="14478" y="14255"/>
                  <a:pt x="14469" y="14246"/>
                  <a:pt x="14461" y="14238"/>
                </a:cubicBezTo>
                <a:cubicBezTo>
                  <a:pt x="14501" y="14228"/>
                  <a:pt x="14524" y="14200"/>
                  <a:pt x="14560" y="14188"/>
                </a:cubicBezTo>
                <a:cubicBezTo>
                  <a:pt x="14585" y="14188"/>
                  <a:pt x="14593" y="14188"/>
                  <a:pt x="14610" y="14188"/>
                </a:cubicBezTo>
              </a:path>
              <a:path w="3200" h="1117">
                <a:moveTo>
                  <a:pt x="14858" y="14015"/>
                </a:moveTo>
                <a:cubicBezTo>
                  <a:pt x="14839" y="13971"/>
                  <a:pt x="14822" y="13933"/>
                  <a:pt x="14858" y="13915"/>
                </a:cubicBezTo>
                <a:cubicBezTo>
                  <a:pt x="14878" y="13905"/>
                  <a:pt x="14937" y="13892"/>
                  <a:pt x="14957" y="13891"/>
                </a:cubicBezTo>
                <a:cubicBezTo>
                  <a:pt x="15002" y="13888"/>
                  <a:pt x="15027" y="13904"/>
                  <a:pt x="15032" y="13940"/>
                </a:cubicBezTo>
                <a:cubicBezTo>
                  <a:pt x="15039" y="13993"/>
                  <a:pt x="15017" y="14026"/>
                  <a:pt x="14982" y="14064"/>
                </a:cubicBezTo>
                <a:cubicBezTo>
                  <a:pt x="14947" y="14102"/>
                  <a:pt x="14957" y="14138"/>
                  <a:pt x="14957" y="14188"/>
                </a:cubicBezTo>
                <a:cubicBezTo>
                  <a:pt x="14957" y="14237"/>
                  <a:pt x="15021" y="14256"/>
                  <a:pt x="15056" y="14263"/>
                </a:cubicBezTo>
                <a:cubicBezTo>
                  <a:pt x="15073" y="14263"/>
                  <a:pt x="15089" y="14263"/>
                  <a:pt x="15106" y="14263"/>
                </a:cubicBezTo>
              </a:path>
              <a:path w="3200" h="1117">
                <a:moveTo>
                  <a:pt x="15205" y="14139"/>
                </a:moveTo>
                <a:cubicBezTo>
                  <a:pt x="15197" y="14131"/>
                  <a:pt x="15188" y="14122"/>
                  <a:pt x="15180" y="14114"/>
                </a:cubicBezTo>
                <a:cubicBezTo>
                  <a:pt x="15226" y="14114"/>
                  <a:pt x="15239" y="14094"/>
                  <a:pt x="15280" y="14089"/>
                </a:cubicBezTo>
                <a:cubicBezTo>
                  <a:pt x="15326" y="14084"/>
                  <a:pt x="15349" y="14092"/>
                  <a:pt x="15354" y="14139"/>
                </a:cubicBezTo>
                <a:cubicBezTo>
                  <a:pt x="15358" y="14172"/>
                  <a:pt x="15364" y="14221"/>
                  <a:pt x="15329" y="14238"/>
                </a:cubicBezTo>
                <a:cubicBezTo>
                  <a:pt x="15306" y="14249"/>
                  <a:pt x="15281" y="14257"/>
                  <a:pt x="15255" y="14263"/>
                </a:cubicBezTo>
              </a:path>
              <a:path w="3200" h="1117">
                <a:moveTo>
                  <a:pt x="15453" y="14114"/>
                </a:moveTo>
                <a:cubicBezTo>
                  <a:pt x="15491" y="14057"/>
                  <a:pt x="15529" y="14032"/>
                  <a:pt x="15478" y="14039"/>
                </a:cubicBezTo>
                <a:cubicBezTo>
                  <a:pt x="15445" y="14094"/>
                  <a:pt x="15453" y="14145"/>
                  <a:pt x="15453" y="14213"/>
                </a:cubicBezTo>
                <a:cubicBezTo>
                  <a:pt x="15453" y="14293"/>
                  <a:pt x="15506" y="14263"/>
                  <a:pt x="15577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52052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272" y="14461"/>
                </a:moveTo>
                <a:cubicBezTo>
                  <a:pt x="16205" y="14461"/>
                  <a:pt x="16159" y="14476"/>
                  <a:pt x="16098" y="14486"/>
                </a:cubicBezTo>
                <a:cubicBezTo>
                  <a:pt x="16049" y="14486"/>
                  <a:pt x="16032" y="14486"/>
                  <a:pt x="15999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6120" y="5089680"/>
            <a:ext cx="1187640" cy="339480"/>
          </a:xfrm>
          <a:custGeom>
            <a:avLst/>
            <a:gdLst/>
            <a:ahLst/>
            <a:rect l="l" t="t" r="r" b="b"/>
            <a:pathLst>
              <a:path w="3300" h="943">
                <a:moveTo>
                  <a:pt x="17041" y="14784"/>
                </a:moveTo>
                <a:cubicBezTo>
                  <a:pt x="17041" y="14792"/>
                  <a:pt x="17041" y="14800"/>
                  <a:pt x="17041" y="14808"/>
                </a:cubicBezTo>
                <a:cubicBezTo>
                  <a:pt x="17055" y="14767"/>
                  <a:pt x="17046" y="14772"/>
                  <a:pt x="17066" y="14734"/>
                </a:cubicBezTo>
                <a:cubicBezTo>
                  <a:pt x="17113" y="14643"/>
                  <a:pt x="17201" y="14540"/>
                  <a:pt x="17264" y="14461"/>
                </a:cubicBezTo>
                <a:cubicBezTo>
                  <a:pt x="17318" y="14393"/>
                  <a:pt x="17414" y="14300"/>
                  <a:pt x="17438" y="14213"/>
                </a:cubicBezTo>
                <a:cubicBezTo>
                  <a:pt x="17444" y="14191"/>
                  <a:pt x="17435" y="14162"/>
                  <a:pt x="17438" y="14139"/>
                </a:cubicBezTo>
                <a:cubicBezTo>
                  <a:pt x="17372" y="14165"/>
                  <a:pt x="17337" y="14176"/>
                  <a:pt x="17289" y="14238"/>
                </a:cubicBezTo>
                <a:cubicBezTo>
                  <a:pt x="17224" y="14322"/>
                  <a:pt x="17170" y="14378"/>
                  <a:pt x="17165" y="14486"/>
                </a:cubicBezTo>
                <a:cubicBezTo>
                  <a:pt x="17161" y="14590"/>
                  <a:pt x="17169" y="14665"/>
                  <a:pt x="17214" y="14759"/>
                </a:cubicBezTo>
                <a:cubicBezTo>
                  <a:pt x="17232" y="14797"/>
                  <a:pt x="17292" y="14895"/>
                  <a:pt x="17338" y="14908"/>
                </a:cubicBezTo>
                <a:cubicBezTo>
                  <a:pt x="17400" y="14926"/>
                  <a:pt x="17424" y="14896"/>
                  <a:pt x="17462" y="14858"/>
                </a:cubicBezTo>
                <a:cubicBezTo>
                  <a:pt x="17484" y="14836"/>
                  <a:pt x="17529" y="14792"/>
                  <a:pt x="17562" y="14759"/>
                </a:cubicBezTo>
                <a:cubicBezTo>
                  <a:pt x="17614" y="14708"/>
                  <a:pt x="17593" y="14753"/>
                  <a:pt x="17636" y="14759"/>
                </a:cubicBezTo>
                <a:cubicBezTo>
                  <a:pt x="17682" y="14765"/>
                  <a:pt x="17695" y="14739"/>
                  <a:pt x="17735" y="14734"/>
                </a:cubicBezTo>
                <a:cubicBezTo>
                  <a:pt x="17832" y="14721"/>
                  <a:pt x="17802" y="14759"/>
                  <a:pt x="17859" y="14808"/>
                </a:cubicBezTo>
                <a:cubicBezTo>
                  <a:pt x="17889" y="14834"/>
                  <a:pt x="17943" y="14899"/>
                  <a:pt x="17959" y="14908"/>
                </a:cubicBezTo>
                <a:cubicBezTo>
                  <a:pt x="17967" y="14908"/>
                  <a:pt x="17975" y="14908"/>
                  <a:pt x="17983" y="14908"/>
                </a:cubicBezTo>
              </a:path>
              <a:path w="3300" h="943">
                <a:moveTo>
                  <a:pt x="18554" y="14312"/>
                </a:moveTo>
                <a:cubicBezTo>
                  <a:pt x="18581" y="14277"/>
                  <a:pt x="18579" y="14282"/>
                  <a:pt x="18579" y="14238"/>
                </a:cubicBezTo>
                <a:cubicBezTo>
                  <a:pt x="18509" y="14266"/>
                  <a:pt x="18447" y="14318"/>
                  <a:pt x="18405" y="14387"/>
                </a:cubicBezTo>
                <a:cubicBezTo>
                  <a:pt x="18329" y="14512"/>
                  <a:pt x="18300" y="14645"/>
                  <a:pt x="18331" y="14784"/>
                </a:cubicBezTo>
                <a:cubicBezTo>
                  <a:pt x="18346" y="14851"/>
                  <a:pt x="18391" y="14900"/>
                  <a:pt x="18405" y="14957"/>
                </a:cubicBezTo>
              </a:path>
              <a:path w="3300" h="943">
                <a:moveTo>
                  <a:pt x="18728" y="14536"/>
                </a:moveTo>
                <a:cubicBezTo>
                  <a:pt x="18728" y="14467"/>
                  <a:pt x="18728" y="14675"/>
                  <a:pt x="18728" y="14684"/>
                </a:cubicBezTo>
                <a:cubicBezTo>
                  <a:pt x="18728" y="14768"/>
                  <a:pt x="18703" y="14889"/>
                  <a:pt x="18752" y="14957"/>
                </a:cubicBezTo>
              </a:path>
              <a:path w="3300" h="943">
                <a:moveTo>
                  <a:pt x="19050" y="14833"/>
                </a:moveTo>
                <a:cubicBezTo>
                  <a:pt x="19088" y="14796"/>
                  <a:pt x="19097" y="14784"/>
                  <a:pt x="19149" y="14784"/>
                </a:cubicBezTo>
                <a:cubicBezTo>
                  <a:pt x="19207" y="14784"/>
                  <a:pt x="19265" y="14784"/>
                  <a:pt x="19323" y="14784"/>
                </a:cubicBezTo>
              </a:path>
              <a:path w="3300" h="943">
                <a:moveTo>
                  <a:pt x="19596" y="14709"/>
                </a:moveTo>
                <a:cubicBezTo>
                  <a:pt x="19642" y="14709"/>
                  <a:pt x="19660" y="14703"/>
                  <a:pt x="19695" y="14734"/>
                </a:cubicBezTo>
                <a:cubicBezTo>
                  <a:pt x="19720" y="14756"/>
                  <a:pt x="19743" y="14801"/>
                  <a:pt x="19745" y="14833"/>
                </a:cubicBezTo>
                <a:cubicBezTo>
                  <a:pt x="19751" y="14910"/>
                  <a:pt x="19747" y="14926"/>
                  <a:pt x="19670" y="14932"/>
                </a:cubicBezTo>
                <a:cubicBezTo>
                  <a:pt x="19617" y="14936"/>
                  <a:pt x="19590" y="14919"/>
                  <a:pt x="19546" y="14908"/>
                </a:cubicBezTo>
              </a:path>
              <a:path w="3300" h="943">
                <a:moveTo>
                  <a:pt x="19869" y="14784"/>
                </a:moveTo>
                <a:cubicBezTo>
                  <a:pt x="19869" y="14767"/>
                  <a:pt x="19869" y="14751"/>
                  <a:pt x="19869" y="14734"/>
                </a:cubicBezTo>
                <a:cubicBezTo>
                  <a:pt x="19819" y="14747"/>
                  <a:pt x="19798" y="14776"/>
                  <a:pt x="19794" y="14833"/>
                </a:cubicBezTo>
                <a:cubicBezTo>
                  <a:pt x="19791" y="14872"/>
                  <a:pt x="19825" y="14966"/>
                  <a:pt x="19869" y="14982"/>
                </a:cubicBezTo>
                <a:cubicBezTo>
                  <a:pt x="19913" y="14998"/>
                  <a:pt x="19956" y="14973"/>
                  <a:pt x="19993" y="14957"/>
                </a:cubicBezTo>
              </a:path>
              <a:path w="3300" h="943">
                <a:moveTo>
                  <a:pt x="20117" y="14312"/>
                </a:moveTo>
                <a:cubicBezTo>
                  <a:pt x="20206" y="14290"/>
                  <a:pt x="20249" y="14317"/>
                  <a:pt x="20290" y="14412"/>
                </a:cubicBezTo>
                <a:cubicBezTo>
                  <a:pt x="20336" y="14518"/>
                  <a:pt x="20316" y="14627"/>
                  <a:pt x="20290" y="14734"/>
                </a:cubicBezTo>
                <a:cubicBezTo>
                  <a:pt x="20255" y="14875"/>
                  <a:pt x="20195" y="14939"/>
                  <a:pt x="20092" y="15032"/>
                </a:cubicBezTo>
                <a:cubicBezTo>
                  <a:pt x="20075" y="15048"/>
                  <a:pt x="20059" y="15065"/>
                  <a:pt x="20042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72240" y="5224320"/>
            <a:ext cx="928800" cy="268560"/>
          </a:xfrm>
          <a:custGeom>
            <a:avLst/>
            <a:gdLst/>
            <a:ahLst/>
            <a:rect l="l" t="t" r="r" b="b"/>
            <a:pathLst>
              <a:path w="2581" h="745">
                <a:moveTo>
                  <a:pt x="21282" y="14883"/>
                </a:moveTo>
                <a:cubicBezTo>
                  <a:pt x="21352" y="14883"/>
                  <a:pt x="21369" y="14900"/>
                  <a:pt x="21307" y="14883"/>
                </a:cubicBezTo>
                <a:cubicBezTo>
                  <a:pt x="21242" y="14866"/>
                  <a:pt x="21154" y="14838"/>
                  <a:pt x="21084" y="14858"/>
                </a:cubicBezTo>
                <a:cubicBezTo>
                  <a:pt x="21067" y="14866"/>
                  <a:pt x="21051" y="14875"/>
                  <a:pt x="21034" y="14883"/>
                </a:cubicBezTo>
              </a:path>
              <a:path w="2581" h="745">
                <a:moveTo>
                  <a:pt x="21158" y="14684"/>
                </a:moveTo>
                <a:cubicBezTo>
                  <a:pt x="21194" y="14696"/>
                  <a:pt x="21196" y="14760"/>
                  <a:pt x="21183" y="14808"/>
                </a:cubicBezTo>
                <a:cubicBezTo>
                  <a:pt x="21164" y="14876"/>
                  <a:pt x="21123" y="14939"/>
                  <a:pt x="21109" y="15007"/>
                </a:cubicBezTo>
              </a:path>
              <a:path w="2581" h="745">
                <a:moveTo>
                  <a:pt x="21828" y="14511"/>
                </a:moveTo>
                <a:cubicBezTo>
                  <a:pt x="21828" y="14589"/>
                  <a:pt x="21821" y="14592"/>
                  <a:pt x="21779" y="14660"/>
                </a:cubicBezTo>
                <a:cubicBezTo>
                  <a:pt x="21741" y="14723"/>
                  <a:pt x="21708" y="14786"/>
                  <a:pt x="21704" y="14858"/>
                </a:cubicBezTo>
                <a:cubicBezTo>
                  <a:pt x="21701" y="14917"/>
                  <a:pt x="21741" y="14967"/>
                  <a:pt x="21803" y="14982"/>
                </a:cubicBezTo>
                <a:cubicBezTo>
                  <a:pt x="21869" y="14998"/>
                  <a:pt x="21959" y="15003"/>
                  <a:pt x="22027" y="15007"/>
                </a:cubicBezTo>
                <a:cubicBezTo>
                  <a:pt x="22077" y="15010"/>
                  <a:pt x="22178" y="15015"/>
                  <a:pt x="22225" y="15032"/>
                </a:cubicBezTo>
                <a:cubicBezTo>
                  <a:pt x="22244" y="15039"/>
                  <a:pt x="22300" y="15056"/>
                  <a:pt x="22250" y="15056"/>
                </a:cubicBezTo>
              </a:path>
              <a:path w="2581" h="745">
                <a:moveTo>
                  <a:pt x="22076" y="14883"/>
                </a:moveTo>
                <a:cubicBezTo>
                  <a:pt x="22068" y="14875"/>
                  <a:pt x="22059" y="14866"/>
                  <a:pt x="22051" y="14858"/>
                </a:cubicBezTo>
                <a:cubicBezTo>
                  <a:pt x="22016" y="14894"/>
                  <a:pt x="21986" y="14930"/>
                  <a:pt x="21977" y="14982"/>
                </a:cubicBezTo>
                <a:cubicBezTo>
                  <a:pt x="21977" y="15032"/>
                  <a:pt x="21977" y="15048"/>
                  <a:pt x="21977" y="15081"/>
                </a:cubicBezTo>
              </a:path>
              <a:path w="2581" h="745">
                <a:moveTo>
                  <a:pt x="22622" y="15106"/>
                </a:moveTo>
                <a:cubicBezTo>
                  <a:pt x="22630" y="15106"/>
                  <a:pt x="22639" y="15106"/>
                  <a:pt x="22647" y="15106"/>
                </a:cubicBezTo>
              </a:path>
              <a:path w="2581" h="745">
                <a:moveTo>
                  <a:pt x="23143" y="14858"/>
                </a:moveTo>
                <a:cubicBezTo>
                  <a:pt x="23166" y="14835"/>
                  <a:pt x="23174" y="14831"/>
                  <a:pt x="23168" y="14808"/>
                </a:cubicBezTo>
                <a:cubicBezTo>
                  <a:pt x="23111" y="14853"/>
                  <a:pt x="23087" y="14875"/>
                  <a:pt x="23044" y="14932"/>
                </a:cubicBezTo>
                <a:cubicBezTo>
                  <a:pt x="23013" y="14973"/>
                  <a:pt x="23021" y="15016"/>
                  <a:pt x="23068" y="15056"/>
                </a:cubicBezTo>
                <a:cubicBezTo>
                  <a:pt x="23130" y="15109"/>
                  <a:pt x="23224" y="15113"/>
                  <a:pt x="23292" y="15156"/>
                </a:cubicBezTo>
                <a:cubicBezTo>
                  <a:pt x="23327" y="15179"/>
                  <a:pt x="23351" y="15200"/>
                  <a:pt x="23366" y="15230"/>
                </a:cubicBezTo>
                <a:cubicBezTo>
                  <a:pt x="23353" y="15270"/>
                  <a:pt x="23318" y="15255"/>
                  <a:pt x="23267" y="15255"/>
                </a:cubicBezTo>
                <a:cubicBezTo>
                  <a:pt x="23198" y="15255"/>
                  <a:pt x="23131" y="15229"/>
                  <a:pt x="23068" y="15205"/>
                </a:cubicBezTo>
              </a:path>
              <a:path w="2581" h="745">
                <a:moveTo>
                  <a:pt x="23614" y="14883"/>
                </a:moveTo>
                <a:cubicBezTo>
                  <a:pt x="23614" y="14838"/>
                  <a:pt x="23616" y="14812"/>
                  <a:pt x="23564" y="14808"/>
                </a:cubicBezTo>
                <a:cubicBezTo>
                  <a:pt x="23472" y="14801"/>
                  <a:pt x="23382" y="14782"/>
                  <a:pt x="23292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3451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67200" y="1009800"/>
            <a:ext cx="81000" cy="1332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13543" y="2952"/>
                </a:moveTo>
                <a:cubicBezTo>
                  <a:pt x="13522" y="2945"/>
                  <a:pt x="13500" y="2912"/>
                  <a:pt x="13519" y="2877"/>
                </a:cubicBezTo>
                <a:cubicBezTo>
                  <a:pt x="13535" y="2848"/>
                  <a:pt x="13591" y="2812"/>
                  <a:pt x="13618" y="2803"/>
                </a:cubicBezTo>
                <a:cubicBezTo>
                  <a:pt x="13658" y="2790"/>
                  <a:pt x="13681" y="2820"/>
                  <a:pt x="13692" y="2853"/>
                </a:cubicBezTo>
                <a:cubicBezTo>
                  <a:pt x="13706" y="2895"/>
                  <a:pt x="13691" y="2946"/>
                  <a:pt x="13667" y="2977"/>
                </a:cubicBezTo>
                <a:cubicBezTo>
                  <a:pt x="13631" y="3022"/>
                  <a:pt x="13626" y="3052"/>
                  <a:pt x="13692" y="3076"/>
                </a:cubicBezTo>
                <a:cubicBezTo>
                  <a:pt x="13719" y="3086"/>
                  <a:pt x="13768" y="3104"/>
                  <a:pt x="13742" y="3150"/>
                </a:cubicBezTo>
                <a:cubicBezTo>
                  <a:pt x="13734" y="3158"/>
                  <a:pt x="13725" y="3167"/>
                  <a:pt x="13717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3040" y="1303200"/>
            <a:ext cx="544320" cy="26064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14610" y="3795"/>
                </a:moveTo>
                <a:cubicBezTo>
                  <a:pt x="14610" y="3728"/>
                  <a:pt x="14606" y="3698"/>
                  <a:pt x="14560" y="3646"/>
                </a:cubicBezTo>
                <a:cubicBezTo>
                  <a:pt x="14536" y="3618"/>
                  <a:pt x="14472" y="3602"/>
                  <a:pt x="14436" y="3621"/>
                </a:cubicBezTo>
                <a:cubicBezTo>
                  <a:pt x="14373" y="3653"/>
                  <a:pt x="14364" y="3764"/>
                  <a:pt x="14362" y="3820"/>
                </a:cubicBezTo>
                <a:cubicBezTo>
                  <a:pt x="14357" y="3968"/>
                  <a:pt x="14362" y="4118"/>
                  <a:pt x="14362" y="4266"/>
                </a:cubicBezTo>
              </a:path>
              <a:path w="1514" h="721">
                <a:moveTo>
                  <a:pt x="14461" y="4118"/>
                </a:moveTo>
                <a:cubicBezTo>
                  <a:pt x="14461" y="4093"/>
                  <a:pt x="14461" y="4085"/>
                  <a:pt x="14461" y="4068"/>
                </a:cubicBezTo>
                <a:cubicBezTo>
                  <a:pt x="14408" y="4081"/>
                  <a:pt x="14376" y="4093"/>
                  <a:pt x="14312" y="4093"/>
                </a:cubicBezTo>
              </a:path>
              <a:path w="1514" h="721">
                <a:moveTo>
                  <a:pt x="14932" y="3696"/>
                </a:moveTo>
                <a:cubicBezTo>
                  <a:pt x="14940" y="3688"/>
                  <a:pt x="14949" y="3679"/>
                  <a:pt x="14957" y="3671"/>
                </a:cubicBezTo>
                <a:cubicBezTo>
                  <a:pt x="14919" y="3681"/>
                  <a:pt x="14845" y="3756"/>
                  <a:pt x="14833" y="3795"/>
                </a:cubicBezTo>
                <a:cubicBezTo>
                  <a:pt x="14804" y="3891"/>
                  <a:pt x="14822" y="3977"/>
                  <a:pt x="14833" y="4068"/>
                </a:cubicBezTo>
                <a:cubicBezTo>
                  <a:pt x="14843" y="4146"/>
                  <a:pt x="14835" y="4157"/>
                  <a:pt x="14883" y="4217"/>
                </a:cubicBezTo>
              </a:path>
              <a:path w="1514" h="721">
                <a:moveTo>
                  <a:pt x="14957" y="4142"/>
                </a:moveTo>
                <a:cubicBezTo>
                  <a:pt x="14964" y="4096"/>
                  <a:pt x="14979" y="4042"/>
                  <a:pt x="15032" y="4018"/>
                </a:cubicBezTo>
                <a:cubicBezTo>
                  <a:pt x="15062" y="4004"/>
                  <a:pt x="15114" y="4018"/>
                  <a:pt x="15131" y="4043"/>
                </a:cubicBezTo>
                <a:cubicBezTo>
                  <a:pt x="15152" y="4074"/>
                  <a:pt x="15175" y="4154"/>
                  <a:pt x="15156" y="4192"/>
                </a:cubicBezTo>
                <a:cubicBezTo>
                  <a:pt x="15139" y="4227"/>
                  <a:pt x="15112" y="4217"/>
                  <a:pt x="15081" y="4217"/>
                </a:cubicBezTo>
              </a:path>
              <a:path w="1514" h="721">
                <a:moveTo>
                  <a:pt x="15304" y="3994"/>
                </a:moveTo>
                <a:cubicBezTo>
                  <a:pt x="15270" y="4005"/>
                  <a:pt x="15244" y="4068"/>
                  <a:pt x="15255" y="4118"/>
                </a:cubicBezTo>
                <a:cubicBezTo>
                  <a:pt x="15270" y="4183"/>
                  <a:pt x="15324" y="4236"/>
                  <a:pt x="15379" y="4242"/>
                </a:cubicBezTo>
                <a:cubicBezTo>
                  <a:pt x="15420" y="4242"/>
                  <a:pt x="15428" y="4242"/>
                  <a:pt x="15453" y="4242"/>
                </a:cubicBezTo>
              </a:path>
              <a:path w="1514" h="721">
                <a:moveTo>
                  <a:pt x="15453" y="3721"/>
                </a:moveTo>
                <a:cubicBezTo>
                  <a:pt x="15489" y="3685"/>
                  <a:pt x="15562" y="3588"/>
                  <a:pt x="15627" y="3621"/>
                </a:cubicBezTo>
                <a:cubicBezTo>
                  <a:pt x="15699" y="3657"/>
                  <a:pt x="15754" y="3801"/>
                  <a:pt x="15776" y="3870"/>
                </a:cubicBezTo>
                <a:cubicBezTo>
                  <a:pt x="15820" y="4009"/>
                  <a:pt x="15819" y="4106"/>
                  <a:pt x="15801" y="4242"/>
                </a:cubicBezTo>
                <a:cubicBezTo>
                  <a:pt x="15801" y="4298"/>
                  <a:pt x="15796" y="4320"/>
                  <a:pt x="15751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8120" y="1320840"/>
            <a:ext cx="3762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6793" y="4142"/>
                </a:moveTo>
                <a:cubicBezTo>
                  <a:pt x="16836" y="4111"/>
                  <a:pt x="16842" y="4123"/>
                  <a:pt x="16842" y="4068"/>
                </a:cubicBezTo>
                <a:cubicBezTo>
                  <a:pt x="16782" y="4083"/>
                  <a:pt x="16771" y="4137"/>
                  <a:pt x="16743" y="4192"/>
                </a:cubicBezTo>
                <a:cubicBezTo>
                  <a:pt x="16712" y="4254"/>
                  <a:pt x="16711" y="4262"/>
                  <a:pt x="16743" y="4316"/>
                </a:cubicBezTo>
                <a:cubicBezTo>
                  <a:pt x="16830" y="4294"/>
                  <a:pt x="16843" y="4225"/>
                  <a:pt x="16867" y="4142"/>
                </a:cubicBezTo>
                <a:cubicBezTo>
                  <a:pt x="16900" y="4029"/>
                  <a:pt x="16925" y="3887"/>
                  <a:pt x="16942" y="3770"/>
                </a:cubicBezTo>
                <a:cubicBezTo>
                  <a:pt x="16942" y="3745"/>
                  <a:pt x="16942" y="3721"/>
                  <a:pt x="16942" y="3696"/>
                </a:cubicBezTo>
                <a:cubicBezTo>
                  <a:pt x="16942" y="3622"/>
                  <a:pt x="16942" y="3818"/>
                  <a:pt x="16942" y="3820"/>
                </a:cubicBezTo>
                <a:cubicBezTo>
                  <a:pt x="16942" y="3923"/>
                  <a:pt x="16953" y="4049"/>
                  <a:pt x="16991" y="4142"/>
                </a:cubicBezTo>
                <a:cubicBezTo>
                  <a:pt x="17009" y="4186"/>
                  <a:pt x="17031" y="4202"/>
                  <a:pt x="17041" y="4242"/>
                </a:cubicBezTo>
              </a:path>
              <a:path w="1043" h="646">
                <a:moveTo>
                  <a:pt x="17190" y="4043"/>
                </a:moveTo>
                <a:cubicBezTo>
                  <a:pt x="17221" y="4000"/>
                  <a:pt x="17209" y="3994"/>
                  <a:pt x="17264" y="3994"/>
                </a:cubicBezTo>
                <a:cubicBezTo>
                  <a:pt x="17312" y="3994"/>
                  <a:pt x="17349" y="4050"/>
                  <a:pt x="17363" y="4093"/>
                </a:cubicBezTo>
                <a:cubicBezTo>
                  <a:pt x="17372" y="4121"/>
                  <a:pt x="17363" y="4162"/>
                  <a:pt x="17363" y="4192"/>
                </a:cubicBezTo>
                <a:cubicBezTo>
                  <a:pt x="17322" y="4192"/>
                  <a:pt x="17280" y="4192"/>
                  <a:pt x="17239" y="4192"/>
                </a:cubicBezTo>
              </a:path>
              <a:path w="1043" h="646">
                <a:moveTo>
                  <a:pt x="17512" y="4043"/>
                </a:moveTo>
                <a:cubicBezTo>
                  <a:pt x="17520" y="4018"/>
                  <a:pt x="17529" y="3994"/>
                  <a:pt x="17537" y="3969"/>
                </a:cubicBezTo>
                <a:cubicBezTo>
                  <a:pt x="17472" y="3982"/>
                  <a:pt x="17426" y="4020"/>
                  <a:pt x="17413" y="4093"/>
                </a:cubicBezTo>
                <a:cubicBezTo>
                  <a:pt x="17396" y="4194"/>
                  <a:pt x="17495" y="4273"/>
                  <a:pt x="17587" y="4291"/>
                </a:cubicBezTo>
                <a:cubicBezTo>
                  <a:pt x="17668" y="4306"/>
                  <a:pt x="17698" y="4256"/>
                  <a:pt x="17760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11760" y="1490760"/>
            <a:ext cx="1062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1088" y="4192"/>
                </a:moveTo>
                <a:cubicBezTo>
                  <a:pt x="11110" y="4169"/>
                  <a:pt x="11118" y="4164"/>
                  <a:pt x="11112" y="4142"/>
                </a:cubicBezTo>
                <a:cubicBezTo>
                  <a:pt x="11045" y="4142"/>
                  <a:pt x="10973" y="4128"/>
                  <a:pt x="10914" y="4167"/>
                </a:cubicBezTo>
                <a:cubicBezTo>
                  <a:pt x="10891" y="4190"/>
                  <a:pt x="10887" y="4198"/>
                  <a:pt x="10864" y="4192"/>
                </a:cubicBezTo>
              </a:path>
              <a:path w="299" h="150">
                <a:moveTo>
                  <a:pt x="11137" y="4291"/>
                </a:moveTo>
                <a:cubicBezTo>
                  <a:pt x="11145" y="4291"/>
                  <a:pt x="11154" y="4291"/>
                  <a:pt x="11162" y="4291"/>
                </a:cubicBezTo>
                <a:cubicBezTo>
                  <a:pt x="11112" y="4291"/>
                  <a:pt x="11063" y="4291"/>
                  <a:pt x="11013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1411200"/>
            <a:ext cx="22356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12129" y="4167"/>
                </a:moveTo>
                <a:cubicBezTo>
                  <a:pt x="12093" y="4154"/>
                  <a:pt x="12105" y="4137"/>
                  <a:pt x="12105" y="4093"/>
                </a:cubicBezTo>
                <a:cubicBezTo>
                  <a:pt x="12105" y="4044"/>
                  <a:pt x="12138" y="3995"/>
                  <a:pt x="12179" y="3969"/>
                </a:cubicBezTo>
                <a:cubicBezTo>
                  <a:pt x="12251" y="3923"/>
                  <a:pt x="12310" y="3907"/>
                  <a:pt x="12378" y="3944"/>
                </a:cubicBezTo>
                <a:cubicBezTo>
                  <a:pt x="12459" y="3988"/>
                  <a:pt x="12452" y="4003"/>
                  <a:pt x="12452" y="4093"/>
                </a:cubicBezTo>
                <a:cubicBezTo>
                  <a:pt x="12452" y="4159"/>
                  <a:pt x="12395" y="4284"/>
                  <a:pt x="12353" y="4341"/>
                </a:cubicBezTo>
                <a:cubicBezTo>
                  <a:pt x="12314" y="4379"/>
                  <a:pt x="12297" y="4381"/>
                  <a:pt x="12303" y="4415"/>
                </a:cubicBezTo>
                <a:cubicBezTo>
                  <a:pt x="12315" y="4450"/>
                  <a:pt x="12375" y="4474"/>
                  <a:pt x="12427" y="4465"/>
                </a:cubicBezTo>
                <a:cubicBezTo>
                  <a:pt x="12530" y="4447"/>
                  <a:pt x="12618" y="4440"/>
                  <a:pt x="1272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7200" y="1231920"/>
            <a:ext cx="133560" cy="573120"/>
          </a:xfrm>
          <a:custGeom>
            <a:avLst/>
            <a:gdLst/>
            <a:ahLst/>
            <a:rect l="l" t="t" r="r" b="b"/>
            <a:pathLst>
              <a:path w="373" h="1589">
                <a:moveTo>
                  <a:pt x="13816" y="3696"/>
                </a:moveTo>
                <a:cubicBezTo>
                  <a:pt x="13858" y="3696"/>
                  <a:pt x="13866" y="3696"/>
                  <a:pt x="13891" y="3696"/>
                </a:cubicBezTo>
                <a:cubicBezTo>
                  <a:pt x="13891" y="3638"/>
                  <a:pt x="13890" y="3602"/>
                  <a:pt x="13866" y="3547"/>
                </a:cubicBezTo>
                <a:cubicBezTo>
                  <a:pt x="13845" y="3499"/>
                  <a:pt x="13825" y="3427"/>
                  <a:pt x="13767" y="3423"/>
                </a:cubicBezTo>
                <a:cubicBezTo>
                  <a:pt x="13693" y="3418"/>
                  <a:pt x="13671" y="3456"/>
                  <a:pt x="13667" y="3522"/>
                </a:cubicBezTo>
                <a:cubicBezTo>
                  <a:pt x="13661" y="3619"/>
                  <a:pt x="13642" y="3668"/>
                  <a:pt x="13667" y="3770"/>
                </a:cubicBezTo>
                <a:cubicBezTo>
                  <a:pt x="13700" y="3902"/>
                  <a:pt x="13731" y="4036"/>
                  <a:pt x="13767" y="4167"/>
                </a:cubicBezTo>
                <a:cubicBezTo>
                  <a:pt x="13792" y="4257"/>
                  <a:pt x="13809" y="4350"/>
                  <a:pt x="13816" y="4440"/>
                </a:cubicBezTo>
                <a:cubicBezTo>
                  <a:pt x="13816" y="4468"/>
                  <a:pt x="13814" y="4479"/>
                  <a:pt x="13791" y="4490"/>
                </a:cubicBezTo>
                <a:cubicBezTo>
                  <a:pt x="13731" y="4474"/>
                  <a:pt x="13696" y="4425"/>
                  <a:pt x="13643" y="4390"/>
                </a:cubicBezTo>
                <a:cubicBezTo>
                  <a:pt x="13601" y="4362"/>
                  <a:pt x="13558" y="4348"/>
                  <a:pt x="13519" y="4316"/>
                </a:cubicBezTo>
              </a:path>
              <a:path w="373" h="1589">
                <a:moveTo>
                  <a:pt x="13593" y="4887"/>
                </a:moveTo>
                <a:cubicBezTo>
                  <a:pt x="13581" y="4883"/>
                  <a:pt x="13538" y="4836"/>
                  <a:pt x="13568" y="4812"/>
                </a:cubicBezTo>
                <a:cubicBezTo>
                  <a:pt x="13591" y="4794"/>
                  <a:pt x="13633" y="4787"/>
                  <a:pt x="13667" y="4787"/>
                </a:cubicBezTo>
                <a:cubicBezTo>
                  <a:pt x="13742" y="4787"/>
                  <a:pt x="13769" y="4839"/>
                  <a:pt x="13791" y="4911"/>
                </a:cubicBezTo>
                <a:cubicBezTo>
                  <a:pt x="13806" y="4962"/>
                  <a:pt x="13794" y="5005"/>
                  <a:pt x="13742" y="5011"/>
                </a:cubicBezTo>
                <a:cubicBezTo>
                  <a:pt x="13691" y="5017"/>
                  <a:pt x="13635" y="4960"/>
                  <a:pt x="13593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92920" y="141120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9248" y="3919"/>
                </a:moveTo>
                <a:cubicBezTo>
                  <a:pt x="19265" y="3919"/>
                  <a:pt x="19281" y="3919"/>
                  <a:pt x="19298" y="3919"/>
                </a:cubicBezTo>
                <a:cubicBezTo>
                  <a:pt x="19260" y="3932"/>
                  <a:pt x="19277" y="3944"/>
                  <a:pt x="19224" y="3944"/>
                </a:cubicBezTo>
                <a:cubicBezTo>
                  <a:pt x="19199" y="3944"/>
                  <a:pt x="19174" y="3944"/>
                  <a:pt x="19149" y="3944"/>
                </a:cubicBezTo>
              </a:path>
              <a:path w="249" h="224">
                <a:moveTo>
                  <a:pt x="19397" y="4118"/>
                </a:moveTo>
                <a:cubicBezTo>
                  <a:pt x="19348" y="4118"/>
                  <a:pt x="19338" y="4129"/>
                  <a:pt x="19298" y="4142"/>
                </a:cubicBezTo>
                <a:cubicBezTo>
                  <a:pt x="19279" y="4148"/>
                  <a:pt x="19244" y="4142"/>
                  <a:pt x="19224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19960" y="1312920"/>
            <a:ext cx="9720" cy="2239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20638" y="3646"/>
                </a:moveTo>
                <a:cubicBezTo>
                  <a:pt x="20638" y="3711"/>
                  <a:pt x="20622" y="3757"/>
                  <a:pt x="20613" y="3820"/>
                </a:cubicBezTo>
                <a:cubicBezTo>
                  <a:pt x="20593" y="3962"/>
                  <a:pt x="20613" y="4122"/>
                  <a:pt x="20613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89880" y="1347840"/>
            <a:ext cx="135000" cy="20628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21208" y="3770"/>
                </a:moveTo>
                <a:cubicBezTo>
                  <a:pt x="21251" y="3739"/>
                  <a:pt x="21263" y="3734"/>
                  <a:pt x="21258" y="3746"/>
                </a:cubicBezTo>
                <a:cubicBezTo>
                  <a:pt x="21241" y="3788"/>
                  <a:pt x="21209" y="3805"/>
                  <a:pt x="21183" y="3845"/>
                </a:cubicBezTo>
                <a:cubicBezTo>
                  <a:pt x="21133" y="3921"/>
                  <a:pt x="21098" y="3978"/>
                  <a:pt x="21084" y="4068"/>
                </a:cubicBezTo>
                <a:cubicBezTo>
                  <a:pt x="21073" y="4140"/>
                  <a:pt x="21093" y="4206"/>
                  <a:pt x="21134" y="4266"/>
                </a:cubicBezTo>
                <a:cubicBezTo>
                  <a:pt x="21171" y="4320"/>
                  <a:pt x="21225" y="4316"/>
                  <a:pt x="21282" y="4316"/>
                </a:cubicBezTo>
                <a:cubicBezTo>
                  <a:pt x="21334" y="4316"/>
                  <a:pt x="21406" y="4297"/>
                  <a:pt x="21431" y="4242"/>
                </a:cubicBezTo>
                <a:cubicBezTo>
                  <a:pt x="21442" y="4218"/>
                  <a:pt x="21453" y="4167"/>
                  <a:pt x="21456" y="4142"/>
                </a:cubicBezTo>
                <a:cubicBezTo>
                  <a:pt x="21460" y="4107"/>
                  <a:pt x="21430" y="4071"/>
                  <a:pt x="21406" y="4068"/>
                </a:cubicBezTo>
                <a:cubicBezTo>
                  <a:pt x="21348" y="4061"/>
                  <a:pt x="21336" y="4100"/>
                  <a:pt x="21282" y="4118"/>
                </a:cubicBezTo>
                <a:cubicBezTo>
                  <a:pt x="21246" y="4130"/>
                  <a:pt x="21226" y="4142"/>
                  <a:pt x="21183" y="4142"/>
                </a:cubicBezTo>
                <a:cubicBezTo>
                  <a:pt x="21175" y="4142"/>
                  <a:pt x="21166" y="4142"/>
                  <a:pt x="2115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1960" y="2259000"/>
            <a:ext cx="13500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1534" y="6300"/>
                </a:moveTo>
                <a:cubicBezTo>
                  <a:pt x="11542" y="6300"/>
                  <a:pt x="11551" y="6300"/>
                  <a:pt x="11559" y="6300"/>
                </a:cubicBezTo>
                <a:cubicBezTo>
                  <a:pt x="11541" y="6249"/>
                  <a:pt x="11531" y="6297"/>
                  <a:pt x="11485" y="6300"/>
                </a:cubicBezTo>
                <a:cubicBezTo>
                  <a:pt x="11436" y="6303"/>
                  <a:pt x="11385" y="6300"/>
                  <a:pt x="11336" y="6300"/>
                </a:cubicBezTo>
                <a:cubicBezTo>
                  <a:pt x="11336" y="6325"/>
                  <a:pt x="11336" y="6333"/>
                  <a:pt x="11311" y="6325"/>
                </a:cubicBezTo>
              </a:path>
              <a:path w="373" h="199">
                <a:moveTo>
                  <a:pt x="11683" y="6400"/>
                </a:moveTo>
                <a:cubicBezTo>
                  <a:pt x="11683" y="6408"/>
                  <a:pt x="11683" y="6416"/>
                  <a:pt x="11683" y="6424"/>
                </a:cubicBezTo>
                <a:cubicBezTo>
                  <a:pt x="11640" y="6424"/>
                  <a:pt x="11598" y="6435"/>
                  <a:pt x="11559" y="6449"/>
                </a:cubicBezTo>
                <a:cubicBezTo>
                  <a:pt x="11507" y="6467"/>
                  <a:pt x="11509" y="6474"/>
                  <a:pt x="1146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30840" y="1911240"/>
            <a:ext cx="1322280" cy="768600"/>
          </a:xfrm>
          <a:custGeom>
            <a:avLst/>
            <a:gdLst/>
            <a:ahLst/>
            <a:rect l="l" t="t" r="r" b="b"/>
            <a:pathLst>
              <a:path w="3672" h="2134">
                <a:moveTo>
                  <a:pt x="13767" y="5879"/>
                </a:moveTo>
                <a:cubicBezTo>
                  <a:pt x="13788" y="5908"/>
                  <a:pt x="13800" y="5985"/>
                  <a:pt x="13816" y="5953"/>
                </a:cubicBezTo>
                <a:cubicBezTo>
                  <a:pt x="13837" y="5911"/>
                  <a:pt x="13841" y="5883"/>
                  <a:pt x="13841" y="5829"/>
                </a:cubicBezTo>
                <a:cubicBezTo>
                  <a:pt x="13841" y="5779"/>
                  <a:pt x="13817" y="5716"/>
                  <a:pt x="13767" y="5705"/>
                </a:cubicBezTo>
                <a:cubicBezTo>
                  <a:pt x="13710" y="5692"/>
                  <a:pt x="13659" y="5723"/>
                  <a:pt x="13643" y="5779"/>
                </a:cubicBezTo>
                <a:cubicBezTo>
                  <a:pt x="13622" y="5852"/>
                  <a:pt x="13603" y="5950"/>
                  <a:pt x="13618" y="6028"/>
                </a:cubicBezTo>
                <a:cubicBezTo>
                  <a:pt x="13640" y="6143"/>
                  <a:pt x="13663" y="6259"/>
                  <a:pt x="13692" y="6375"/>
                </a:cubicBezTo>
                <a:cubicBezTo>
                  <a:pt x="13721" y="6491"/>
                  <a:pt x="13763" y="6604"/>
                  <a:pt x="13767" y="6722"/>
                </a:cubicBezTo>
                <a:cubicBezTo>
                  <a:pt x="13769" y="6766"/>
                  <a:pt x="13780" y="6853"/>
                  <a:pt x="13717" y="6871"/>
                </a:cubicBezTo>
                <a:cubicBezTo>
                  <a:pt x="13661" y="6887"/>
                  <a:pt x="13546" y="6839"/>
                  <a:pt x="13494" y="6821"/>
                </a:cubicBezTo>
                <a:cubicBezTo>
                  <a:pt x="13450" y="6799"/>
                  <a:pt x="13439" y="6796"/>
                  <a:pt x="13419" y="6772"/>
                </a:cubicBezTo>
              </a:path>
              <a:path w="3672" h="2134">
                <a:moveTo>
                  <a:pt x="13643" y="7193"/>
                </a:moveTo>
                <a:cubicBezTo>
                  <a:pt x="13635" y="7193"/>
                  <a:pt x="13626" y="7193"/>
                  <a:pt x="13618" y="7193"/>
                </a:cubicBezTo>
                <a:cubicBezTo>
                  <a:pt x="13627" y="7168"/>
                  <a:pt x="13637" y="7146"/>
                  <a:pt x="13667" y="7144"/>
                </a:cubicBezTo>
                <a:cubicBezTo>
                  <a:pt x="13749" y="7138"/>
                  <a:pt x="13764" y="7225"/>
                  <a:pt x="13767" y="7293"/>
                </a:cubicBezTo>
                <a:cubicBezTo>
                  <a:pt x="13770" y="7361"/>
                  <a:pt x="13773" y="7390"/>
                  <a:pt x="13742" y="7441"/>
                </a:cubicBezTo>
                <a:cubicBezTo>
                  <a:pt x="13662" y="7426"/>
                  <a:pt x="13632" y="7387"/>
                  <a:pt x="13593" y="7317"/>
                </a:cubicBezTo>
                <a:cubicBezTo>
                  <a:pt x="13585" y="7301"/>
                  <a:pt x="13576" y="7284"/>
                  <a:pt x="13568" y="7268"/>
                </a:cubicBezTo>
              </a:path>
              <a:path w="3672" h="2134">
                <a:moveTo>
                  <a:pt x="13494" y="5407"/>
                </a:moveTo>
                <a:cubicBezTo>
                  <a:pt x="13466" y="5407"/>
                  <a:pt x="13455" y="5405"/>
                  <a:pt x="13444" y="5383"/>
                </a:cubicBezTo>
                <a:cubicBezTo>
                  <a:pt x="13469" y="5349"/>
                  <a:pt x="13476" y="5323"/>
                  <a:pt x="13519" y="5308"/>
                </a:cubicBezTo>
                <a:cubicBezTo>
                  <a:pt x="13538" y="5302"/>
                  <a:pt x="13573" y="5308"/>
                  <a:pt x="13593" y="5308"/>
                </a:cubicBezTo>
                <a:cubicBezTo>
                  <a:pt x="13593" y="5354"/>
                  <a:pt x="13599" y="5372"/>
                  <a:pt x="13568" y="5407"/>
                </a:cubicBezTo>
                <a:cubicBezTo>
                  <a:pt x="13553" y="5424"/>
                  <a:pt x="13508" y="5482"/>
                  <a:pt x="13519" y="5507"/>
                </a:cubicBezTo>
                <a:cubicBezTo>
                  <a:pt x="13524" y="5518"/>
                  <a:pt x="13605" y="5575"/>
                  <a:pt x="13618" y="5581"/>
                </a:cubicBezTo>
                <a:cubicBezTo>
                  <a:pt x="13659" y="5599"/>
                  <a:pt x="13648" y="5616"/>
                  <a:pt x="13618" y="5655"/>
                </a:cubicBezTo>
              </a:path>
              <a:path w="3672" h="2134">
                <a:moveTo>
                  <a:pt x="14337" y="6102"/>
                </a:moveTo>
                <a:cubicBezTo>
                  <a:pt x="14360" y="6079"/>
                  <a:pt x="14410" y="6044"/>
                  <a:pt x="14387" y="6003"/>
                </a:cubicBezTo>
                <a:cubicBezTo>
                  <a:pt x="14365" y="5963"/>
                  <a:pt x="14336" y="5907"/>
                  <a:pt x="14288" y="5904"/>
                </a:cubicBezTo>
                <a:cubicBezTo>
                  <a:pt x="14178" y="5896"/>
                  <a:pt x="14190" y="6050"/>
                  <a:pt x="14188" y="6127"/>
                </a:cubicBezTo>
                <a:cubicBezTo>
                  <a:pt x="14184" y="6259"/>
                  <a:pt x="14213" y="6351"/>
                  <a:pt x="14238" y="6474"/>
                </a:cubicBezTo>
                <a:cubicBezTo>
                  <a:pt x="14238" y="6491"/>
                  <a:pt x="14238" y="6507"/>
                  <a:pt x="14238" y="6524"/>
                </a:cubicBezTo>
              </a:path>
              <a:path w="3672" h="2134">
                <a:moveTo>
                  <a:pt x="14337" y="6449"/>
                </a:moveTo>
                <a:cubicBezTo>
                  <a:pt x="14329" y="6368"/>
                  <a:pt x="14343" y="6350"/>
                  <a:pt x="14263" y="6350"/>
                </a:cubicBezTo>
                <a:cubicBezTo>
                  <a:pt x="14204" y="6350"/>
                  <a:pt x="14190" y="6370"/>
                  <a:pt x="14139" y="6400"/>
                </a:cubicBezTo>
              </a:path>
              <a:path w="3672" h="2134">
                <a:moveTo>
                  <a:pt x="14734" y="5953"/>
                </a:moveTo>
                <a:cubicBezTo>
                  <a:pt x="14761" y="5917"/>
                  <a:pt x="14750" y="5915"/>
                  <a:pt x="14784" y="5904"/>
                </a:cubicBezTo>
                <a:cubicBezTo>
                  <a:pt x="14730" y="5957"/>
                  <a:pt x="14694" y="6025"/>
                  <a:pt x="14684" y="6102"/>
                </a:cubicBezTo>
                <a:cubicBezTo>
                  <a:pt x="14668" y="6232"/>
                  <a:pt x="14678" y="6347"/>
                  <a:pt x="14734" y="6449"/>
                </a:cubicBezTo>
                <a:cubicBezTo>
                  <a:pt x="14742" y="6466"/>
                  <a:pt x="14751" y="6482"/>
                  <a:pt x="14759" y="6499"/>
                </a:cubicBezTo>
              </a:path>
              <a:path w="3672" h="2134">
                <a:moveTo>
                  <a:pt x="14908" y="6350"/>
                </a:moveTo>
                <a:cubicBezTo>
                  <a:pt x="14920" y="6300"/>
                  <a:pt x="14931" y="6300"/>
                  <a:pt x="14982" y="6300"/>
                </a:cubicBezTo>
                <a:cubicBezTo>
                  <a:pt x="15027" y="6300"/>
                  <a:pt x="15072" y="6333"/>
                  <a:pt x="15081" y="6375"/>
                </a:cubicBezTo>
                <a:cubicBezTo>
                  <a:pt x="15090" y="6414"/>
                  <a:pt x="15080" y="6485"/>
                  <a:pt x="15032" y="6499"/>
                </a:cubicBezTo>
                <a:cubicBezTo>
                  <a:pt x="15015" y="6499"/>
                  <a:pt x="14999" y="6499"/>
                  <a:pt x="14982" y="6499"/>
                </a:cubicBezTo>
              </a:path>
              <a:path w="3672" h="2134">
                <a:moveTo>
                  <a:pt x="15180" y="6251"/>
                </a:moveTo>
                <a:cubicBezTo>
                  <a:pt x="15172" y="6243"/>
                  <a:pt x="15164" y="6234"/>
                  <a:pt x="15156" y="6226"/>
                </a:cubicBezTo>
                <a:cubicBezTo>
                  <a:pt x="15130" y="6270"/>
                  <a:pt x="15115" y="6343"/>
                  <a:pt x="15131" y="6400"/>
                </a:cubicBezTo>
                <a:cubicBezTo>
                  <a:pt x="15151" y="6473"/>
                  <a:pt x="15237" y="6493"/>
                  <a:pt x="15304" y="6474"/>
                </a:cubicBezTo>
                <a:cubicBezTo>
                  <a:pt x="15321" y="6466"/>
                  <a:pt x="15337" y="6457"/>
                  <a:pt x="15354" y="6449"/>
                </a:cubicBezTo>
              </a:path>
              <a:path w="3672" h="2134">
                <a:moveTo>
                  <a:pt x="15230" y="5879"/>
                </a:moveTo>
                <a:cubicBezTo>
                  <a:pt x="15329" y="5797"/>
                  <a:pt x="15409" y="5771"/>
                  <a:pt x="15528" y="5879"/>
                </a:cubicBezTo>
                <a:cubicBezTo>
                  <a:pt x="15654" y="5993"/>
                  <a:pt x="15730" y="6181"/>
                  <a:pt x="15726" y="6350"/>
                </a:cubicBezTo>
                <a:cubicBezTo>
                  <a:pt x="15724" y="6448"/>
                  <a:pt x="15684" y="6516"/>
                  <a:pt x="15627" y="6573"/>
                </a:cubicBezTo>
              </a:path>
              <a:path w="3672" h="2134">
                <a:moveTo>
                  <a:pt x="16966" y="6226"/>
                </a:moveTo>
                <a:cubicBezTo>
                  <a:pt x="17027" y="6244"/>
                  <a:pt x="17037" y="6251"/>
                  <a:pt x="17090" y="6251"/>
                </a:cubicBezTo>
                <a:cubicBezTo>
                  <a:pt x="17077" y="6292"/>
                  <a:pt x="17042" y="6276"/>
                  <a:pt x="16991" y="6276"/>
                </a:cubicBezTo>
                <a:cubicBezTo>
                  <a:pt x="16900" y="6276"/>
                  <a:pt x="16809" y="6276"/>
                  <a:pt x="16718" y="6276"/>
                </a:cubicBezTo>
              </a:path>
              <a:path w="3672" h="2134">
                <a:moveTo>
                  <a:pt x="16818" y="6102"/>
                </a:moveTo>
                <a:cubicBezTo>
                  <a:pt x="16857" y="6169"/>
                  <a:pt x="16850" y="6247"/>
                  <a:pt x="16867" y="6325"/>
                </a:cubicBezTo>
                <a:cubicBezTo>
                  <a:pt x="16875" y="6350"/>
                  <a:pt x="16884" y="6375"/>
                  <a:pt x="16892" y="6400"/>
                </a:cubicBezTo>
              </a:path>
              <a:path w="3672" h="2134">
                <a:moveTo>
                  <a:pt x="16098" y="5978"/>
                </a:moveTo>
                <a:cubicBezTo>
                  <a:pt x="16079" y="5921"/>
                  <a:pt x="16014" y="5984"/>
                  <a:pt x="15999" y="6028"/>
                </a:cubicBezTo>
                <a:cubicBezTo>
                  <a:pt x="15999" y="6077"/>
                  <a:pt x="15999" y="6094"/>
                  <a:pt x="15999" y="6127"/>
                </a:cubicBezTo>
                <a:cubicBezTo>
                  <a:pt x="16107" y="6127"/>
                  <a:pt x="16094" y="6087"/>
                  <a:pt x="16123" y="5978"/>
                </a:cubicBezTo>
                <a:cubicBezTo>
                  <a:pt x="16154" y="5864"/>
                  <a:pt x="16174" y="5699"/>
                  <a:pt x="16148" y="5581"/>
                </a:cubicBezTo>
                <a:cubicBezTo>
                  <a:pt x="16140" y="5564"/>
                  <a:pt x="16131" y="5548"/>
                  <a:pt x="16123" y="5531"/>
                </a:cubicBezTo>
                <a:cubicBezTo>
                  <a:pt x="16123" y="5657"/>
                  <a:pt x="16157" y="5757"/>
                  <a:pt x="16173" y="5879"/>
                </a:cubicBezTo>
                <a:cubicBezTo>
                  <a:pt x="16183" y="5955"/>
                  <a:pt x="16179" y="5988"/>
                  <a:pt x="16222" y="6052"/>
                </a:cubicBezTo>
                <a:cubicBezTo>
                  <a:pt x="16222" y="6009"/>
                  <a:pt x="16232" y="5966"/>
                  <a:pt x="16247" y="5928"/>
                </a:cubicBezTo>
                <a:cubicBezTo>
                  <a:pt x="16274" y="5862"/>
                  <a:pt x="16286" y="5879"/>
                  <a:pt x="16346" y="5879"/>
                </a:cubicBezTo>
                <a:cubicBezTo>
                  <a:pt x="16376" y="5929"/>
                  <a:pt x="16371" y="5966"/>
                  <a:pt x="16371" y="6028"/>
                </a:cubicBezTo>
                <a:cubicBezTo>
                  <a:pt x="16371" y="6036"/>
                  <a:pt x="16371" y="6044"/>
                  <a:pt x="16371" y="6052"/>
                </a:cubicBezTo>
                <a:cubicBezTo>
                  <a:pt x="16315" y="6034"/>
                  <a:pt x="16358" y="6020"/>
                  <a:pt x="16371" y="6003"/>
                </a:cubicBezTo>
                <a:cubicBezTo>
                  <a:pt x="16406" y="5954"/>
                  <a:pt x="16433" y="5902"/>
                  <a:pt x="16470" y="5854"/>
                </a:cubicBezTo>
                <a:cubicBezTo>
                  <a:pt x="16470" y="5801"/>
                  <a:pt x="16482" y="5954"/>
                  <a:pt x="16495" y="5978"/>
                </a:cubicBezTo>
                <a:cubicBezTo>
                  <a:pt x="16531" y="6045"/>
                  <a:pt x="16547" y="6052"/>
                  <a:pt x="16619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13320" y="1857240"/>
            <a:ext cx="214560" cy="758880"/>
          </a:xfrm>
          <a:custGeom>
            <a:avLst/>
            <a:gdLst/>
            <a:ahLst/>
            <a:rect l="l" t="t" r="r" b="b"/>
            <a:pathLst>
              <a:path w="596" h="2110">
                <a:moveTo>
                  <a:pt x="18058" y="5953"/>
                </a:moveTo>
                <a:cubicBezTo>
                  <a:pt x="18109" y="5916"/>
                  <a:pt x="18128" y="5910"/>
                  <a:pt x="18132" y="5829"/>
                </a:cubicBezTo>
                <a:cubicBezTo>
                  <a:pt x="18137" y="5743"/>
                  <a:pt x="18086" y="5668"/>
                  <a:pt x="18033" y="5606"/>
                </a:cubicBezTo>
                <a:cubicBezTo>
                  <a:pt x="17975" y="5539"/>
                  <a:pt x="17916" y="5601"/>
                  <a:pt x="17884" y="5655"/>
                </a:cubicBezTo>
                <a:cubicBezTo>
                  <a:pt x="17831" y="5745"/>
                  <a:pt x="17813" y="5850"/>
                  <a:pt x="17810" y="5953"/>
                </a:cubicBezTo>
                <a:cubicBezTo>
                  <a:pt x="17806" y="6078"/>
                  <a:pt x="17849" y="6205"/>
                  <a:pt x="17884" y="6325"/>
                </a:cubicBezTo>
                <a:cubicBezTo>
                  <a:pt x="17914" y="6430"/>
                  <a:pt x="17934" y="6514"/>
                  <a:pt x="17934" y="6623"/>
                </a:cubicBezTo>
                <a:cubicBezTo>
                  <a:pt x="17934" y="6693"/>
                  <a:pt x="17925" y="6738"/>
                  <a:pt x="17835" y="6722"/>
                </a:cubicBezTo>
                <a:cubicBezTo>
                  <a:pt x="17736" y="6705"/>
                  <a:pt x="17635" y="6672"/>
                  <a:pt x="17537" y="6648"/>
                </a:cubicBezTo>
              </a:path>
              <a:path w="596" h="2110">
                <a:moveTo>
                  <a:pt x="17661" y="7119"/>
                </a:moveTo>
                <a:cubicBezTo>
                  <a:pt x="17653" y="7119"/>
                  <a:pt x="17644" y="7119"/>
                  <a:pt x="17636" y="7119"/>
                </a:cubicBezTo>
                <a:cubicBezTo>
                  <a:pt x="17651" y="7059"/>
                  <a:pt x="17674" y="7069"/>
                  <a:pt x="17735" y="7069"/>
                </a:cubicBezTo>
                <a:cubicBezTo>
                  <a:pt x="17803" y="7069"/>
                  <a:pt x="17824" y="7163"/>
                  <a:pt x="17810" y="7218"/>
                </a:cubicBezTo>
                <a:cubicBezTo>
                  <a:pt x="17796" y="7273"/>
                  <a:pt x="17726" y="7268"/>
                  <a:pt x="17686" y="7268"/>
                </a:cubicBezTo>
              </a:path>
              <a:path w="596" h="2110">
                <a:moveTo>
                  <a:pt x="17686" y="5259"/>
                </a:moveTo>
                <a:cubicBezTo>
                  <a:pt x="17661" y="5259"/>
                  <a:pt x="17653" y="5259"/>
                  <a:pt x="17636" y="5259"/>
                </a:cubicBezTo>
                <a:cubicBezTo>
                  <a:pt x="17674" y="5221"/>
                  <a:pt x="17707" y="5177"/>
                  <a:pt x="17760" y="5159"/>
                </a:cubicBezTo>
                <a:cubicBezTo>
                  <a:pt x="17804" y="5144"/>
                  <a:pt x="17831" y="5169"/>
                  <a:pt x="17835" y="5209"/>
                </a:cubicBezTo>
                <a:cubicBezTo>
                  <a:pt x="17842" y="5270"/>
                  <a:pt x="17806" y="5261"/>
                  <a:pt x="17785" y="5308"/>
                </a:cubicBezTo>
                <a:cubicBezTo>
                  <a:pt x="17766" y="5351"/>
                  <a:pt x="17793" y="5371"/>
                  <a:pt x="17810" y="5383"/>
                </a:cubicBezTo>
                <a:cubicBezTo>
                  <a:pt x="17854" y="5415"/>
                  <a:pt x="17895" y="5443"/>
                  <a:pt x="17934" y="5482"/>
                </a:cubicBezTo>
                <a:cubicBezTo>
                  <a:pt x="17970" y="5518"/>
                  <a:pt x="17960" y="5558"/>
                  <a:pt x="17909" y="5581"/>
                </a:cubicBezTo>
                <a:cubicBezTo>
                  <a:pt x="17884" y="5581"/>
                  <a:pt x="17876" y="5581"/>
                  <a:pt x="17859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61080" y="2143080"/>
            <a:ext cx="179280" cy="1620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8554" y="6077"/>
                </a:moveTo>
                <a:cubicBezTo>
                  <a:pt x="18514" y="6090"/>
                  <a:pt x="18544" y="6089"/>
                  <a:pt x="18504" y="6102"/>
                </a:cubicBezTo>
                <a:cubicBezTo>
                  <a:pt x="18511" y="6073"/>
                  <a:pt x="18555" y="5999"/>
                  <a:pt x="18579" y="5978"/>
                </a:cubicBezTo>
                <a:cubicBezTo>
                  <a:pt x="18622" y="5940"/>
                  <a:pt x="18734" y="5935"/>
                  <a:pt x="18777" y="5978"/>
                </a:cubicBezTo>
                <a:cubicBezTo>
                  <a:pt x="18832" y="6033"/>
                  <a:pt x="18802" y="6143"/>
                  <a:pt x="18777" y="6201"/>
                </a:cubicBezTo>
                <a:cubicBezTo>
                  <a:pt x="18752" y="6259"/>
                  <a:pt x="18688" y="6307"/>
                  <a:pt x="18678" y="6350"/>
                </a:cubicBezTo>
                <a:cubicBezTo>
                  <a:pt x="18678" y="6375"/>
                  <a:pt x="18678" y="6383"/>
                  <a:pt x="18678" y="6400"/>
                </a:cubicBezTo>
                <a:cubicBezTo>
                  <a:pt x="18762" y="6389"/>
                  <a:pt x="18867" y="6370"/>
                  <a:pt x="18951" y="6350"/>
                </a:cubicBezTo>
                <a:cubicBezTo>
                  <a:pt x="18967" y="6342"/>
                  <a:pt x="18984" y="6333"/>
                  <a:pt x="19000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2200" y="2081160"/>
            <a:ext cx="357480" cy="241200"/>
          </a:xfrm>
          <a:custGeom>
            <a:avLst/>
            <a:gdLst/>
            <a:ahLst/>
            <a:rect l="l" t="t" r="r" b="b"/>
            <a:pathLst>
              <a:path w="994" h="671">
                <a:moveTo>
                  <a:pt x="19695" y="6226"/>
                </a:moveTo>
                <a:cubicBezTo>
                  <a:pt x="19718" y="6203"/>
                  <a:pt x="19722" y="6195"/>
                  <a:pt x="19745" y="6201"/>
                </a:cubicBezTo>
                <a:cubicBezTo>
                  <a:pt x="19724" y="6158"/>
                  <a:pt x="19691" y="6237"/>
                  <a:pt x="19670" y="6276"/>
                </a:cubicBezTo>
                <a:cubicBezTo>
                  <a:pt x="19644" y="6325"/>
                  <a:pt x="19633" y="6429"/>
                  <a:pt x="19720" y="6424"/>
                </a:cubicBezTo>
                <a:cubicBezTo>
                  <a:pt x="19840" y="6417"/>
                  <a:pt x="19849" y="6232"/>
                  <a:pt x="19869" y="6152"/>
                </a:cubicBezTo>
                <a:cubicBezTo>
                  <a:pt x="19899" y="6031"/>
                  <a:pt x="19918" y="5929"/>
                  <a:pt x="19918" y="5804"/>
                </a:cubicBezTo>
                <a:cubicBezTo>
                  <a:pt x="19918" y="5796"/>
                  <a:pt x="19918" y="5787"/>
                  <a:pt x="19918" y="5779"/>
                </a:cubicBezTo>
                <a:cubicBezTo>
                  <a:pt x="19876" y="5862"/>
                  <a:pt x="19893" y="5978"/>
                  <a:pt x="19893" y="6077"/>
                </a:cubicBezTo>
                <a:cubicBezTo>
                  <a:pt x="19893" y="6169"/>
                  <a:pt x="19901" y="6276"/>
                  <a:pt x="19968" y="6325"/>
                </a:cubicBezTo>
              </a:path>
              <a:path w="994" h="671">
                <a:moveTo>
                  <a:pt x="20067" y="6201"/>
                </a:moveTo>
                <a:cubicBezTo>
                  <a:pt x="20104" y="6189"/>
                  <a:pt x="20105" y="6162"/>
                  <a:pt x="20166" y="6152"/>
                </a:cubicBezTo>
                <a:cubicBezTo>
                  <a:pt x="20233" y="6141"/>
                  <a:pt x="20299" y="6185"/>
                  <a:pt x="20315" y="6251"/>
                </a:cubicBezTo>
                <a:cubicBezTo>
                  <a:pt x="20331" y="6319"/>
                  <a:pt x="20304" y="6374"/>
                  <a:pt x="20241" y="6400"/>
                </a:cubicBezTo>
                <a:cubicBezTo>
                  <a:pt x="20213" y="6400"/>
                  <a:pt x="20202" y="6398"/>
                  <a:pt x="20191" y="6375"/>
                </a:cubicBezTo>
              </a:path>
              <a:path w="994" h="671">
                <a:moveTo>
                  <a:pt x="20513" y="6102"/>
                </a:moveTo>
                <a:cubicBezTo>
                  <a:pt x="20440" y="6145"/>
                  <a:pt x="20399" y="6179"/>
                  <a:pt x="20414" y="6276"/>
                </a:cubicBezTo>
                <a:cubicBezTo>
                  <a:pt x="20435" y="6411"/>
                  <a:pt x="20530" y="6434"/>
                  <a:pt x="20638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6160" y="2901960"/>
            <a:ext cx="71640" cy="54000"/>
          </a:xfrm>
          <a:custGeom>
            <a:avLst/>
            <a:gdLst/>
            <a:ahLst/>
            <a:rect l="l" t="t" r="r" b="b"/>
            <a:pathLst>
              <a:path w="200" h="149">
                <a:moveTo>
                  <a:pt x="12080" y="8086"/>
                </a:moveTo>
                <a:cubicBezTo>
                  <a:pt x="12088" y="8078"/>
                  <a:pt x="12097" y="8070"/>
                  <a:pt x="12105" y="8062"/>
                </a:cubicBezTo>
                <a:cubicBezTo>
                  <a:pt x="12035" y="8062"/>
                  <a:pt x="11988" y="8068"/>
                  <a:pt x="11931" y="8086"/>
                </a:cubicBezTo>
                <a:cubicBezTo>
                  <a:pt x="11923" y="8086"/>
                  <a:pt x="11914" y="8086"/>
                  <a:pt x="11906" y="8086"/>
                </a:cubicBezTo>
              </a:path>
              <a:path w="200" h="149">
                <a:moveTo>
                  <a:pt x="12105" y="8161"/>
                </a:moveTo>
                <a:cubicBezTo>
                  <a:pt x="12105" y="8169"/>
                  <a:pt x="12105" y="8178"/>
                  <a:pt x="12105" y="8186"/>
                </a:cubicBezTo>
                <a:cubicBezTo>
                  <a:pt x="12055" y="8198"/>
                  <a:pt x="12040" y="8210"/>
                  <a:pt x="1198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2830680"/>
            <a:ext cx="152280" cy="169560"/>
          </a:xfrm>
          <a:custGeom>
            <a:avLst/>
            <a:gdLst/>
            <a:ahLst/>
            <a:rect l="l" t="t" r="r" b="b"/>
            <a:pathLst>
              <a:path w="422" h="472">
                <a:moveTo>
                  <a:pt x="14982" y="7962"/>
                </a:moveTo>
                <a:cubicBezTo>
                  <a:pt x="15032" y="7962"/>
                  <a:pt x="15044" y="7963"/>
                  <a:pt x="15056" y="7913"/>
                </a:cubicBezTo>
                <a:cubicBezTo>
                  <a:pt x="15014" y="7881"/>
                  <a:pt x="14989" y="7866"/>
                  <a:pt x="14932" y="7863"/>
                </a:cubicBezTo>
                <a:cubicBezTo>
                  <a:pt x="14851" y="7858"/>
                  <a:pt x="14824" y="7874"/>
                  <a:pt x="14759" y="7913"/>
                </a:cubicBezTo>
                <a:cubicBezTo>
                  <a:pt x="14713" y="7941"/>
                  <a:pt x="14666" y="7955"/>
                  <a:pt x="14660" y="8012"/>
                </a:cubicBezTo>
                <a:cubicBezTo>
                  <a:pt x="14656" y="8054"/>
                  <a:pt x="14668" y="8073"/>
                  <a:pt x="14709" y="8086"/>
                </a:cubicBezTo>
                <a:cubicBezTo>
                  <a:pt x="14755" y="8101"/>
                  <a:pt x="14810" y="8124"/>
                  <a:pt x="14858" y="8136"/>
                </a:cubicBezTo>
                <a:cubicBezTo>
                  <a:pt x="14902" y="8147"/>
                  <a:pt x="14923" y="8176"/>
                  <a:pt x="14957" y="8210"/>
                </a:cubicBezTo>
                <a:cubicBezTo>
                  <a:pt x="14987" y="8240"/>
                  <a:pt x="14982" y="8245"/>
                  <a:pt x="14982" y="8285"/>
                </a:cubicBezTo>
                <a:cubicBezTo>
                  <a:pt x="14939" y="8317"/>
                  <a:pt x="14915" y="8329"/>
                  <a:pt x="14858" y="8334"/>
                </a:cubicBezTo>
                <a:cubicBezTo>
                  <a:pt x="14825" y="8337"/>
                  <a:pt x="14774" y="8298"/>
                  <a:pt x="14784" y="8260"/>
                </a:cubicBezTo>
                <a:cubicBezTo>
                  <a:pt x="14803" y="8190"/>
                  <a:pt x="14887" y="8090"/>
                  <a:pt x="14932" y="8037"/>
                </a:cubicBezTo>
                <a:cubicBezTo>
                  <a:pt x="14977" y="7985"/>
                  <a:pt x="15032" y="7937"/>
                  <a:pt x="15081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38920" y="2867040"/>
            <a:ext cx="12528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6818" y="8086"/>
                </a:moveTo>
                <a:cubicBezTo>
                  <a:pt x="16882" y="8086"/>
                  <a:pt x="16779" y="8086"/>
                  <a:pt x="16768" y="8086"/>
                </a:cubicBezTo>
                <a:cubicBezTo>
                  <a:pt x="16694" y="8086"/>
                  <a:pt x="16630" y="8099"/>
                  <a:pt x="16570" y="8111"/>
                </a:cubicBezTo>
                <a:cubicBezTo>
                  <a:pt x="16528" y="8111"/>
                  <a:pt x="16520" y="8111"/>
                  <a:pt x="16495" y="8111"/>
                </a:cubicBezTo>
              </a:path>
              <a:path w="348" h="299">
                <a:moveTo>
                  <a:pt x="16644" y="7962"/>
                </a:moveTo>
                <a:cubicBezTo>
                  <a:pt x="16661" y="7962"/>
                  <a:pt x="16677" y="7962"/>
                  <a:pt x="16694" y="7962"/>
                </a:cubicBezTo>
                <a:cubicBezTo>
                  <a:pt x="16694" y="8061"/>
                  <a:pt x="16694" y="8161"/>
                  <a:pt x="1669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3320" y="2581200"/>
            <a:ext cx="911520" cy="554040"/>
          </a:xfrm>
          <a:custGeom>
            <a:avLst/>
            <a:gdLst/>
            <a:ahLst/>
            <a:rect l="l" t="t" r="r" b="b"/>
            <a:pathLst>
              <a:path w="2531" h="1538">
                <a:moveTo>
                  <a:pt x="17884" y="7888"/>
                </a:moveTo>
                <a:cubicBezTo>
                  <a:pt x="17884" y="7842"/>
                  <a:pt x="17878" y="7824"/>
                  <a:pt x="17909" y="7789"/>
                </a:cubicBezTo>
                <a:cubicBezTo>
                  <a:pt x="17944" y="7750"/>
                  <a:pt x="18006" y="7742"/>
                  <a:pt x="18058" y="7739"/>
                </a:cubicBezTo>
                <a:cubicBezTo>
                  <a:pt x="18114" y="7736"/>
                  <a:pt x="18171" y="7738"/>
                  <a:pt x="18207" y="7789"/>
                </a:cubicBezTo>
                <a:cubicBezTo>
                  <a:pt x="18248" y="7847"/>
                  <a:pt x="18233" y="7903"/>
                  <a:pt x="18207" y="7962"/>
                </a:cubicBezTo>
                <a:cubicBezTo>
                  <a:pt x="18175" y="8035"/>
                  <a:pt x="18125" y="8072"/>
                  <a:pt x="18083" y="8136"/>
                </a:cubicBezTo>
                <a:cubicBezTo>
                  <a:pt x="18050" y="8186"/>
                  <a:pt x="18045" y="8174"/>
                  <a:pt x="18033" y="8210"/>
                </a:cubicBezTo>
                <a:cubicBezTo>
                  <a:pt x="18117" y="8210"/>
                  <a:pt x="18178" y="8215"/>
                  <a:pt x="18256" y="8235"/>
                </a:cubicBezTo>
                <a:cubicBezTo>
                  <a:pt x="18277" y="8240"/>
                  <a:pt x="18309" y="8235"/>
                  <a:pt x="18331" y="8235"/>
                </a:cubicBezTo>
              </a:path>
              <a:path w="2531" h="1538">
                <a:moveTo>
                  <a:pt x="18529" y="8062"/>
                </a:moveTo>
                <a:cubicBezTo>
                  <a:pt x="18529" y="8023"/>
                  <a:pt x="18535" y="7997"/>
                  <a:pt x="18579" y="7987"/>
                </a:cubicBezTo>
                <a:cubicBezTo>
                  <a:pt x="18637" y="7974"/>
                  <a:pt x="18684" y="8003"/>
                  <a:pt x="18728" y="8037"/>
                </a:cubicBezTo>
                <a:cubicBezTo>
                  <a:pt x="18745" y="8050"/>
                  <a:pt x="18785" y="8142"/>
                  <a:pt x="18777" y="8161"/>
                </a:cubicBezTo>
                <a:cubicBezTo>
                  <a:pt x="18758" y="8203"/>
                  <a:pt x="18696" y="8227"/>
                  <a:pt x="18653" y="8210"/>
                </a:cubicBezTo>
                <a:cubicBezTo>
                  <a:pt x="18645" y="8202"/>
                  <a:pt x="18636" y="8194"/>
                  <a:pt x="18628" y="8186"/>
                </a:cubicBezTo>
              </a:path>
              <a:path w="2531" h="1538">
                <a:moveTo>
                  <a:pt x="18876" y="7938"/>
                </a:moveTo>
                <a:cubicBezTo>
                  <a:pt x="18860" y="7930"/>
                  <a:pt x="18843" y="7921"/>
                  <a:pt x="18827" y="7913"/>
                </a:cubicBezTo>
                <a:cubicBezTo>
                  <a:pt x="18794" y="7957"/>
                  <a:pt x="18802" y="7979"/>
                  <a:pt x="18802" y="8037"/>
                </a:cubicBezTo>
                <a:cubicBezTo>
                  <a:pt x="18802" y="8100"/>
                  <a:pt x="18885" y="8149"/>
                  <a:pt x="18951" y="8161"/>
                </a:cubicBezTo>
                <a:cubicBezTo>
                  <a:pt x="19040" y="8177"/>
                  <a:pt x="19065" y="8139"/>
                  <a:pt x="19124" y="8086"/>
                </a:cubicBezTo>
              </a:path>
              <a:path w="2531" h="1538">
                <a:moveTo>
                  <a:pt x="17859" y="7466"/>
                </a:moveTo>
                <a:cubicBezTo>
                  <a:pt x="17884" y="7466"/>
                  <a:pt x="17892" y="7466"/>
                  <a:pt x="17884" y="7441"/>
                </a:cubicBezTo>
                <a:cubicBezTo>
                  <a:pt x="17819" y="7441"/>
                  <a:pt x="17765" y="7427"/>
                  <a:pt x="17711" y="7417"/>
                </a:cubicBezTo>
                <a:cubicBezTo>
                  <a:pt x="17624" y="7400"/>
                  <a:pt x="17651" y="7439"/>
                  <a:pt x="17611" y="7466"/>
                </a:cubicBezTo>
                <a:cubicBezTo>
                  <a:pt x="17587" y="7482"/>
                  <a:pt x="17567" y="7480"/>
                  <a:pt x="17562" y="7516"/>
                </a:cubicBezTo>
                <a:cubicBezTo>
                  <a:pt x="17552" y="7600"/>
                  <a:pt x="17549" y="7681"/>
                  <a:pt x="17537" y="7764"/>
                </a:cubicBezTo>
                <a:cubicBezTo>
                  <a:pt x="17523" y="7861"/>
                  <a:pt x="17475" y="8564"/>
                  <a:pt x="17562" y="8607"/>
                </a:cubicBezTo>
                <a:cubicBezTo>
                  <a:pt x="17617" y="8634"/>
                  <a:pt x="17710" y="8595"/>
                  <a:pt x="17760" y="8582"/>
                </a:cubicBezTo>
                <a:cubicBezTo>
                  <a:pt x="17795" y="8582"/>
                  <a:pt x="17813" y="8578"/>
                  <a:pt x="17835" y="8558"/>
                </a:cubicBezTo>
              </a:path>
              <a:path w="2531" h="1538">
                <a:moveTo>
                  <a:pt x="19100" y="7466"/>
                </a:moveTo>
                <a:cubicBezTo>
                  <a:pt x="19113" y="7508"/>
                  <a:pt x="19148" y="7491"/>
                  <a:pt x="19199" y="7491"/>
                </a:cubicBezTo>
                <a:cubicBezTo>
                  <a:pt x="19275" y="7491"/>
                  <a:pt x="19327" y="7500"/>
                  <a:pt x="19397" y="7516"/>
                </a:cubicBezTo>
                <a:cubicBezTo>
                  <a:pt x="19452" y="7529"/>
                  <a:pt x="19453" y="7515"/>
                  <a:pt x="19472" y="7590"/>
                </a:cubicBezTo>
                <a:cubicBezTo>
                  <a:pt x="19487" y="7651"/>
                  <a:pt x="19450" y="7704"/>
                  <a:pt x="19447" y="7764"/>
                </a:cubicBezTo>
                <a:cubicBezTo>
                  <a:pt x="19442" y="7870"/>
                  <a:pt x="19461" y="7961"/>
                  <a:pt x="19472" y="8062"/>
                </a:cubicBezTo>
                <a:cubicBezTo>
                  <a:pt x="19483" y="8162"/>
                  <a:pt x="19496" y="8256"/>
                  <a:pt x="19496" y="8359"/>
                </a:cubicBezTo>
                <a:cubicBezTo>
                  <a:pt x="19496" y="8409"/>
                  <a:pt x="19496" y="8425"/>
                  <a:pt x="19496" y="8458"/>
                </a:cubicBezTo>
                <a:cubicBezTo>
                  <a:pt x="19424" y="8458"/>
                  <a:pt x="19358" y="8446"/>
                  <a:pt x="19298" y="8434"/>
                </a:cubicBezTo>
                <a:cubicBezTo>
                  <a:pt x="19257" y="8434"/>
                  <a:pt x="19249" y="8434"/>
                  <a:pt x="19224" y="8434"/>
                </a:cubicBezTo>
              </a:path>
              <a:path w="2531" h="1538">
                <a:moveTo>
                  <a:pt x="19893" y="8508"/>
                </a:moveTo>
                <a:cubicBezTo>
                  <a:pt x="19869" y="8508"/>
                  <a:pt x="19860" y="8508"/>
                  <a:pt x="19844" y="8508"/>
                </a:cubicBezTo>
                <a:cubicBezTo>
                  <a:pt x="19844" y="8451"/>
                  <a:pt x="19856" y="8430"/>
                  <a:pt x="19918" y="8409"/>
                </a:cubicBezTo>
                <a:cubicBezTo>
                  <a:pt x="20001" y="8381"/>
                  <a:pt x="20012" y="8449"/>
                  <a:pt x="20042" y="8508"/>
                </a:cubicBezTo>
                <a:cubicBezTo>
                  <a:pt x="20067" y="8559"/>
                  <a:pt x="20097" y="8678"/>
                  <a:pt x="20017" y="8706"/>
                </a:cubicBezTo>
                <a:cubicBezTo>
                  <a:pt x="19932" y="8736"/>
                  <a:pt x="19878" y="8637"/>
                  <a:pt x="19844" y="8582"/>
                </a:cubicBezTo>
              </a:path>
              <a:path w="2531" h="1538">
                <a:moveTo>
                  <a:pt x="19769" y="7218"/>
                </a:moveTo>
                <a:cubicBezTo>
                  <a:pt x="19769" y="7247"/>
                  <a:pt x="19783" y="7216"/>
                  <a:pt x="19819" y="7193"/>
                </a:cubicBezTo>
                <a:cubicBezTo>
                  <a:pt x="19863" y="7165"/>
                  <a:pt x="19886" y="7169"/>
                  <a:pt x="19943" y="7169"/>
                </a:cubicBezTo>
                <a:cubicBezTo>
                  <a:pt x="19951" y="7169"/>
                  <a:pt x="19960" y="7169"/>
                  <a:pt x="19968" y="7169"/>
                </a:cubicBezTo>
                <a:cubicBezTo>
                  <a:pt x="19968" y="7220"/>
                  <a:pt x="19977" y="7255"/>
                  <a:pt x="19943" y="7293"/>
                </a:cubicBezTo>
                <a:cubicBezTo>
                  <a:pt x="19921" y="7317"/>
                  <a:pt x="19866" y="7319"/>
                  <a:pt x="19893" y="7367"/>
                </a:cubicBezTo>
                <a:cubicBezTo>
                  <a:pt x="19919" y="7414"/>
                  <a:pt x="19980" y="7432"/>
                  <a:pt x="20017" y="7466"/>
                </a:cubicBezTo>
                <a:cubicBezTo>
                  <a:pt x="20030" y="7478"/>
                  <a:pt x="20100" y="7539"/>
                  <a:pt x="20067" y="7565"/>
                </a:cubicBezTo>
                <a:cubicBezTo>
                  <a:pt x="20040" y="7586"/>
                  <a:pt x="20020" y="7590"/>
                  <a:pt x="19968" y="7590"/>
                </a:cubicBezTo>
                <a:cubicBezTo>
                  <a:pt x="19915" y="7590"/>
                  <a:pt x="19912" y="7576"/>
                  <a:pt x="19869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32160" y="3402000"/>
            <a:ext cx="7308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1906" y="9451"/>
                </a:moveTo>
                <a:cubicBezTo>
                  <a:pt x="11931" y="9451"/>
                  <a:pt x="11939" y="9451"/>
                  <a:pt x="11956" y="9451"/>
                </a:cubicBezTo>
                <a:cubicBezTo>
                  <a:pt x="11895" y="9451"/>
                  <a:pt x="11865" y="9461"/>
                  <a:pt x="11807" y="9475"/>
                </a:cubicBezTo>
                <a:cubicBezTo>
                  <a:pt x="11782" y="9475"/>
                  <a:pt x="11774" y="9475"/>
                  <a:pt x="11757" y="9475"/>
                </a:cubicBezTo>
              </a:path>
              <a:path w="200" h="199">
                <a:moveTo>
                  <a:pt x="11906" y="9599"/>
                </a:moveTo>
                <a:cubicBezTo>
                  <a:pt x="11989" y="9599"/>
                  <a:pt x="11868" y="9644"/>
                  <a:pt x="1185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0000" y="333072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3345" y="9351"/>
                </a:moveTo>
                <a:cubicBezTo>
                  <a:pt x="13388" y="9320"/>
                  <a:pt x="13395" y="9333"/>
                  <a:pt x="13395" y="9277"/>
                </a:cubicBezTo>
                <a:cubicBezTo>
                  <a:pt x="13357" y="9248"/>
                  <a:pt x="13344" y="9252"/>
                  <a:pt x="13295" y="9252"/>
                </a:cubicBezTo>
                <a:cubicBezTo>
                  <a:pt x="13220" y="9252"/>
                  <a:pt x="13163" y="9294"/>
                  <a:pt x="13097" y="9327"/>
                </a:cubicBezTo>
                <a:cubicBezTo>
                  <a:pt x="13048" y="9351"/>
                  <a:pt x="13002" y="9395"/>
                  <a:pt x="12998" y="9451"/>
                </a:cubicBezTo>
                <a:cubicBezTo>
                  <a:pt x="12993" y="9517"/>
                  <a:pt x="13021" y="9568"/>
                  <a:pt x="13072" y="9599"/>
                </a:cubicBezTo>
                <a:cubicBezTo>
                  <a:pt x="13117" y="9627"/>
                  <a:pt x="13218" y="9662"/>
                  <a:pt x="13271" y="9674"/>
                </a:cubicBezTo>
                <a:cubicBezTo>
                  <a:pt x="13316" y="9684"/>
                  <a:pt x="13371" y="9694"/>
                  <a:pt x="13395" y="9748"/>
                </a:cubicBezTo>
                <a:cubicBezTo>
                  <a:pt x="13410" y="9781"/>
                  <a:pt x="13378" y="9838"/>
                  <a:pt x="13345" y="9847"/>
                </a:cubicBezTo>
                <a:cubicBezTo>
                  <a:pt x="13297" y="9860"/>
                  <a:pt x="13222" y="9847"/>
                  <a:pt x="13171" y="9847"/>
                </a:cubicBezTo>
                <a:cubicBezTo>
                  <a:pt x="13171" y="9790"/>
                  <a:pt x="13167" y="9751"/>
                  <a:pt x="13196" y="9699"/>
                </a:cubicBezTo>
                <a:cubicBezTo>
                  <a:pt x="13260" y="9586"/>
                  <a:pt x="13339" y="9451"/>
                  <a:pt x="13419" y="9351"/>
                </a:cubicBezTo>
                <a:cubicBezTo>
                  <a:pt x="13463" y="9295"/>
                  <a:pt x="13465" y="9302"/>
                  <a:pt x="13519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6040" y="341136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4560" y="9599"/>
                </a:moveTo>
                <a:cubicBezTo>
                  <a:pt x="14560" y="9591"/>
                  <a:pt x="14560" y="9583"/>
                  <a:pt x="14560" y="9575"/>
                </a:cubicBezTo>
                <a:cubicBezTo>
                  <a:pt x="14496" y="9575"/>
                  <a:pt x="14447" y="9589"/>
                  <a:pt x="14387" y="9599"/>
                </a:cubicBezTo>
                <a:cubicBezTo>
                  <a:pt x="14335" y="9607"/>
                  <a:pt x="14291" y="9624"/>
                  <a:pt x="14238" y="9624"/>
                </a:cubicBezTo>
              </a:path>
              <a:path w="323" h="249">
                <a:moveTo>
                  <a:pt x="14337" y="9475"/>
                </a:moveTo>
                <a:cubicBezTo>
                  <a:pt x="14372" y="9521"/>
                  <a:pt x="14364" y="9575"/>
                  <a:pt x="14387" y="9624"/>
                </a:cubicBezTo>
                <a:cubicBezTo>
                  <a:pt x="14405" y="9662"/>
                  <a:pt x="14412" y="9675"/>
                  <a:pt x="14412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8880" y="3232080"/>
            <a:ext cx="295200" cy="376200"/>
          </a:xfrm>
          <a:custGeom>
            <a:avLst/>
            <a:gdLst/>
            <a:ahLst/>
            <a:rect l="l" t="t" r="r" b="b"/>
            <a:pathLst>
              <a:path w="820" h="1043">
                <a:moveTo>
                  <a:pt x="15304" y="9004"/>
                </a:moveTo>
                <a:cubicBezTo>
                  <a:pt x="15312" y="8996"/>
                  <a:pt x="15321" y="8987"/>
                  <a:pt x="15329" y="8979"/>
                </a:cubicBezTo>
                <a:cubicBezTo>
                  <a:pt x="15244" y="9013"/>
                  <a:pt x="15247" y="9052"/>
                  <a:pt x="15205" y="9128"/>
                </a:cubicBezTo>
                <a:cubicBezTo>
                  <a:pt x="15143" y="9241"/>
                  <a:pt x="15110" y="9344"/>
                  <a:pt x="15106" y="9475"/>
                </a:cubicBezTo>
                <a:cubicBezTo>
                  <a:pt x="15102" y="9611"/>
                  <a:pt x="15115" y="9718"/>
                  <a:pt x="15156" y="9847"/>
                </a:cubicBezTo>
                <a:cubicBezTo>
                  <a:pt x="15174" y="9904"/>
                  <a:pt x="15199" y="10000"/>
                  <a:pt x="15230" y="10021"/>
                </a:cubicBezTo>
              </a:path>
              <a:path w="820" h="1043">
                <a:moveTo>
                  <a:pt x="15751" y="9252"/>
                </a:moveTo>
                <a:cubicBezTo>
                  <a:pt x="15751" y="9211"/>
                  <a:pt x="15751" y="9203"/>
                  <a:pt x="15751" y="9178"/>
                </a:cubicBezTo>
                <a:cubicBezTo>
                  <a:pt x="15704" y="9201"/>
                  <a:pt x="15675" y="9269"/>
                  <a:pt x="15652" y="9327"/>
                </a:cubicBezTo>
                <a:cubicBezTo>
                  <a:pt x="15623" y="9400"/>
                  <a:pt x="15606" y="9521"/>
                  <a:pt x="15627" y="9599"/>
                </a:cubicBezTo>
                <a:cubicBezTo>
                  <a:pt x="15654" y="9702"/>
                  <a:pt x="15737" y="9718"/>
                  <a:pt x="15825" y="9723"/>
                </a:cubicBezTo>
                <a:cubicBezTo>
                  <a:pt x="15892" y="9727"/>
                  <a:pt x="15919" y="9683"/>
                  <a:pt x="15925" y="9624"/>
                </a:cubicBezTo>
                <a:cubicBezTo>
                  <a:pt x="15931" y="9561"/>
                  <a:pt x="15840" y="9575"/>
                  <a:pt x="15801" y="9575"/>
                </a:cubicBezTo>
                <a:cubicBezTo>
                  <a:pt x="15784" y="9575"/>
                  <a:pt x="15768" y="9575"/>
                  <a:pt x="15751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92840" y="339408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6396" y="9500"/>
                </a:moveTo>
                <a:cubicBezTo>
                  <a:pt x="16388" y="9500"/>
                  <a:pt x="16379" y="9500"/>
                  <a:pt x="16371" y="9500"/>
                </a:cubicBezTo>
                <a:cubicBezTo>
                  <a:pt x="16410" y="9490"/>
                  <a:pt x="16426" y="9475"/>
                  <a:pt x="16470" y="9475"/>
                </a:cubicBezTo>
                <a:cubicBezTo>
                  <a:pt x="16531" y="9475"/>
                  <a:pt x="16567" y="9442"/>
                  <a:pt x="16619" y="9426"/>
                </a:cubicBezTo>
                <a:cubicBezTo>
                  <a:pt x="16644" y="9426"/>
                  <a:pt x="16652" y="9426"/>
                  <a:pt x="16669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4040" y="3241800"/>
            <a:ext cx="2602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17140" y="9351"/>
                </a:moveTo>
                <a:cubicBezTo>
                  <a:pt x="17085" y="9333"/>
                  <a:pt x="17127" y="9316"/>
                  <a:pt x="17140" y="9277"/>
                </a:cubicBezTo>
                <a:cubicBezTo>
                  <a:pt x="17157" y="9227"/>
                  <a:pt x="17179" y="9209"/>
                  <a:pt x="17239" y="9203"/>
                </a:cubicBezTo>
                <a:cubicBezTo>
                  <a:pt x="17318" y="9195"/>
                  <a:pt x="17328" y="9210"/>
                  <a:pt x="17363" y="9277"/>
                </a:cubicBezTo>
                <a:cubicBezTo>
                  <a:pt x="17403" y="9353"/>
                  <a:pt x="17437" y="9422"/>
                  <a:pt x="17388" y="9500"/>
                </a:cubicBezTo>
                <a:cubicBezTo>
                  <a:pt x="17355" y="9553"/>
                  <a:pt x="17297" y="9563"/>
                  <a:pt x="17239" y="9550"/>
                </a:cubicBezTo>
                <a:cubicBezTo>
                  <a:pt x="17183" y="9538"/>
                  <a:pt x="17100" y="9475"/>
                  <a:pt x="17066" y="9426"/>
                </a:cubicBezTo>
                <a:cubicBezTo>
                  <a:pt x="17035" y="9383"/>
                  <a:pt x="17041" y="9350"/>
                  <a:pt x="17041" y="9302"/>
                </a:cubicBezTo>
              </a:path>
              <a:path w="720" h="820">
                <a:moveTo>
                  <a:pt x="17388" y="9079"/>
                </a:moveTo>
                <a:cubicBezTo>
                  <a:pt x="17428" y="9031"/>
                  <a:pt x="17463" y="9008"/>
                  <a:pt x="17537" y="9004"/>
                </a:cubicBezTo>
                <a:cubicBezTo>
                  <a:pt x="17614" y="9000"/>
                  <a:pt x="17678" y="9029"/>
                  <a:pt x="17711" y="9103"/>
                </a:cubicBezTo>
                <a:cubicBezTo>
                  <a:pt x="17765" y="9224"/>
                  <a:pt x="17785" y="9375"/>
                  <a:pt x="17735" y="9500"/>
                </a:cubicBezTo>
                <a:cubicBezTo>
                  <a:pt x="17683" y="9630"/>
                  <a:pt x="17640" y="9685"/>
                  <a:pt x="17537" y="9773"/>
                </a:cubicBezTo>
                <a:cubicBezTo>
                  <a:pt x="17520" y="9790"/>
                  <a:pt x="17504" y="9806"/>
                  <a:pt x="17487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85000" y="335772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19397" y="9351"/>
                </a:moveTo>
                <a:cubicBezTo>
                  <a:pt x="19389" y="9343"/>
                  <a:pt x="19380" y="9335"/>
                  <a:pt x="19372" y="9327"/>
                </a:cubicBezTo>
                <a:cubicBezTo>
                  <a:pt x="19332" y="9351"/>
                  <a:pt x="19275" y="9373"/>
                  <a:pt x="19224" y="9376"/>
                </a:cubicBezTo>
                <a:cubicBezTo>
                  <a:pt x="19162" y="9380"/>
                  <a:pt x="19170" y="9367"/>
                  <a:pt x="19124" y="9401"/>
                </a:cubicBezTo>
              </a:path>
              <a:path w="274" h="199">
                <a:moveTo>
                  <a:pt x="19372" y="9525"/>
                </a:moveTo>
                <a:cubicBezTo>
                  <a:pt x="19380" y="9525"/>
                  <a:pt x="19389" y="9525"/>
                  <a:pt x="19397" y="9525"/>
                </a:cubicBezTo>
                <a:cubicBezTo>
                  <a:pt x="19331" y="9525"/>
                  <a:pt x="19265" y="9525"/>
                  <a:pt x="19199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43840" y="3276720"/>
            <a:ext cx="303120" cy="20628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19844" y="9128"/>
                </a:moveTo>
                <a:cubicBezTo>
                  <a:pt x="19852" y="9120"/>
                  <a:pt x="19861" y="9111"/>
                  <a:pt x="19869" y="9103"/>
                </a:cubicBezTo>
                <a:cubicBezTo>
                  <a:pt x="19869" y="9232"/>
                  <a:pt x="19872" y="9354"/>
                  <a:pt x="19844" y="9475"/>
                </a:cubicBezTo>
                <a:cubicBezTo>
                  <a:pt x="19844" y="9483"/>
                  <a:pt x="19844" y="9492"/>
                  <a:pt x="19844" y="9500"/>
                </a:cubicBezTo>
              </a:path>
              <a:path w="844" h="572">
                <a:moveTo>
                  <a:pt x="20166" y="9103"/>
                </a:moveTo>
                <a:cubicBezTo>
                  <a:pt x="20210" y="9118"/>
                  <a:pt x="20191" y="9174"/>
                  <a:pt x="20191" y="9227"/>
                </a:cubicBezTo>
                <a:cubicBezTo>
                  <a:pt x="20191" y="9272"/>
                  <a:pt x="20166" y="9401"/>
                  <a:pt x="20216" y="9426"/>
                </a:cubicBezTo>
                <a:cubicBezTo>
                  <a:pt x="20319" y="9477"/>
                  <a:pt x="20568" y="9426"/>
                  <a:pt x="20687" y="9426"/>
                </a:cubicBezTo>
              </a:path>
              <a:path w="844" h="572">
                <a:moveTo>
                  <a:pt x="20538" y="9327"/>
                </a:moveTo>
                <a:cubicBezTo>
                  <a:pt x="20538" y="9302"/>
                  <a:pt x="20538" y="9294"/>
                  <a:pt x="20513" y="9302"/>
                </a:cubicBezTo>
                <a:cubicBezTo>
                  <a:pt x="20513" y="9366"/>
                  <a:pt x="20499" y="9415"/>
                  <a:pt x="20489" y="9475"/>
                </a:cubicBezTo>
                <a:cubicBezTo>
                  <a:pt x="20479" y="9538"/>
                  <a:pt x="20489" y="9610"/>
                  <a:pt x="20489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81960" y="34830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1059" y="9674"/>
                </a:moveTo>
                <a:cubicBezTo>
                  <a:pt x="21067" y="9674"/>
                  <a:pt x="21076" y="9674"/>
                  <a:pt x="21084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28880" y="3490920"/>
            <a:ext cx="241200" cy="974880"/>
          </a:xfrm>
          <a:custGeom>
            <a:avLst/>
            <a:gdLst/>
            <a:ahLst/>
            <a:rect l="l" t="t" r="r" b="b"/>
            <a:pathLst>
              <a:path w="671" h="2704">
                <a:moveTo>
                  <a:pt x="5779" y="10691"/>
                </a:moveTo>
                <a:cubicBezTo>
                  <a:pt x="5820" y="10679"/>
                  <a:pt x="5838" y="10695"/>
                  <a:pt x="5854" y="10641"/>
                </a:cubicBezTo>
                <a:cubicBezTo>
                  <a:pt x="5872" y="10580"/>
                  <a:pt x="5853" y="10497"/>
                  <a:pt x="5829" y="10443"/>
                </a:cubicBezTo>
                <a:cubicBezTo>
                  <a:pt x="5809" y="10399"/>
                  <a:pt x="5809" y="10347"/>
                  <a:pt x="5755" y="10344"/>
                </a:cubicBezTo>
                <a:cubicBezTo>
                  <a:pt x="5707" y="10342"/>
                  <a:pt x="5657" y="10378"/>
                  <a:pt x="5631" y="10418"/>
                </a:cubicBezTo>
                <a:cubicBezTo>
                  <a:pt x="5587" y="10487"/>
                  <a:pt x="5581" y="10537"/>
                  <a:pt x="5581" y="10616"/>
                </a:cubicBezTo>
                <a:cubicBezTo>
                  <a:pt x="5581" y="10718"/>
                  <a:pt x="5592" y="10793"/>
                  <a:pt x="5631" y="10889"/>
                </a:cubicBezTo>
                <a:cubicBezTo>
                  <a:pt x="5667" y="10979"/>
                  <a:pt x="5699" y="11070"/>
                  <a:pt x="5730" y="11162"/>
                </a:cubicBezTo>
                <a:cubicBezTo>
                  <a:pt x="5783" y="11322"/>
                  <a:pt x="5822" y="11472"/>
                  <a:pt x="5854" y="11633"/>
                </a:cubicBezTo>
                <a:cubicBezTo>
                  <a:pt x="5865" y="11685"/>
                  <a:pt x="5914" y="11845"/>
                  <a:pt x="5829" y="11881"/>
                </a:cubicBezTo>
                <a:cubicBezTo>
                  <a:pt x="5762" y="11909"/>
                  <a:pt x="5593" y="11887"/>
                  <a:pt x="5531" y="11857"/>
                </a:cubicBezTo>
                <a:cubicBezTo>
                  <a:pt x="5460" y="11823"/>
                  <a:pt x="5424" y="11791"/>
                  <a:pt x="5383" y="11733"/>
                </a:cubicBezTo>
              </a:path>
              <a:path w="671" h="2704">
                <a:moveTo>
                  <a:pt x="5804" y="12129"/>
                </a:moveTo>
                <a:cubicBezTo>
                  <a:pt x="5829" y="12129"/>
                  <a:pt x="5837" y="12129"/>
                  <a:pt x="5854" y="12129"/>
                </a:cubicBezTo>
                <a:cubicBezTo>
                  <a:pt x="5801" y="12129"/>
                  <a:pt x="5793" y="12141"/>
                  <a:pt x="5755" y="12179"/>
                </a:cubicBezTo>
                <a:cubicBezTo>
                  <a:pt x="5692" y="12243"/>
                  <a:pt x="5691" y="12281"/>
                  <a:pt x="5730" y="12353"/>
                </a:cubicBezTo>
                <a:cubicBezTo>
                  <a:pt x="5778" y="12442"/>
                  <a:pt x="5843" y="12393"/>
                  <a:pt x="5928" y="12378"/>
                </a:cubicBezTo>
                <a:cubicBezTo>
                  <a:pt x="5974" y="12370"/>
                  <a:pt x="5995" y="12336"/>
                  <a:pt x="6028" y="12303"/>
                </a:cubicBezTo>
              </a:path>
              <a:path w="671" h="2704">
                <a:moveTo>
                  <a:pt x="5432" y="10046"/>
                </a:moveTo>
                <a:cubicBezTo>
                  <a:pt x="5432" y="10018"/>
                  <a:pt x="5434" y="10007"/>
                  <a:pt x="5457" y="9996"/>
                </a:cubicBezTo>
                <a:cubicBezTo>
                  <a:pt x="5412" y="10007"/>
                  <a:pt x="5370" y="10043"/>
                  <a:pt x="5358" y="10096"/>
                </a:cubicBezTo>
                <a:cubicBezTo>
                  <a:pt x="5339" y="10178"/>
                  <a:pt x="5392" y="10215"/>
                  <a:pt x="5457" y="10220"/>
                </a:cubicBezTo>
                <a:cubicBezTo>
                  <a:pt x="5465" y="10220"/>
                  <a:pt x="5474" y="10220"/>
                  <a:pt x="5482" y="10220"/>
                </a:cubicBezTo>
                <a:cubicBezTo>
                  <a:pt x="5517" y="10115"/>
                  <a:pt x="5507" y="10010"/>
                  <a:pt x="5507" y="9897"/>
                </a:cubicBezTo>
                <a:cubicBezTo>
                  <a:pt x="5507" y="9835"/>
                  <a:pt x="5516" y="9718"/>
                  <a:pt x="5457" y="9699"/>
                </a:cubicBezTo>
                <a:cubicBezTo>
                  <a:pt x="5465" y="9790"/>
                  <a:pt x="5480" y="9916"/>
                  <a:pt x="5531" y="9996"/>
                </a:cubicBezTo>
                <a:cubicBezTo>
                  <a:pt x="5581" y="10046"/>
                  <a:pt x="5598" y="10063"/>
                  <a:pt x="5631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7920" y="3840120"/>
            <a:ext cx="43020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6598" y="11063"/>
                </a:moveTo>
                <a:cubicBezTo>
                  <a:pt x="6673" y="11055"/>
                  <a:pt x="6692" y="11054"/>
                  <a:pt x="6747" y="11013"/>
                </a:cubicBezTo>
                <a:cubicBezTo>
                  <a:pt x="6736" y="10969"/>
                  <a:pt x="6705" y="10927"/>
                  <a:pt x="6672" y="10889"/>
                </a:cubicBezTo>
                <a:cubicBezTo>
                  <a:pt x="6626" y="10837"/>
                  <a:pt x="6600" y="10865"/>
                  <a:pt x="6573" y="10914"/>
                </a:cubicBezTo>
                <a:cubicBezTo>
                  <a:pt x="6519" y="11009"/>
                  <a:pt x="6524" y="11078"/>
                  <a:pt x="6524" y="11187"/>
                </a:cubicBezTo>
                <a:cubicBezTo>
                  <a:pt x="6524" y="11294"/>
                  <a:pt x="6546" y="11432"/>
                  <a:pt x="6573" y="11534"/>
                </a:cubicBezTo>
                <a:cubicBezTo>
                  <a:pt x="6581" y="11551"/>
                  <a:pt x="6590" y="11567"/>
                  <a:pt x="6598" y="11584"/>
                </a:cubicBezTo>
              </a:path>
              <a:path w="1191" h="919">
                <a:moveTo>
                  <a:pt x="6648" y="11311"/>
                </a:moveTo>
                <a:cubicBezTo>
                  <a:pt x="6607" y="11321"/>
                  <a:pt x="6589" y="11351"/>
                  <a:pt x="6548" y="11361"/>
                </a:cubicBezTo>
              </a:path>
              <a:path w="1191" h="919">
                <a:moveTo>
                  <a:pt x="7193" y="10666"/>
                </a:moveTo>
                <a:cubicBezTo>
                  <a:pt x="7222" y="10680"/>
                  <a:pt x="7170" y="10739"/>
                  <a:pt x="7144" y="10790"/>
                </a:cubicBezTo>
                <a:cubicBezTo>
                  <a:pt x="7084" y="10909"/>
                  <a:pt x="7026" y="11077"/>
                  <a:pt x="7069" y="11212"/>
                </a:cubicBezTo>
                <a:cubicBezTo>
                  <a:pt x="7113" y="11277"/>
                  <a:pt x="7124" y="11291"/>
                  <a:pt x="7144" y="11336"/>
                </a:cubicBezTo>
              </a:path>
              <a:path w="1191" h="919">
                <a:moveTo>
                  <a:pt x="7293" y="11187"/>
                </a:moveTo>
                <a:cubicBezTo>
                  <a:pt x="7293" y="11130"/>
                  <a:pt x="7286" y="11106"/>
                  <a:pt x="7342" y="11088"/>
                </a:cubicBezTo>
                <a:cubicBezTo>
                  <a:pt x="7392" y="11072"/>
                  <a:pt x="7439" y="11094"/>
                  <a:pt x="7466" y="11137"/>
                </a:cubicBezTo>
                <a:cubicBezTo>
                  <a:pt x="7502" y="11193"/>
                  <a:pt x="7503" y="11256"/>
                  <a:pt x="7466" y="11311"/>
                </a:cubicBezTo>
                <a:cubicBezTo>
                  <a:pt x="7443" y="11346"/>
                  <a:pt x="7447" y="11351"/>
                  <a:pt x="7417" y="11361"/>
                </a:cubicBezTo>
              </a:path>
              <a:path w="1191" h="919">
                <a:moveTo>
                  <a:pt x="7541" y="11088"/>
                </a:moveTo>
                <a:cubicBezTo>
                  <a:pt x="7541" y="11071"/>
                  <a:pt x="7541" y="11055"/>
                  <a:pt x="7541" y="11038"/>
                </a:cubicBezTo>
                <a:cubicBezTo>
                  <a:pt x="7516" y="11080"/>
                  <a:pt x="7489" y="11185"/>
                  <a:pt x="7516" y="11237"/>
                </a:cubicBezTo>
                <a:cubicBezTo>
                  <a:pt x="7558" y="11317"/>
                  <a:pt x="7640" y="11311"/>
                  <a:pt x="7714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01960" y="3884760"/>
            <a:ext cx="42876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8086" y="11187"/>
                </a:moveTo>
                <a:cubicBezTo>
                  <a:pt x="8029" y="11187"/>
                  <a:pt x="8149" y="11165"/>
                  <a:pt x="8161" y="11162"/>
                </a:cubicBezTo>
                <a:cubicBezTo>
                  <a:pt x="8197" y="11153"/>
                  <a:pt x="8248" y="11162"/>
                  <a:pt x="8285" y="11162"/>
                </a:cubicBezTo>
              </a:path>
              <a:path w="1191" h="919">
                <a:moveTo>
                  <a:pt x="8607" y="11063"/>
                </a:moveTo>
                <a:cubicBezTo>
                  <a:pt x="8586" y="11035"/>
                  <a:pt x="8556" y="10989"/>
                  <a:pt x="8607" y="10964"/>
                </a:cubicBezTo>
                <a:cubicBezTo>
                  <a:pt x="8641" y="10947"/>
                  <a:pt x="8713" y="10926"/>
                  <a:pt x="8756" y="10939"/>
                </a:cubicBezTo>
                <a:cubicBezTo>
                  <a:pt x="8825" y="10959"/>
                  <a:pt x="8850" y="11000"/>
                  <a:pt x="8855" y="11063"/>
                </a:cubicBezTo>
                <a:cubicBezTo>
                  <a:pt x="8859" y="11115"/>
                  <a:pt x="8814" y="11175"/>
                  <a:pt x="8781" y="11212"/>
                </a:cubicBezTo>
                <a:cubicBezTo>
                  <a:pt x="8744" y="11254"/>
                  <a:pt x="8731" y="11281"/>
                  <a:pt x="8731" y="11336"/>
                </a:cubicBezTo>
                <a:cubicBezTo>
                  <a:pt x="8731" y="11344"/>
                  <a:pt x="8731" y="11353"/>
                  <a:pt x="8731" y="11361"/>
                </a:cubicBezTo>
                <a:cubicBezTo>
                  <a:pt x="8822" y="11361"/>
                  <a:pt x="8926" y="11363"/>
                  <a:pt x="8979" y="11336"/>
                </a:cubicBezTo>
                <a:cubicBezTo>
                  <a:pt x="8987" y="11336"/>
                  <a:pt x="8996" y="11336"/>
                  <a:pt x="9004" y="11336"/>
                </a:cubicBezTo>
              </a:path>
              <a:path w="1191" h="919">
                <a:moveTo>
                  <a:pt x="8880" y="10815"/>
                </a:moveTo>
                <a:cubicBezTo>
                  <a:pt x="8906" y="10804"/>
                  <a:pt x="8970" y="10771"/>
                  <a:pt x="9004" y="10790"/>
                </a:cubicBezTo>
                <a:cubicBezTo>
                  <a:pt x="9027" y="10803"/>
                  <a:pt x="9118" y="10831"/>
                  <a:pt x="9128" y="10840"/>
                </a:cubicBezTo>
                <a:cubicBezTo>
                  <a:pt x="9168" y="10876"/>
                  <a:pt x="9243" y="10988"/>
                  <a:pt x="9252" y="11038"/>
                </a:cubicBezTo>
                <a:cubicBezTo>
                  <a:pt x="9271" y="11146"/>
                  <a:pt x="9256" y="11282"/>
                  <a:pt x="9227" y="11385"/>
                </a:cubicBezTo>
                <a:cubicBezTo>
                  <a:pt x="9198" y="11488"/>
                  <a:pt x="9152" y="11544"/>
                  <a:pt x="9103" y="11633"/>
                </a:cubicBezTo>
                <a:cubicBezTo>
                  <a:pt x="9082" y="11677"/>
                  <a:pt x="9079" y="11689"/>
                  <a:pt x="9054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95840" y="403704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0740" y="11212"/>
                </a:moveTo>
                <a:cubicBezTo>
                  <a:pt x="10748" y="11212"/>
                  <a:pt x="10757" y="11212"/>
                  <a:pt x="10765" y="11212"/>
                </a:cubicBezTo>
                <a:cubicBezTo>
                  <a:pt x="10756" y="11240"/>
                  <a:pt x="10709" y="11251"/>
                  <a:pt x="10666" y="11261"/>
                </a:cubicBezTo>
                <a:cubicBezTo>
                  <a:pt x="10630" y="11270"/>
                  <a:pt x="10600" y="11282"/>
                  <a:pt x="10567" y="11286"/>
                </a:cubicBezTo>
                <a:cubicBezTo>
                  <a:pt x="10559" y="11286"/>
                  <a:pt x="10550" y="11286"/>
                  <a:pt x="10542" y="11286"/>
                </a:cubicBezTo>
              </a:path>
              <a:path w="249" h="224">
                <a:moveTo>
                  <a:pt x="10765" y="11385"/>
                </a:moveTo>
                <a:cubicBezTo>
                  <a:pt x="10773" y="11385"/>
                  <a:pt x="10782" y="11385"/>
                  <a:pt x="10790" y="11385"/>
                </a:cubicBezTo>
                <a:cubicBezTo>
                  <a:pt x="10777" y="11425"/>
                  <a:pt x="10742" y="11410"/>
                  <a:pt x="10691" y="11410"/>
                </a:cubicBezTo>
                <a:cubicBezTo>
                  <a:pt x="10643" y="11410"/>
                  <a:pt x="10630" y="11412"/>
                  <a:pt x="1059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4880" y="3983040"/>
            <a:ext cx="15228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12005" y="11137"/>
                </a:moveTo>
                <a:cubicBezTo>
                  <a:pt x="12063" y="11137"/>
                  <a:pt x="12086" y="11145"/>
                  <a:pt x="12129" y="11112"/>
                </a:cubicBezTo>
                <a:cubicBezTo>
                  <a:pt x="12129" y="11061"/>
                  <a:pt x="12131" y="11063"/>
                  <a:pt x="12080" y="11063"/>
                </a:cubicBezTo>
                <a:cubicBezTo>
                  <a:pt x="12011" y="11063"/>
                  <a:pt x="11970" y="11066"/>
                  <a:pt x="11906" y="11088"/>
                </a:cubicBezTo>
                <a:cubicBezTo>
                  <a:pt x="11825" y="11116"/>
                  <a:pt x="11791" y="11154"/>
                  <a:pt x="11733" y="11212"/>
                </a:cubicBezTo>
                <a:cubicBezTo>
                  <a:pt x="11672" y="11274"/>
                  <a:pt x="11724" y="11305"/>
                  <a:pt x="11782" y="11336"/>
                </a:cubicBezTo>
                <a:cubicBezTo>
                  <a:pt x="11846" y="11370"/>
                  <a:pt x="11913" y="11376"/>
                  <a:pt x="11981" y="11410"/>
                </a:cubicBezTo>
                <a:cubicBezTo>
                  <a:pt x="12045" y="11442"/>
                  <a:pt x="12105" y="11460"/>
                  <a:pt x="12129" y="11534"/>
                </a:cubicBezTo>
                <a:cubicBezTo>
                  <a:pt x="12142" y="11575"/>
                  <a:pt x="12113" y="11612"/>
                  <a:pt x="12080" y="11633"/>
                </a:cubicBezTo>
                <a:cubicBezTo>
                  <a:pt x="12037" y="11660"/>
                  <a:pt x="11931" y="11678"/>
                  <a:pt x="11881" y="11658"/>
                </a:cubicBezTo>
                <a:cubicBezTo>
                  <a:pt x="11859" y="11635"/>
                  <a:pt x="11854" y="11627"/>
                  <a:pt x="11832" y="11633"/>
                </a:cubicBezTo>
                <a:cubicBezTo>
                  <a:pt x="11879" y="11552"/>
                  <a:pt x="11909" y="11468"/>
                  <a:pt x="11956" y="11385"/>
                </a:cubicBezTo>
                <a:cubicBezTo>
                  <a:pt x="12010" y="11289"/>
                  <a:pt x="12073" y="11204"/>
                  <a:pt x="12129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82840" y="4660920"/>
            <a:ext cx="8892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4192" y="13047"/>
                </a:moveTo>
                <a:cubicBezTo>
                  <a:pt x="4239" y="13027"/>
                  <a:pt x="4285" y="13027"/>
                  <a:pt x="4291" y="12973"/>
                </a:cubicBezTo>
                <a:cubicBezTo>
                  <a:pt x="4291" y="12965"/>
                  <a:pt x="4291" y="12956"/>
                  <a:pt x="4291" y="12948"/>
                </a:cubicBezTo>
                <a:cubicBezTo>
                  <a:pt x="4227" y="12948"/>
                  <a:pt x="4184" y="12967"/>
                  <a:pt x="4142" y="13022"/>
                </a:cubicBezTo>
                <a:cubicBezTo>
                  <a:pt x="4090" y="13091"/>
                  <a:pt x="4105" y="13195"/>
                  <a:pt x="4167" y="13246"/>
                </a:cubicBezTo>
                <a:cubicBezTo>
                  <a:pt x="4228" y="13296"/>
                  <a:pt x="4304" y="13269"/>
                  <a:pt x="4366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4680" y="4680000"/>
            <a:ext cx="53640" cy="522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4862" y="12998"/>
                </a:moveTo>
                <a:cubicBezTo>
                  <a:pt x="4878" y="12998"/>
                  <a:pt x="4895" y="12998"/>
                  <a:pt x="4911" y="12998"/>
                </a:cubicBezTo>
                <a:cubicBezTo>
                  <a:pt x="4868" y="13009"/>
                  <a:pt x="4827" y="13035"/>
                  <a:pt x="4787" y="13047"/>
                </a:cubicBezTo>
                <a:cubicBezTo>
                  <a:pt x="4779" y="13047"/>
                  <a:pt x="4770" y="13047"/>
                  <a:pt x="4762" y="13047"/>
                </a:cubicBezTo>
              </a:path>
              <a:path w="150" h="149">
                <a:moveTo>
                  <a:pt x="4862" y="13047"/>
                </a:moveTo>
                <a:cubicBezTo>
                  <a:pt x="4878" y="13069"/>
                  <a:pt x="4918" y="13129"/>
                  <a:pt x="4862" y="13146"/>
                </a:cubicBezTo>
                <a:cubicBezTo>
                  <a:pt x="4845" y="13146"/>
                  <a:pt x="4829" y="13146"/>
                  <a:pt x="481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55880" y="4626000"/>
            <a:ext cx="206280" cy="1778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5457" y="12998"/>
                </a:moveTo>
                <a:cubicBezTo>
                  <a:pt x="5449" y="12998"/>
                  <a:pt x="5440" y="12998"/>
                  <a:pt x="5432" y="12998"/>
                </a:cubicBezTo>
                <a:cubicBezTo>
                  <a:pt x="5442" y="12968"/>
                  <a:pt x="5453" y="12956"/>
                  <a:pt x="5482" y="12923"/>
                </a:cubicBezTo>
                <a:cubicBezTo>
                  <a:pt x="5537" y="12861"/>
                  <a:pt x="5572" y="12853"/>
                  <a:pt x="5655" y="12849"/>
                </a:cubicBezTo>
                <a:cubicBezTo>
                  <a:pt x="5738" y="12845"/>
                  <a:pt x="5752" y="12899"/>
                  <a:pt x="5755" y="12973"/>
                </a:cubicBezTo>
                <a:cubicBezTo>
                  <a:pt x="5759" y="13053"/>
                  <a:pt x="5736" y="13148"/>
                  <a:pt x="5705" y="13221"/>
                </a:cubicBezTo>
                <a:cubicBezTo>
                  <a:pt x="5684" y="13271"/>
                  <a:pt x="5662" y="13315"/>
                  <a:pt x="5730" y="13345"/>
                </a:cubicBezTo>
                <a:cubicBezTo>
                  <a:pt x="5751" y="13354"/>
                  <a:pt x="5879" y="13303"/>
                  <a:pt x="5904" y="13295"/>
                </a:cubicBezTo>
                <a:cubicBezTo>
                  <a:pt x="5952" y="13272"/>
                  <a:pt x="5966" y="13264"/>
                  <a:pt x="600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6640" y="4776840"/>
            <a:ext cx="18720" cy="54000"/>
          </a:xfrm>
          <a:custGeom>
            <a:avLst/>
            <a:gdLst/>
            <a:ahLst/>
            <a:rect l="l" t="t" r="r" b="b"/>
            <a:pathLst>
              <a:path w="51" h="149">
                <a:moveTo>
                  <a:pt x="6375" y="13271"/>
                </a:moveTo>
                <a:cubicBezTo>
                  <a:pt x="6375" y="13322"/>
                  <a:pt x="6383" y="13355"/>
                  <a:pt x="6350" y="13395"/>
                </a:cubicBezTo>
                <a:cubicBezTo>
                  <a:pt x="6342" y="13403"/>
                  <a:pt x="6333" y="13411"/>
                  <a:pt x="6325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0200" y="453708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7069" y="12998"/>
                </a:moveTo>
                <a:cubicBezTo>
                  <a:pt x="7077" y="12990"/>
                  <a:pt x="7086" y="12981"/>
                  <a:pt x="7094" y="12973"/>
                </a:cubicBezTo>
                <a:cubicBezTo>
                  <a:pt x="7075" y="12917"/>
                  <a:pt x="7023" y="12983"/>
                  <a:pt x="6995" y="13022"/>
                </a:cubicBezTo>
                <a:cubicBezTo>
                  <a:pt x="6949" y="13087"/>
                  <a:pt x="6953" y="13105"/>
                  <a:pt x="6970" y="13171"/>
                </a:cubicBezTo>
                <a:cubicBezTo>
                  <a:pt x="7039" y="13223"/>
                  <a:pt x="7083" y="13150"/>
                  <a:pt x="7094" y="13072"/>
                </a:cubicBezTo>
                <a:cubicBezTo>
                  <a:pt x="7112" y="12942"/>
                  <a:pt x="7119" y="12807"/>
                  <a:pt x="7119" y="12675"/>
                </a:cubicBezTo>
                <a:cubicBezTo>
                  <a:pt x="7119" y="12659"/>
                  <a:pt x="7119" y="12642"/>
                  <a:pt x="7119" y="12626"/>
                </a:cubicBezTo>
                <a:cubicBezTo>
                  <a:pt x="7119" y="12567"/>
                  <a:pt x="7119" y="12804"/>
                  <a:pt x="7119" y="12824"/>
                </a:cubicBezTo>
                <a:cubicBezTo>
                  <a:pt x="7119" y="12967"/>
                  <a:pt x="7117" y="13086"/>
                  <a:pt x="7169" y="13221"/>
                </a:cubicBezTo>
                <a:cubicBezTo>
                  <a:pt x="7195" y="13290"/>
                  <a:pt x="7199" y="13279"/>
                  <a:pt x="7243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1120" y="466092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7665" y="12948"/>
                </a:moveTo>
                <a:cubicBezTo>
                  <a:pt x="7706" y="12948"/>
                  <a:pt x="7714" y="12948"/>
                  <a:pt x="7739" y="12948"/>
                </a:cubicBezTo>
                <a:cubicBezTo>
                  <a:pt x="7721" y="13002"/>
                  <a:pt x="7708" y="12949"/>
                  <a:pt x="7665" y="12973"/>
                </a:cubicBezTo>
                <a:cubicBezTo>
                  <a:pt x="7643" y="12995"/>
                  <a:pt x="7634" y="13000"/>
                  <a:pt x="7640" y="13022"/>
                </a:cubicBezTo>
              </a:path>
              <a:path w="174" h="249">
                <a:moveTo>
                  <a:pt x="7714" y="13097"/>
                </a:moveTo>
                <a:cubicBezTo>
                  <a:pt x="7775" y="13117"/>
                  <a:pt x="7789" y="13115"/>
                  <a:pt x="7813" y="13146"/>
                </a:cubicBezTo>
                <a:cubicBezTo>
                  <a:pt x="7769" y="13157"/>
                  <a:pt x="7738" y="13184"/>
                  <a:pt x="7689" y="13196"/>
                </a:cubicBezTo>
                <a:cubicBezTo>
                  <a:pt x="7681" y="13196"/>
                  <a:pt x="7673" y="13196"/>
                  <a:pt x="7665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28960" y="4572000"/>
            <a:ext cx="206280" cy="206280"/>
          </a:xfrm>
          <a:custGeom>
            <a:avLst/>
            <a:gdLst/>
            <a:ahLst/>
            <a:rect l="l" t="t" r="r" b="b"/>
            <a:pathLst>
              <a:path w="571" h="572">
                <a:moveTo>
                  <a:pt x="8136" y="12874"/>
                </a:moveTo>
                <a:cubicBezTo>
                  <a:pt x="8196" y="12822"/>
                  <a:pt x="8173" y="12824"/>
                  <a:pt x="8235" y="12824"/>
                </a:cubicBezTo>
                <a:cubicBezTo>
                  <a:pt x="8223" y="12874"/>
                  <a:pt x="8174" y="12893"/>
                  <a:pt x="8161" y="12948"/>
                </a:cubicBezTo>
                <a:cubicBezTo>
                  <a:pt x="8154" y="12980"/>
                  <a:pt x="8151" y="13054"/>
                  <a:pt x="8186" y="13072"/>
                </a:cubicBezTo>
                <a:cubicBezTo>
                  <a:pt x="8245" y="13102"/>
                  <a:pt x="8422" y="13023"/>
                  <a:pt x="8458" y="13097"/>
                </a:cubicBezTo>
                <a:cubicBezTo>
                  <a:pt x="8476" y="13135"/>
                  <a:pt x="8437" y="13178"/>
                  <a:pt x="8409" y="13196"/>
                </a:cubicBezTo>
                <a:cubicBezTo>
                  <a:pt x="8369" y="13222"/>
                  <a:pt x="8327" y="13260"/>
                  <a:pt x="8285" y="13271"/>
                </a:cubicBezTo>
              </a:path>
              <a:path w="571" h="572">
                <a:moveTo>
                  <a:pt x="8657" y="12750"/>
                </a:moveTo>
                <a:cubicBezTo>
                  <a:pt x="8679" y="12728"/>
                  <a:pt x="8684" y="12719"/>
                  <a:pt x="8706" y="12725"/>
                </a:cubicBezTo>
                <a:cubicBezTo>
                  <a:pt x="8659" y="12689"/>
                  <a:pt x="8617" y="12710"/>
                  <a:pt x="8558" y="12725"/>
                </a:cubicBezTo>
                <a:cubicBezTo>
                  <a:pt x="8533" y="12733"/>
                  <a:pt x="8508" y="12742"/>
                  <a:pt x="84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0080" y="505476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6028" y="14039"/>
                </a:moveTo>
                <a:cubicBezTo>
                  <a:pt x="6036" y="14039"/>
                  <a:pt x="6044" y="14039"/>
                  <a:pt x="6052" y="14039"/>
                </a:cubicBezTo>
              </a:path>
              <a:path w="25" h="1">
                <a:moveTo>
                  <a:pt x="6028" y="14039"/>
                </a:moveTo>
                <a:cubicBezTo>
                  <a:pt x="6036" y="14039"/>
                  <a:pt x="6044" y="14039"/>
                  <a:pt x="6052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3710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01880" y="376884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5283" y="11063"/>
                </a:moveTo>
                <a:cubicBezTo>
                  <a:pt x="5283" y="11127"/>
                  <a:pt x="5307" y="10994"/>
                  <a:pt x="5308" y="10988"/>
                </a:cubicBezTo>
                <a:cubicBezTo>
                  <a:pt x="5324" y="10897"/>
                  <a:pt x="5358" y="10808"/>
                  <a:pt x="5383" y="10716"/>
                </a:cubicBezTo>
                <a:cubicBezTo>
                  <a:pt x="5408" y="10623"/>
                  <a:pt x="5421" y="10543"/>
                  <a:pt x="5482" y="10468"/>
                </a:cubicBezTo>
                <a:cubicBezTo>
                  <a:pt x="5534" y="10572"/>
                  <a:pt x="5537" y="10653"/>
                  <a:pt x="5556" y="10765"/>
                </a:cubicBezTo>
                <a:cubicBezTo>
                  <a:pt x="5576" y="10886"/>
                  <a:pt x="5610" y="11022"/>
                  <a:pt x="5655" y="11137"/>
                </a:cubicBezTo>
                <a:cubicBezTo>
                  <a:pt x="5663" y="11154"/>
                  <a:pt x="5672" y="11170"/>
                  <a:pt x="5680" y="11187"/>
                </a:cubicBezTo>
              </a:path>
              <a:path w="398" h="720">
                <a:moveTo>
                  <a:pt x="5655" y="11038"/>
                </a:moveTo>
                <a:cubicBezTo>
                  <a:pt x="5592" y="10974"/>
                  <a:pt x="5592" y="10964"/>
                  <a:pt x="5507" y="10964"/>
                </a:cubicBezTo>
                <a:cubicBezTo>
                  <a:pt x="5499" y="10964"/>
                  <a:pt x="5490" y="10964"/>
                  <a:pt x="5482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51080" y="38847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6424" y="10815"/>
                </a:moveTo>
                <a:cubicBezTo>
                  <a:pt x="6424" y="10807"/>
                  <a:pt x="6424" y="10798"/>
                  <a:pt x="6424" y="10790"/>
                </a:cubicBezTo>
                <a:cubicBezTo>
                  <a:pt x="6380" y="10790"/>
                  <a:pt x="6312" y="10798"/>
                  <a:pt x="6276" y="10815"/>
                </a:cubicBezTo>
                <a:cubicBezTo>
                  <a:pt x="6268" y="10823"/>
                  <a:pt x="6259" y="10832"/>
                  <a:pt x="6251" y="10840"/>
                </a:cubicBezTo>
              </a:path>
              <a:path w="174" h="150">
                <a:moveTo>
                  <a:pt x="6375" y="10889"/>
                </a:moveTo>
                <a:cubicBezTo>
                  <a:pt x="6391" y="10889"/>
                  <a:pt x="6408" y="10889"/>
                  <a:pt x="6424" y="10889"/>
                </a:cubicBezTo>
                <a:cubicBezTo>
                  <a:pt x="6410" y="10932"/>
                  <a:pt x="6377" y="10932"/>
                  <a:pt x="632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1320" y="3857760"/>
            <a:ext cx="812880" cy="169560"/>
          </a:xfrm>
          <a:custGeom>
            <a:avLst/>
            <a:gdLst/>
            <a:ahLst/>
            <a:rect l="l" t="t" r="r" b="b"/>
            <a:pathLst>
              <a:path w="2259" h="472">
                <a:moveTo>
                  <a:pt x="8310" y="10815"/>
                </a:moveTo>
                <a:cubicBezTo>
                  <a:pt x="8330" y="10774"/>
                  <a:pt x="8338" y="10768"/>
                  <a:pt x="8334" y="10740"/>
                </a:cubicBezTo>
                <a:cubicBezTo>
                  <a:pt x="8272" y="10740"/>
                  <a:pt x="8236" y="10738"/>
                  <a:pt x="8186" y="10765"/>
                </a:cubicBezTo>
                <a:cubicBezTo>
                  <a:pt x="8122" y="10800"/>
                  <a:pt x="8071" y="10846"/>
                  <a:pt x="8111" y="10914"/>
                </a:cubicBezTo>
                <a:cubicBezTo>
                  <a:pt x="8145" y="10972"/>
                  <a:pt x="8231" y="10964"/>
                  <a:pt x="8285" y="10988"/>
                </a:cubicBezTo>
                <a:cubicBezTo>
                  <a:pt x="8346" y="11015"/>
                  <a:pt x="8359" y="11027"/>
                  <a:pt x="8359" y="11088"/>
                </a:cubicBezTo>
                <a:cubicBezTo>
                  <a:pt x="8359" y="11158"/>
                  <a:pt x="8285" y="11137"/>
                  <a:pt x="8235" y="11137"/>
                </a:cubicBezTo>
                <a:cubicBezTo>
                  <a:pt x="8159" y="11137"/>
                  <a:pt x="8160" y="11149"/>
                  <a:pt x="8111" y="11112"/>
                </a:cubicBezTo>
              </a:path>
              <a:path w="2259" h="472">
                <a:moveTo>
                  <a:pt x="8409" y="10964"/>
                </a:moveTo>
                <a:cubicBezTo>
                  <a:pt x="8462" y="10970"/>
                  <a:pt x="8504" y="10988"/>
                  <a:pt x="8558" y="10988"/>
                </a:cubicBezTo>
                <a:cubicBezTo>
                  <a:pt x="8644" y="10988"/>
                  <a:pt x="8666" y="10975"/>
                  <a:pt x="8731" y="10914"/>
                </a:cubicBezTo>
                <a:cubicBezTo>
                  <a:pt x="8754" y="10891"/>
                  <a:pt x="8762" y="10887"/>
                  <a:pt x="8756" y="10864"/>
                </a:cubicBezTo>
                <a:cubicBezTo>
                  <a:pt x="8710" y="10883"/>
                  <a:pt x="8646" y="10929"/>
                  <a:pt x="8632" y="10988"/>
                </a:cubicBezTo>
                <a:cubicBezTo>
                  <a:pt x="8613" y="11068"/>
                  <a:pt x="8665" y="11108"/>
                  <a:pt x="8731" y="11112"/>
                </a:cubicBezTo>
                <a:cubicBezTo>
                  <a:pt x="8793" y="11116"/>
                  <a:pt x="8823" y="11109"/>
                  <a:pt x="8880" y="11088"/>
                </a:cubicBezTo>
              </a:path>
              <a:path w="2259" h="472">
                <a:moveTo>
                  <a:pt x="9103" y="10840"/>
                </a:moveTo>
                <a:cubicBezTo>
                  <a:pt x="9084" y="10781"/>
                  <a:pt x="9039" y="10852"/>
                  <a:pt x="9029" y="10889"/>
                </a:cubicBezTo>
                <a:cubicBezTo>
                  <a:pt x="9017" y="10934"/>
                  <a:pt x="9024" y="11043"/>
                  <a:pt x="9079" y="11063"/>
                </a:cubicBezTo>
                <a:cubicBezTo>
                  <a:pt x="9132" y="11082"/>
                  <a:pt x="9239" y="11053"/>
                  <a:pt x="9277" y="11013"/>
                </a:cubicBezTo>
                <a:cubicBezTo>
                  <a:pt x="9322" y="10965"/>
                  <a:pt x="9360" y="10829"/>
                  <a:pt x="9376" y="10765"/>
                </a:cubicBezTo>
                <a:cubicBezTo>
                  <a:pt x="9376" y="10740"/>
                  <a:pt x="9376" y="10732"/>
                  <a:pt x="9376" y="10716"/>
                </a:cubicBezTo>
                <a:cubicBezTo>
                  <a:pt x="9359" y="10783"/>
                  <a:pt x="9329" y="10834"/>
                  <a:pt x="9327" y="10914"/>
                </a:cubicBezTo>
                <a:cubicBezTo>
                  <a:pt x="9324" y="11008"/>
                  <a:pt x="9339" y="11055"/>
                  <a:pt x="9376" y="11137"/>
                </a:cubicBezTo>
              </a:path>
              <a:path w="2259" h="472">
                <a:moveTo>
                  <a:pt x="9500" y="11063"/>
                </a:moveTo>
                <a:cubicBezTo>
                  <a:pt x="9414" y="11011"/>
                  <a:pt x="9418" y="11013"/>
                  <a:pt x="9327" y="11013"/>
                </a:cubicBezTo>
                <a:cubicBezTo>
                  <a:pt x="9319" y="11013"/>
                  <a:pt x="9310" y="11013"/>
                  <a:pt x="9302" y="11013"/>
                </a:cubicBezTo>
              </a:path>
              <a:path w="2259" h="472">
                <a:moveTo>
                  <a:pt x="9550" y="10988"/>
                </a:moveTo>
                <a:cubicBezTo>
                  <a:pt x="9616" y="10988"/>
                  <a:pt x="9691" y="10974"/>
                  <a:pt x="9748" y="11013"/>
                </a:cubicBezTo>
                <a:cubicBezTo>
                  <a:pt x="9800" y="11048"/>
                  <a:pt x="9798" y="11080"/>
                  <a:pt x="9798" y="11137"/>
                </a:cubicBezTo>
                <a:cubicBezTo>
                  <a:pt x="9798" y="11227"/>
                  <a:pt x="9718" y="11169"/>
                  <a:pt x="9674" y="11162"/>
                </a:cubicBezTo>
                <a:cubicBezTo>
                  <a:pt x="9619" y="11153"/>
                  <a:pt x="9539" y="11150"/>
                  <a:pt x="9525" y="11088"/>
                </a:cubicBezTo>
                <a:cubicBezTo>
                  <a:pt x="9525" y="11080"/>
                  <a:pt x="9525" y="11071"/>
                  <a:pt x="9525" y="11063"/>
                </a:cubicBezTo>
              </a:path>
              <a:path w="2259" h="472">
                <a:moveTo>
                  <a:pt x="9897" y="11088"/>
                </a:moveTo>
                <a:cubicBezTo>
                  <a:pt x="9988" y="11162"/>
                  <a:pt x="9950" y="11162"/>
                  <a:pt x="10046" y="11162"/>
                </a:cubicBezTo>
                <a:cubicBezTo>
                  <a:pt x="10058" y="11066"/>
                  <a:pt x="10102" y="11011"/>
                  <a:pt x="10170" y="10939"/>
                </a:cubicBezTo>
                <a:cubicBezTo>
                  <a:pt x="10243" y="10865"/>
                  <a:pt x="10267" y="10840"/>
                  <a:pt x="1034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32200" y="3990960"/>
            <a:ext cx="125640" cy="9720"/>
          </a:xfrm>
          <a:custGeom>
            <a:avLst/>
            <a:gdLst/>
            <a:ahLst/>
            <a:rect l="l" t="t" r="r" b="b"/>
            <a:pathLst>
              <a:path w="349" h="25">
                <a:moveTo>
                  <a:pt x="13444" y="11112"/>
                </a:moveTo>
                <a:cubicBezTo>
                  <a:pt x="13461" y="11112"/>
                  <a:pt x="13477" y="11112"/>
                  <a:pt x="13494" y="11112"/>
                </a:cubicBezTo>
                <a:cubicBezTo>
                  <a:pt x="13374" y="11112"/>
                  <a:pt x="13262" y="11116"/>
                  <a:pt x="1314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27840" y="3106800"/>
            <a:ext cx="98280" cy="243000"/>
          </a:xfrm>
          <a:custGeom>
            <a:avLst/>
            <a:gdLst/>
            <a:ahLst/>
            <a:rect l="l" t="t" r="r" b="b"/>
            <a:pathLst>
              <a:path w="274" h="671">
                <a:moveTo>
                  <a:pt x="16818" y="8706"/>
                </a:moveTo>
                <a:cubicBezTo>
                  <a:pt x="16818" y="8681"/>
                  <a:pt x="16818" y="8657"/>
                  <a:pt x="16818" y="8632"/>
                </a:cubicBezTo>
                <a:cubicBezTo>
                  <a:pt x="16774" y="8704"/>
                  <a:pt x="16784" y="8768"/>
                  <a:pt x="16768" y="8855"/>
                </a:cubicBezTo>
                <a:cubicBezTo>
                  <a:pt x="16747" y="8974"/>
                  <a:pt x="16743" y="9082"/>
                  <a:pt x="16743" y="9203"/>
                </a:cubicBezTo>
                <a:cubicBezTo>
                  <a:pt x="16743" y="9211"/>
                  <a:pt x="16743" y="9219"/>
                  <a:pt x="16743" y="9227"/>
                </a:cubicBezTo>
                <a:cubicBezTo>
                  <a:pt x="16772" y="9180"/>
                  <a:pt x="16771" y="9096"/>
                  <a:pt x="16818" y="9054"/>
                </a:cubicBezTo>
                <a:cubicBezTo>
                  <a:pt x="16866" y="9011"/>
                  <a:pt x="16946" y="9071"/>
                  <a:pt x="16966" y="9103"/>
                </a:cubicBezTo>
                <a:cubicBezTo>
                  <a:pt x="17004" y="9164"/>
                  <a:pt x="17038" y="9218"/>
                  <a:pt x="16991" y="9277"/>
                </a:cubicBezTo>
                <a:cubicBezTo>
                  <a:pt x="16963" y="9305"/>
                  <a:pt x="16950" y="9314"/>
                  <a:pt x="16917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2040" y="3214800"/>
            <a:ext cx="81000" cy="63360"/>
          </a:xfrm>
          <a:custGeom>
            <a:avLst/>
            <a:gdLst/>
            <a:ahLst/>
            <a:rect l="l" t="t" r="r" b="b"/>
            <a:pathLst>
              <a:path w="225" h="174">
                <a:moveTo>
                  <a:pt x="17487" y="8930"/>
                </a:moveTo>
                <a:cubicBezTo>
                  <a:pt x="17495" y="8930"/>
                  <a:pt x="17504" y="8930"/>
                  <a:pt x="17512" y="8930"/>
                </a:cubicBezTo>
                <a:cubicBezTo>
                  <a:pt x="17471" y="8930"/>
                  <a:pt x="17447" y="8940"/>
                  <a:pt x="17413" y="8954"/>
                </a:cubicBezTo>
                <a:cubicBezTo>
                  <a:pt x="17372" y="8974"/>
                  <a:pt x="17366" y="8983"/>
                  <a:pt x="17338" y="8979"/>
                </a:cubicBezTo>
              </a:path>
              <a:path w="225" h="174">
                <a:moveTo>
                  <a:pt x="17487" y="9054"/>
                </a:moveTo>
                <a:cubicBezTo>
                  <a:pt x="17532" y="9054"/>
                  <a:pt x="17545" y="9051"/>
                  <a:pt x="17562" y="9079"/>
                </a:cubicBezTo>
                <a:cubicBezTo>
                  <a:pt x="17527" y="9104"/>
                  <a:pt x="17530" y="9103"/>
                  <a:pt x="17487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5160" y="3143160"/>
            <a:ext cx="544680" cy="18756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8182" y="8806"/>
                </a:moveTo>
                <a:cubicBezTo>
                  <a:pt x="18207" y="8781"/>
                  <a:pt x="18215" y="8773"/>
                  <a:pt x="18231" y="8756"/>
                </a:cubicBezTo>
                <a:cubicBezTo>
                  <a:pt x="18231" y="8818"/>
                  <a:pt x="18210" y="8847"/>
                  <a:pt x="18207" y="8905"/>
                </a:cubicBezTo>
                <a:cubicBezTo>
                  <a:pt x="18202" y="8994"/>
                  <a:pt x="18229" y="8990"/>
                  <a:pt x="18306" y="9029"/>
                </a:cubicBezTo>
                <a:cubicBezTo>
                  <a:pt x="18353" y="9053"/>
                  <a:pt x="18453" y="9080"/>
                  <a:pt x="18479" y="9128"/>
                </a:cubicBezTo>
                <a:cubicBezTo>
                  <a:pt x="18510" y="9184"/>
                  <a:pt x="18467" y="9211"/>
                  <a:pt x="18430" y="9227"/>
                </a:cubicBezTo>
                <a:cubicBezTo>
                  <a:pt x="18356" y="9259"/>
                  <a:pt x="18288" y="9252"/>
                  <a:pt x="18207" y="9252"/>
                </a:cubicBezTo>
              </a:path>
              <a:path w="1514" h="522">
                <a:moveTo>
                  <a:pt x="18653" y="8781"/>
                </a:moveTo>
                <a:cubicBezTo>
                  <a:pt x="18653" y="8764"/>
                  <a:pt x="18653" y="8748"/>
                  <a:pt x="18653" y="8731"/>
                </a:cubicBezTo>
                <a:cubicBezTo>
                  <a:pt x="18588" y="8740"/>
                  <a:pt x="18548" y="8772"/>
                  <a:pt x="18479" y="8781"/>
                </a:cubicBezTo>
              </a:path>
              <a:path w="1514" h="522">
                <a:moveTo>
                  <a:pt x="19025" y="8979"/>
                </a:moveTo>
                <a:cubicBezTo>
                  <a:pt x="19047" y="8957"/>
                  <a:pt x="19056" y="8952"/>
                  <a:pt x="19050" y="8930"/>
                </a:cubicBezTo>
                <a:cubicBezTo>
                  <a:pt x="18992" y="8944"/>
                  <a:pt x="18958" y="8975"/>
                  <a:pt x="18926" y="9029"/>
                </a:cubicBezTo>
                <a:cubicBezTo>
                  <a:pt x="18881" y="9106"/>
                  <a:pt x="18895" y="9127"/>
                  <a:pt x="18951" y="9178"/>
                </a:cubicBezTo>
                <a:cubicBezTo>
                  <a:pt x="19000" y="9223"/>
                  <a:pt x="19018" y="9199"/>
                  <a:pt x="19075" y="9178"/>
                </a:cubicBezTo>
              </a:path>
              <a:path w="1514" h="522">
                <a:moveTo>
                  <a:pt x="19174" y="9079"/>
                </a:moveTo>
                <a:cubicBezTo>
                  <a:pt x="19199" y="9046"/>
                  <a:pt x="19207" y="9018"/>
                  <a:pt x="19248" y="9004"/>
                </a:cubicBezTo>
                <a:cubicBezTo>
                  <a:pt x="19286" y="8991"/>
                  <a:pt x="19357" y="9044"/>
                  <a:pt x="19372" y="9079"/>
                </a:cubicBezTo>
                <a:cubicBezTo>
                  <a:pt x="19379" y="9095"/>
                  <a:pt x="19372" y="9135"/>
                  <a:pt x="19372" y="9153"/>
                </a:cubicBezTo>
                <a:cubicBezTo>
                  <a:pt x="19323" y="9153"/>
                  <a:pt x="19273" y="9153"/>
                  <a:pt x="19224" y="9153"/>
                </a:cubicBezTo>
              </a:path>
              <a:path w="1514" h="522">
                <a:moveTo>
                  <a:pt x="19621" y="8930"/>
                </a:moveTo>
                <a:cubicBezTo>
                  <a:pt x="19637" y="8922"/>
                  <a:pt x="19654" y="8913"/>
                  <a:pt x="19670" y="8905"/>
                </a:cubicBezTo>
                <a:cubicBezTo>
                  <a:pt x="19625" y="8931"/>
                  <a:pt x="19577" y="8949"/>
                  <a:pt x="19571" y="9004"/>
                </a:cubicBezTo>
                <a:cubicBezTo>
                  <a:pt x="19565" y="9060"/>
                  <a:pt x="19636" y="9077"/>
                  <a:pt x="19670" y="9103"/>
                </a:cubicBezTo>
                <a:cubicBezTo>
                  <a:pt x="19701" y="9126"/>
                  <a:pt x="19714" y="9175"/>
                  <a:pt x="19670" y="9178"/>
                </a:cubicBezTo>
                <a:cubicBezTo>
                  <a:pt x="19654" y="9178"/>
                  <a:pt x="19637" y="9178"/>
                  <a:pt x="19621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31040" y="3152880"/>
            <a:ext cx="3938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20414" y="8954"/>
                </a:moveTo>
                <a:cubicBezTo>
                  <a:pt x="20389" y="8954"/>
                  <a:pt x="20381" y="8954"/>
                  <a:pt x="20365" y="8954"/>
                </a:cubicBezTo>
                <a:cubicBezTo>
                  <a:pt x="20369" y="8942"/>
                  <a:pt x="20420" y="8871"/>
                  <a:pt x="20439" y="8855"/>
                </a:cubicBezTo>
                <a:cubicBezTo>
                  <a:pt x="20473" y="8826"/>
                  <a:pt x="20561" y="8807"/>
                  <a:pt x="20588" y="8855"/>
                </a:cubicBezTo>
                <a:cubicBezTo>
                  <a:pt x="20625" y="8921"/>
                  <a:pt x="20658" y="9027"/>
                  <a:pt x="20638" y="9103"/>
                </a:cubicBezTo>
                <a:cubicBezTo>
                  <a:pt x="20624" y="9157"/>
                  <a:pt x="20541" y="9175"/>
                  <a:pt x="20489" y="9153"/>
                </a:cubicBezTo>
                <a:cubicBezTo>
                  <a:pt x="20453" y="9138"/>
                  <a:pt x="20423" y="9124"/>
                  <a:pt x="20389" y="9103"/>
                </a:cubicBezTo>
              </a:path>
              <a:path w="1092" h="472">
                <a:moveTo>
                  <a:pt x="20861" y="9153"/>
                </a:moveTo>
                <a:cubicBezTo>
                  <a:pt x="20905" y="9153"/>
                  <a:pt x="20919" y="9150"/>
                  <a:pt x="20935" y="9178"/>
                </a:cubicBezTo>
              </a:path>
              <a:path w="1092" h="472">
                <a:moveTo>
                  <a:pt x="21382" y="8756"/>
                </a:moveTo>
                <a:cubicBezTo>
                  <a:pt x="21391" y="8756"/>
                  <a:pt x="21472" y="8756"/>
                  <a:pt x="21406" y="8756"/>
                </a:cubicBezTo>
                <a:cubicBezTo>
                  <a:pt x="21343" y="8756"/>
                  <a:pt x="21315" y="8754"/>
                  <a:pt x="21258" y="8781"/>
                </a:cubicBezTo>
                <a:cubicBezTo>
                  <a:pt x="21212" y="8803"/>
                  <a:pt x="21137" y="8869"/>
                  <a:pt x="21158" y="8930"/>
                </a:cubicBezTo>
                <a:cubicBezTo>
                  <a:pt x="21171" y="8967"/>
                  <a:pt x="21253" y="9011"/>
                  <a:pt x="21282" y="9029"/>
                </a:cubicBezTo>
                <a:cubicBezTo>
                  <a:pt x="21337" y="9062"/>
                  <a:pt x="21379" y="9059"/>
                  <a:pt x="21406" y="9128"/>
                </a:cubicBezTo>
                <a:cubicBezTo>
                  <a:pt x="21420" y="9164"/>
                  <a:pt x="21390" y="9213"/>
                  <a:pt x="21357" y="9227"/>
                </a:cubicBezTo>
                <a:cubicBezTo>
                  <a:pt x="21314" y="9246"/>
                  <a:pt x="21264" y="9226"/>
                  <a:pt x="21233" y="9203"/>
                </a:cubicBezTo>
                <a:cubicBezTo>
                  <a:pt x="21233" y="9130"/>
                  <a:pt x="21264" y="9140"/>
                  <a:pt x="21307" y="9079"/>
                </a:cubicBezTo>
                <a:cubicBezTo>
                  <a:pt x="21355" y="9011"/>
                  <a:pt x="21412" y="8951"/>
                  <a:pt x="21456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7800" y="324180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22002" y="9004"/>
                </a:moveTo>
                <a:cubicBezTo>
                  <a:pt x="21943" y="9004"/>
                  <a:pt x="21899" y="8995"/>
                  <a:pt x="21853" y="9029"/>
                </a:cubicBezTo>
              </a:path>
              <a:path w="150" h="200">
                <a:moveTo>
                  <a:pt x="22002" y="9128"/>
                </a:moveTo>
                <a:cubicBezTo>
                  <a:pt x="22002" y="9174"/>
                  <a:pt x="22004" y="9197"/>
                  <a:pt x="21952" y="9203"/>
                </a:cubicBezTo>
                <a:cubicBezTo>
                  <a:pt x="21944" y="9203"/>
                  <a:pt x="21935" y="9203"/>
                  <a:pt x="21927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9000" y="3205080"/>
            <a:ext cx="615960" cy="152640"/>
          </a:xfrm>
          <a:custGeom>
            <a:avLst/>
            <a:gdLst/>
            <a:ahLst/>
            <a:rect l="l" t="t" r="r" b="b"/>
            <a:pathLst>
              <a:path w="1712" h="423">
                <a:moveTo>
                  <a:pt x="22523" y="8979"/>
                </a:moveTo>
                <a:cubicBezTo>
                  <a:pt x="22523" y="9015"/>
                  <a:pt x="22523" y="8971"/>
                  <a:pt x="22547" y="8954"/>
                </a:cubicBezTo>
                <a:cubicBezTo>
                  <a:pt x="22601" y="8914"/>
                  <a:pt x="22628" y="8905"/>
                  <a:pt x="22696" y="8905"/>
                </a:cubicBezTo>
                <a:cubicBezTo>
                  <a:pt x="22750" y="8905"/>
                  <a:pt x="22790" y="8922"/>
                  <a:pt x="22796" y="8979"/>
                </a:cubicBezTo>
                <a:cubicBezTo>
                  <a:pt x="22801" y="9026"/>
                  <a:pt x="22750" y="9032"/>
                  <a:pt x="22721" y="9054"/>
                </a:cubicBezTo>
                <a:cubicBezTo>
                  <a:pt x="22755" y="9087"/>
                  <a:pt x="22818" y="9121"/>
                  <a:pt x="22845" y="9153"/>
                </a:cubicBezTo>
                <a:cubicBezTo>
                  <a:pt x="22863" y="9174"/>
                  <a:pt x="22914" y="9243"/>
                  <a:pt x="22895" y="9277"/>
                </a:cubicBezTo>
                <a:cubicBezTo>
                  <a:pt x="22873" y="9317"/>
                  <a:pt x="22809" y="9302"/>
                  <a:pt x="22771" y="9302"/>
                </a:cubicBezTo>
                <a:cubicBezTo>
                  <a:pt x="22743" y="9302"/>
                  <a:pt x="22732" y="9300"/>
                  <a:pt x="22721" y="9277"/>
                </a:cubicBezTo>
              </a:path>
              <a:path w="1712" h="423">
                <a:moveTo>
                  <a:pt x="23118" y="9203"/>
                </a:moveTo>
                <a:cubicBezTo>
                  <a:pt x="23163" y="9228"/>
                  <a:pt x="23205" y="9241"/>
                  <a:pt x="23217" y="9277"/>
                </a:cubicBezTo>
              </a:path>
              <a:path w="1712" h="423">
                <a:moveTo>
                  <a:pt x="23366" y="8954"/>
                </a:moveTo>
                <a:cubicBezTo>
                  <a:pt x="23389" y="8932"/>
                  <a:pt x="23394" y="8924"/>
                  <a:pt x="23416" y="8930"/>
                </a:cubicBezTo>
                <a:cubicBezTo>
                  <a:pt x="23416" y="8983"/>
                  <a:pt x="23395" y="9000"/>
                  <a:pt x="23391" y="9054"/>
                </a:cubicBezTo>
                <a:cubicBezTo>
                  <a:pt x="23388" y="9086"/>
                  <a:pt x="23391" y="9120"/>
                  <a:pt x="23391" y="9153"/>
                </a:cubicBezTo>
                <a:cubicBezTo>
                  <a:pt x="23498" y="9153"/>
                  <a:pt x="23606" y="9153"/>
                  <a:pt x="23713" y="9153"/>
                </a:cubicBezTo>
              </a:path>
              <a:path w="1712" h="423">
                <a:moveTo>
                  <a:pt x="23564" y="9054"/>
                </a:moveTo>
                <a:cubicBezTo>
                  <a:pt x="23564" y="9116"/>
                  <a:pt x="23550" y="9147"/>
                  <a:pt x="23540" y="9203"/>
                </a:cubicBezTo>
                <a:cubicBezTo>
                  <a:pt x="23533" y="9242"/>
                  <a:pt x="23540" y="9288"/>
                  <a:pt x="23540" y="9327"/>
                </a:cubicBezTo>
              </a:path>
              <a:path w="1712" h="423">
                <a:moveTo>
                  <a:pt x="24110" y="8979"/>
                </a:moveTo>
                <a:cubicBezTo>
                  <a:pt x="24166" y="8979"/>
                  <a:pt x="24152" y="8972"/>
                  <a:pt x="24185" y="8930"/>
                </a:cubicBezTo>
                <a:cubicBezTo>
                  <a:pt x="24139" y="8930"/>
                  <a:pt x="24075" y="8935"/>
                  <a:pt x="24036" y="8954"/>
                </a:cubicBezTo>
                <a:cubicBezTo>
                  <a:pt x="23984" y="8980"/>
                  <a:pt x="23961" y="9025"/>
                  <a:pt x="23961" y="9079"/>
                </a:cubicBezTo>
                <a:cubicBezTo>
                  <a:pt x="24008" y="9106"/>
                  <a:pt x="24054" y="9125"/>
                  <a:pt x="24110" y="9128"/>
                </a:cubicBezTo>
                <a:cubicBezTo>
                  <a:pt x="24157" y="9131"/>
                  <a:pt x="24211" y="9152"/>
                  <a:pt x="24234" y="9203"/>
                </a:cubicBezTo>
                <a:cubicBezTo>
                  <a:pt x="24234" y="9211"/>
                  <a:pt x="24234" y="9219"/>
                  <a:pt x="24234" y="9227"/>
                </a:cubicBezTo>
                <a:cubicBezTo>
                  <a:pt x="24196" y="9237"/>
                  <a:pt x="24158" y="9272"/>
                  <a:pt x="24110" y="9252"/>
                </a:cubicBezTo>
                <a:cubicBezTo>
                  <a:pt x="24088" y="9230"/>
                  <a:pt x="24083" y="9221"/>
                  <a:pt x="24061" y="9227"/>
                </a:cubicBezTo>
                <a:cubicBezTo>
                  <a:pt x="24061" y="9177"/>
                  <a:pt x="24078" y="9145"/>
                  <a:pt x="24110" y="9103"/>
                </a:cubicBezTo>
                <a:cubicBezTo>
                  <a:pt x="24144" y="9058"/>
                  <a:pt x="24194" y="9020"/>
                  <a:pt x="24234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31160" y="318780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4581" y="8930"/>
                </a:moveTo>
                <a:cubicBezTo>
                  <a:pt x="24559" y="8907"/>
                  <a:pt x="24554" y="8899"/>
                  <a:pt x="24532" y="8905"/>
                </a:cubicBezTo>
                <a:cubicBezTo>
                  <a:pt x="24545" y="8865"/>
                  <a:pt x="24579" y="8858"/>
                  <a:pt x="24631" y="8855"/>
                </a:cubicBezTo>
                <a:cubicBezTo>
                  <a:pt x="24678" y="8852"/>
                  <a:pt x="24749" y="8840"/>
                  <a:pt x="24780" y="8880"/>
                </a:cubicBezTo>
                <a:cubicBezTo>
                  <a:pt x="24826" y="8940"/>
                  <a:pt x="24799" y="8980"/>
                  <a:pt x="24755" y="9029"/>
                </a:cubicBezTo>
                <a:cubicBezTo>
                  <a:pt x="24727" y="9060"/>
                  <a:pt x="24689" y="9077"/>
                  <a:pt x="24656" y="9103"/>
                </a:cubicBezTo>
                <a:cubicBezTo>
                  <a:pt x="24679" y="9151"/>
                  <a:pt x="24735" y="9161"/>
                  <a:pt x="24780" y="9203"/>
                </a:cubicBezTo>
                <a:cubicBezTo>
                  <a:pt x="24838" y="9257"/>
                  <a:pt x="24878" y="9276"/>
                  <a:pt x="24829" y="9351"/>
                </a:cubicBezTo>
                <a:cubicBezTo>
                  <a:pt x="24795" y="9403"/>
                  <a:pt x="24734" y="9395"/>
                  <a:pt x="2468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69040" y="246384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7537" y="6896"/>
                </a:moveTo>
                <a:cubicBezTo>
                  <a:pt x="17554" y="6879"/>
                  <a:pt x="17570" y="6863"/>
                  <a:pt x="17587" y="6846"/>
                </a:cubicBezTo>
                <a:cubicBezTo>
                  <a:pt x="17506" y="6858"/>
                  <a:pt x="17480" y="6895"/>
                  <a:pt x="17438" y="6970"/>
                </a:cubicBezTo>
                <a:cubicBezTo>
                  <a:pt x="17409" y="7022"/>
                  <a:pt x="17388" y="7119"/>
                  <a:pt x="17438" y="7169"/>
                </a:cubicBezTo>
                <a:cubicBezTo>
                  <a:pt x="17505" y="7236"/>
                  <a:pt x="17559" y="7210"/>
                  <a:pt x="17636" y="7193"/>
                </a:cubicBezTo>
                <a:cubicBezTo>
                  <a:pt x="17671" y="7193"/>
                  <a:pt x="17689" y="7189"/>
                  <a:pt x="17711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2473200"/>
            <a:ext cx="71640" cy="9072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8306" y="6896"/>
                </a:moveTo>
                <a:cubicBezTo>
                  <a:pt x="18346" y="6876"/>
                  <a:pt x="18352" y="6867"/>
                  <a:pt x="18380" y="6871"/>
                </a:cubicBezTo>
                <a:cubicBezTo>
                  <a:pt x="18367" y="6909"/>
                  <a:pt x="18351" y="6896"/>
                  <a:pt x="18306" y="6896"/>
                </a:cubicBezTo>
                <a:cubicBezTo>
                  <a:pt x="18261" y="6896"/>
                  <a:pt x="18248" y="6893"/>
                  <a:pt x="18231" y="6921"/>
                </a:cubicBezTo>
              </a:path>
              <a:path w="199" h="249">
                <a:moveTo>
                  <a:pt x="18355" y="7045"/>
                </a:moveTo>
                <a:cubicBezTo>
                  <a:pt x="18363" y="7053"/>
                  <a:pt x="18372" y="7061"/>
                  <a:pt x="18380" y="7069"/>
                </a:cubicBezTo>
                <a:cubicBezTo>
                  <a:pt x="18337" y="7101"/>
                  <a:pt x="18313" y="7116"/>
                  <a:pt x="18256" y="7119"/>
                </a:cubicBezTo>
                <a:cubicBezTo>
                  <a:pt x="18215" y="7119"/>
                  <a:pt x="18207" y="7119"/>
                  <a:pt x="18182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0360" y="241920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9000" y="6846"/>
                </a:moveTo>
                <a:cubicBezTo>
                  <a:pt x="19070" y="6794"/>
                  <a:pt x="19017" y="6811"/>
                  <a:pt x="19000" y="6846"/>
                </a:cubicBezTo>
                <a:cubicBezTo>
                  <a:pt x="18980" y="6886"/>
                  <a:pt x="19000" y="6942"/>
                  <a:pt x="19025" y="6970"/>
                </a:cubicBezTo>
                <a:cubicBezTo>
                  <a:pt x="19063" y="7013"/>
                  <a:pt x="19144" y="7053"/>
                  <a:pt x="19199" y="7069"/>
                </a:cubicBezTo>
                <a:cubicBezTo>
                  <a:pt x="19258" y="7087"/>
                  <a:pt x="19248" y="7107"/>
                  <a:pt x="19248" y="7169"/>
                </a:cubicBezTo>
                <a:cubicBezTo>
                  <a:pt x="19248" y="7177"/>
                  <a:pt x="19248" y="7185"/>
                  <a:pt x="19248" y="7193"/>
                </a:cubicBezTo>
                <a:cubicBezTo>
                  <a:pt x="19182" y="7193"/>
                  <a:pt x="19116" y="7193"/>
                  <a:pt x="19050" y="7193"/>
                </a:cubicBezTo>
              </a:path>
              <a:path w="423" h="472">
                <a:moveTo>
                  <a:pt x="19397" y="6772"/>
                </a:moveTo>
                <a:cubicBezTo>
                  <a:pt x="19405" y="6755"/>
                  <a:pt x="19414" y="6739"/>
                  <a:pt x="19422" y="6722"/>
                </a:cubicBezTo>
                <a:cubicBezTo>
                  <a:pt x="19360" y="6734"/>
                  <a:pt x="19315" y="6747"/>
                  <a:pt x="19248" y="6747"/>
                </a:cubicBezTo>
                <a:cubicBezTo>
                  <a:pt x="19232" y="6747"/>
                  <a:pt x="19215" y="6747"/>
                  <a:pt x="1919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0840" y="2438280"/>
            <a:ext cx="303120" cy="13356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20042" y="6846"/>
                </a:moveTo>
                <a:cubicBezTo>
                  <a:pt x="20050" y="6838"/>
                  <a:pt x="20059" y="6829"/>
                  <a:pt x="20067" y="6821"/>
                </a:cubicBezTo>
                <a:cubicBezTo>
                  <a:pt x="20031" y="6821"/>
                  <a:pt x="19995" y="6828"/>
                  <a:pt x="19968" y="6846"/>
                </a:cubicBezTo>
                <a:cubicBezTo>
                  <a:pt x="19953" y="6856"/>
                  <a:pt x="19886" y="6921"/>
                  <a:pt x="19918" y="6945"/>
                </a:cubicBezTo>
                <a:cubicBezTo>
                  <a:pt x="19953" y="6972"/>
                  <a:pt x="20004" y="6964"/>
                  <a:pt x="20042" y="6995"/>
                </a:cubicBezTo>
                <a:cubicBezTo>
                  <a:pt x="20063" y="7012"/>
                  <a:pt x="20131" y="7063"/>
                  <a:pt x="20117" y="7094"/>
                </a:cubicBezTo>
                <a:cubicBezTo>
                  <a:pt x="20097" y="7139"/>
                  <a:pt x="20089" y="7144"/>
                  <a:pt x="20042" y="7144"/>
                </a:cubicBezTo>
                <a:cubicBezTo>
                  <a:pt x="20017" y="7144"/>
                  <a:pt x="20009" y="7144"/>
                  <a:pt x="19993" y="7144"/>
                </a:cubicBezTo>
              </a:path>
              <a:path w="845" h="373">
                <a:moveTo>
                  <a:pt x="20290" y="6945"/>
                </a:moveTo>
                <a:cubicBezTo>
                  <a:pt x="20336" y="6968"/>
                  <a:pt x="20340" y="6991"/>
                  <a:pt x="20340" y="7045"/>
                </a:cubicBezTo>
                <a:cubicBezTo>
                  <a:pt x="20340" y="7086"/>
                  <a:pt x="20340" y="7094"/>
                  <a:pt x="20340" y="7119"/>
                </a:cubicBezTo>
              </a:path>
              <a:path w="845" h="373">
                <a:moveTo>
                  <a:pt x="20340" y="6821"/>
                </a:moveTo>
                <a:cubicBezTo>
                  <a:pt x="20340" y="6757"/>
                  <a:pt x="20338" y="6772"/>
                  <a:pt x="20389" y="6772"/>
                </a:cubicBezTo>
              </a:path>
              <a:path w="845" h="373">
                <a:moveTo>
                  <a:pt x="20489" y="6945"/>
                </a:moveTo>
                <a:cubicBezTo>
                  <a:pt x="20507" y="7015"/>
                  <a:pt x="20504" y="7090"/>
                  <a:pt x="20563" y="7119"/>
                </a:cubicBezTo>
                <a:cubicBezTo>
                  <a:pt x="20583" y="7086"/>
                  <a:pt x="20588" y="7009"/>
                  <a:pt x="20638" y="6995"/>
                </a:cubicBezTo>
                <a:cubicBezTo>
                  <a:pt x="20712" y="6974"/>
                  <a:pt x="20730" y="7015"/>
                  <a:pt x="20762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6240" y="2374920"/>
            <a:ext cx="438120" cy="169920"/>
          </a:xfrm>
          <a:custGeom>
            <a:avLst/>
            <a:gdLst/>
            <a:ahLst/>
            <a:rect l="l" t="t" r="r" b="b"/>
            <a:pathLst>
              <a:path w="1217" h="472">
                <a:moveTo>
                  <a:pt x="21208" y="6896"/>
                </a:moveTo>
                <a:cubicBezTo>
                  <a:pt x="21170" y="6883"/>
                  <a:pt x="21183" y="6866"/>
                  <a:pt x="21183" y="6821"/>
                </a:cubicBezTo>
                <a:cubicBezTo>
                  <a:pt x="21183" y="6767"/>
                  <a:pt x="21214" y="6725"/>
                  <a:pt x="21258" y="6697"/>
                </a:cubicBezTo>
                <a:cubicBezTo>
                  <a:pt x="21307" y="6666"/>
                  <a:pt x="21393" y="6666"/>
                  <a:pt x="21431" y="6722"/>
                </a:cubicBezTo>
                <a:cubicBezTo>
                  <a:pt x="21477" y="6789"/>
                  <a:pt x="21504" y="6942"/>
                  <a:pt x="21481" y="7020"/>
                </a:cubicBezTo>
                <a:cubicBezTo>
                  <a:pt x="21459" y="7094"/>
                  <a:pt x="21377" y="7065"/>
                  <a:pt x="21332" y="7045"/>
                </a:cubicBezTo>
                <a:cubicBezTo>
                  <a:pt x="21282" y="7020"/>
                  <a:pt x="21266" y="7012"/>
                  <a:pt x="21233" y="6995"/>
                </a:cubicBezTo>
              </a:path>
              <a:path w="1217" h="472">
                <a:moveTo>
                  <a:pt x="21679" y="6945"/>
                </a:moveTo>
                <a:cubicBezTo>
                  <a:pt x="21715" y="6972"/>
                  <a:pt x="21718" y="6962"/>
                  <a:pt x="21729" y="6995"/>
                </a:cubicBezTo>
              </a:path>
              <a:path w="1217" h="472">
                <a:moveTo>
                  <a:pt x="22200" y="6697"/>
                </a:moveTo>
                <a:cubicBezTo>
                  <a:pt x="22227" y="6662"/>
                  <a:pt x="22225" y="6667"/>
                  <a:pt x="22225" y="6623"/>
                </a:cubicBezTo>
                <a:cubicBezTo>
                  <a:pt x="22182" y="6623"/>
                  <a:pt x="22138" y="6588"/>
                  <a:pt x="22101" y="6598"/>
                </a:cubicBezTo>
                <a:cubicBezTo>
                  <a:pt x="22049" y="6612"/>
                  <a:pt x="22013" y="6661"/>
                  <a:pt x="21977" y="6697"/>
                </a:cubicBezTo>
                <a:cubicBezTo>
                  <a:pt x="21936" y="6738"/>
                  <a:pt x="21942" y="6782"/>
                  <a:pt x="21977" y="6821"/>
                </a:cubicBezTo>
                <a:cubicBezTo>
                  <a:pt x="22010" y="6857"/>
                  <a:pt x="22054" y="6867"/>
                  <a:pt x="22101" y="6871"/>
                </a:cubicBezTo>
                <a:cubicBezTo>
                  <a:pt x="22158" y="6876"/>
                  <a:pt x="22186" y="6907"/>
                  <a:pt x="22225" y="6945"/>
                </a:cubicBezTo>
                <a:cubicBezTo>
                  <a:pt x="22255" y="6975"/>
                  <a:pt x="22250" y="6980"/>
                  <a:pt x="22250" y="7020"/>
                </a:cubicBezTo>
                <a:cubicBezTo>
                  <a:pt x="22217" y="7040"/>
                  <a:pt x="22147" y="7064"/>
                  <a:pt x="22101" y="7045"/>
                </a:cubicBezTo>
                <a:cubicBezTo>
                  <a:pt x="22078" y="7022"/>
                  <a:pt x="22074" y="7014"/>
                  <a:pt x="22051" y="7020"/>
                </a:cubicBezTo>
                <a:cubicBezTo>
                  <a:pt x="22063" y="6933"/>
                  <a:pt x="22099" y="6933"/>
                  <a:pt x="22151" y="6871"/>
                </a:cubicBezTo>
                <a:cubicBezTo>
                  <a:pt x="22217" y="6793"/>
                  <a:pt x="22257" y="6722"/>
                  <a:pt x="22349" y="6672"/>
                </a:cubicBezTo>
                <a:cubicBezTo>
                  <a:pt x="22366" y="6664"/>
                  <a:pt x="22382" y="6656"/>
                  <a:pt x="2239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97920" y="2463840"/>
            <a:ext cx="442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22845" y="6846"/>
                </a:moveTo>
                <a:cubicBezTo>
                  <a:pt x="22870" y="6846"/>
                  <a:pt x="22878" y="6846"/>
                  <a:pt x="22895" y="6846"/>
                </a:cubicBezTo>
                <a:cubicBezTo>
                  <a:pt x="22849" y="6846"/>
                  <a:pt x="22836" y="6866"/>
                  <a:pt x="22796" y="6871"/>
                </a:cubicBezTo>
                <a:cubicBezTo>
                  <a:pt x="22788" y="6871"/>
                  <a:pt x="22779" y="6871"/>
                  <a:pt x="22771" y="6871"/>
                </a:cubicBezTo>
              </a:path>
              <a:path w="125" h="224">
                <a:moveTo>
                  <a:pt x="22870" y="7020"/>
                </a:moveTo>
                <a:cubicBezTo>
                  <a:pt x="22831" y="7030"/>
                  <a:pt x="22804" y="7045"/>
                  <a:pt x="22771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58120" y="2330280"/>
            <a:ext cx="608040" cy="179640"/>
          </a:xfrm>
          <a:custGeom>
            <a:avLst/>
            <a:gdLst/>
            <a:ahLst/>
            <a:rect l="l" t="t" r="r" b="b"/>
            <a:pathLst>
              <a:path w="1688" h="497">
                <a:moveTo>
                  <a:pt x="23242" y="6548"/>
                </a:moveTo>
                <a:cubicBezTo>
                  <a:pt x="23242" y="6524"/>
                  <a:pt x="23242" y="6516"/>
                  <a:pt x="23217" y="6524"/>
                </a:cubicBezTo>
                <a:cubicBezTo>
                  <a:pt x="23247" y="6502"/>
                  <a:pt x="23278" y="6477"/>
                  <a:pt x="23316" y="6474"/>
                </a:cubicBezTo>
                <a:cubicBezTo>
                  <a:pt x="23365" y="6470"/>
                  <a:pt x="23417" y="6471"/>
                  <a:pt x="23440" y="6524"/>
                </a:cubicBezTo>
                <a:cubicBezTo>
                  <a:pt x="23459" y="6567"/>
                  <a:pt x="23417" y="6597"/>
                  <a:pt x="23391" y="6623"/>
                </a:cubicBezTo>
                <a:cubicBezTo>
                  <a:pt x="23361" y="6653"/>
                  <a:pt x="23303" y="6685"/>
                  <a:pt x="23267" y="6697"/>
                </a:cubicBezTo>
                <a:cubicBezTo>
                  <a:pt x="23242" y="6697"/>
                  <a:pt x="23234" y="6697"/>
                  <a:pt x="23242" y="6722"/>
                </a:cubicBezTo>
                <a:cubicBezTo>
                  <a:pt x="23287" y="6756"/>
                  <a:pt x="23319" y="6749"/>
                  <a:pt x="23366" y="6772"/>
                </a:cubicBezTo>
                <a:cubicBezTo>
                  <a:pt x="23400" y="6789"/>
                  <a:pt x="23436" y="6837"/>
                  <a:pt x="23440" y="6871"/>
                </a:cubicBezTo>
                <a:cubicBezTo>
                  <a:pt x="23443" y="6901"/>
                  <a:pt x="23397" y="6919"/>
                  <a:pt x="23366" y="6921"/>
                </a:cubicBezTo>
                <a:cubicBezTo>
                  <a:pt x="23305" y="6925"/>
                  <a:pt x="23292" y="6908"/>
                  <a:pt x="23242" y="6896"/>
                </a:cubicBezTo>
              </a:path>
              <a:path w="1688" h="497">
                <a:moveTo>
                  <a:pt x="23540" y="6896"/>
                </a:moveTo>
                <a:cubicBezTo>
                  <a:pt x="23595" y="6920"/>
                  <a:pt x="23603" y="6934"/>
                  <a:pt x="23639" y="6945"/>
                </a:cubicBezTo>
              </a:path>
              <a:path w="1688" h="497">
                <a:moveTo>
                  <a:pt x="23862" y="6623"/>
                </a:moveTo>
                <a:cubicBezTo>
                  <a:pt x="23870" y="6615"/>
                  <a:pt x="23879" y="6606"/>
                  <a:pt x="23887" y="6598"/>
                </a:cubicBezTo>
                <a:cubicBezTo>
                  <a:pt x="23875" y="6645"/>
                  <a:pt x="23842" y="6636"/>
                  <a:pt x="23837" y="6672"/>
                </a:cubicBezTo>
                <a:cubicBezTo>
                  <a:pt x="23830" y="6727"/>
                  <a:pt x="23846" y="6729"/>
                  <a:pt x="23887" y="6747"/>
                </a:cubicBezTo>
                <a:cubicBezTo>
                  <a:pt x="23925" y="6763"/>
                  <a:pt x="23991" y="6777"/>
                  <a:pt x="24011" y="6821"/>
                </a:cubicBezTo>
                <a:cubicBezTo>
                  <a:pt x="24027" y="6857"/>
                  <a:pt x="23992" y="6907"/>
                  <a:pt x="23961" y="6921"/>
                </a:cubicBezTo>
                <a:cubicBezTo>
                  <a:pt x="23931" y="6934"/>
                  <a:pt x="23872" y="6921"/>
                  <a:pt x="23837" y="6921"/>
                </a:cubicBezTo>
              </a:path>
              <a:path w="1688" h="497">
                <a:moveTo>
                  <a:pt x="24085" y="6623"/>
                </a:moveTo>
                <a:cubicBezTo>
                  <a:pt x="24093" y="6615"/>
                  <a:pt x="24102" y="6606"/>
                  <a:pt x="24110" y="6598"/>
                </a:cubicBezTo>
                <a:cubicBezTo>
                  <a:pt x="24052" y="6598"/>
                  <a:pt x="23995" y="6598"/>
                  <a:pt x="23937" y="6598"/>
                </a:cubicBezTo>
              </a:path>
              <a:path w="1688" h="497">
                <a:moveTo>
                  <a:pt x="24457" y="6623"/>
                </a:moveTo>
                <a:cubicBezTo>
                  <a:pt x="24493" y="6596"/>
                  <a:pt x="24496" y="6606"/>
                  <a:pt x="24507" y="6573"/>
                </a:cubicBezTo>
                <a:cubicBezTo>
                  <a:pt x="24446" y="6573"/>
                  <a:pt x="24380" y="6560"/>
                  <a:pt x="24333" y="6598"/>
                </a:cubicBezTo>
                <a:cubicBezTo>
                  <a:pt x="24319" y="6609"/>
                  <a:pt x="24252" y="6672"/>
                  <a:pt x="24284" y="6697"/>
                </a:cubicBezTo>
                <a:cubicBezTo>
                  <a:pt x="24306" y="6714"/>
                  <a:pt x="24356" y="6735"/>
                  <a:pt x="24383" y="6747"/>
                </a:cubicBezTo>
                <a:cubicBezTo>
                  <a:pt x="24430" y="6767"/>
                  <a:pt x="24476" y="6795"/>
                  <a:pt x="24482" y="6846"/>
                </a:cubicBezTo>
                <a:cubicBezTo>
                  <a:pt x="24487" y="6891"/>
                  <a:pt x="24480" y="6916"/>
                  <a:pt x="24433" y="6921"/>
                </a:cubicBezTo>
                <a:cubicBezTo>
                  <a:pt x="24399" y="6925"/>
                  <a:pt x="24359" y="6890"/>
                  <a:pt x="24333" y="6871"/>
                </a:cubicBezTo>
                <a:cubicBezTo>
                  <a:pt x="24344" y="6826"/>
                  <a:pt x="24374" y="6784"/>
                  <a:pt x="24408" y="6747"/>
                </a:cubicBezTo>
                <a:cubicBezTo>
                  <a:pt x="24452" y="6699"/>
                  <a:pt x="24499" y="6680"/>
                  <a:pt x="24557" y="6672"/>
                </a:cubicBezTo>
              </a:path>
              <a:path w="1688" h="497">
                <a:moveTo>
                  <a:pt x="24805" y="6499"/>
                </a:moveTo>
                <a:cubicBezTo>
                  <a:pt x="24844" y="6486"/>
                  <a:pt x="24815" y="6487"/>
                  <a:pt x="24854" y="6474"/>
                </a:cubicBezTo>
                <a:cubicBezTo>
                  <a:pt x="24824" y="6514"/>
                  <a:pt x="24807" y="6510"/>
                  <a:pt x="24780" y="6548"/>
                </a:cubicBezTo>
                <a:cubicBezTo>
                  <a:pt x="24756" y="6582"/>
                  <a:pt x="24720" y="6661"/>
                  <a:pt x="24705" y="6697"/>
                </a:cubicBezTo>
                <a:cubicBezTo>
                  <a:pt x="24693" y="6727"/>
                  <a:pt x="24684" y="6790"/>
                  <a:pt x="24681" y="6821"/>
                </a:cubicBezTo>
                <a:cubicBezTo>
                  <a:pt x="24675" y="6879"/>
                  <a:pt x="24694" y="6900"/>
                  <a:pt x="24705" y="6921"/>
                </a:cubicBezTo>
                <a:cubicBezTo>
                  <a:pt x="24723" y="6958"/>
                  <a:pt x="24743" y="6996"/>
                  <a:pt x="24805" y="6970"/>
                </a:cubicBezTo>
                <a:cubicBezTo>
                  <a:pt x="24843" y="6954"/>
                  <a:pt x="24859" y="6931"/>
                  <a:pt x="24879" y="6896"/>
                </a:cubicBezTo>
                <a:cubicBezTo>
                  <a:pt x="24898" y="6863"/>
                  <a:pt x="24930" y="6797"/>
                  <a:pt x="24879" y="6772"/>
                </a:cubicBezTo>
                <a:cubicBezTo>
                  <a:pt x="24844" y="6755"/>
                  <a:pt x="24770" y="6772"/>
                  <a:pt x="24730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5240" y="4643280"/>
            <a:ext cx="1760760" cy="81000"/>
          </a:xfrm>
          <a:custGeom>
            <a:avLst/>
            <a:gdLst/>
            <a:ahLst/>
            <a:rect l="l" t="t" r="r" b="b"/>
            <a:pathLst>
              <a:path w="4887" h="225">
                <a:moveTo>
                  <a:pt x="22597" y="12948"/>
                </a:moveTo>
                <a:cubicBezTo>
                  <a:pt x="22564" y="12954"/>
                  <a:pt x="22525" y="12948"/>
                  <a:pt x="22523" y="12948"/>
                </a:cubicBezTo>
                <a:cubicBezTo>
                  <a:pt x="22339" y="12948"/>
                  <a:pt x="22153" y="12958"/>
                  <a:pt x="21977" y="12973"/>
                </a:cubicBezTo>
                <a:cubicBezTo>
                  <a:pt x="21781" y="12989"/>
                  <a:pt x="21571" y="12983"/>
                  <a:pt x="21382" y="12998"/>
                </a:cubicBezTo>
                <a:cubicBezTo>
                  <a:pt x="21237" y="13010"/>
                  <a:pt x="21071" y="13008"/>
                  <a:pt x="20935" y="12973"/>
                </a:cubicBezTo>
                <a:cubicBezTo>
                  <a:pt x="20874" y="12957"/>
                  <a:pt x="20830" y="12950"/>
                  <a:pt x="20762" y="12948"/>
                </a:cubicBezTo>
                <a:cubicBezTo>
                  <a:pt x="20683" y="12946"/>
                  <a:pt x="20610" y="12929"/>
                  <a:pt x="20538" y="12923"/>
                </a:cubicBezTo>
                <a:cubicBezTo>
                  <a:pt x="20399" y="12911"/>
                  <a:pt x="20250" y="12909"/>
                  <a:pt x="20117" y="12898"/>
                </a:cubicBezTo>
                <a:cubicBezTo>
                  <a:pt x="20029" y="12891"/>
                  <a:pt x="19941" y="12916"/>
                  <a:pt x="19869" y="12923"/>
                </a:cubicBezTo>
                <a:cubicBezTo>
                  <a:pt x="19813" y="12928"/>
                  <a:pt x="19738" y="12944"/>
                  <a:pt x="19695" y="12948"/>
                </a:cubicBezTo>
                <a:cubicBezTo>
                  <a:pt x="19615" y="12955"/>
                  <a:pt x="19514" y="12967"/>
                  <a:pt x="19447" y="12973"/>
                </a:cubicBezTo>
                <a:cubicBezTo>
                  <a:pt x="19360" y="12981"/>
                  <a:pt x="19274" y="12984"/>
                  <a:pt x="19199" y="12998"/>
                </a:cubicBezTo>
                <a:cubicBezTo>
                  <a:pt x="19146" y="13008"/>
                  <a:pt x="19102" y="13005"/>
                  <a:pt x="19050" y="13022"/>
                </a:cubicBezTo>
                <a:cubicBezTo>
                  <a:pt x="18997" y="13039"/>
                  <a:pt x="18957" y="13033"/>
                  <a:pt x="18901" y="13047"/>
                </a:cubicBezTo>
                <a:cubicBezTo>
                  <a:pt x="18847" y="13060"/>
                  <a:pt x="18804" y="13060"/>
                  <a:pt x="18752" y="13072"/>
                </a:cubicBezTo>
                <a:cubicBezTo>
                  <a:pt x="18713" y="13081"/>
                  <a:pt x="18667" y="13094"/>
                  <a:pt x="18628" y="13097"/>
                </a:cubicBezTo>
                <a:cubicBezTo>
                  <a:pt x="18538" y="13104"/>
                  <a:pt x="18431" y="13115"/>
                  <a:pt x="18355" y="13122"/>
                </a:cubicBezTo>
                <a:cubicBezTo>
                  <a:pt x="18144" y="13141"/>
                  <a:pt x="17923" y="13122"/>
                  <a:pt x="1771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59680" y="2000160"/>
            <a:ext cx="295200" cy="18756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17512" y="5829"/>
                </a:moveTo>
                <a:cubicBezTo>
                  <a:pt x="17558" y="5803"/>
                  <a:pt x="17605" y="5785"/>
                  <a:pt x="17611" y="5730"/>
                </a:cubicBezTo>
                <a:cubicBezTo>
                  <a:pt x="17611" y="5722"/>
                  <a:pt x="17611" y="5713"/>
                  <a:pt x="17611" y="5705"/>
                </a:cubicBezTo>
                <a:cubicBezTo>
                  <a:pt x="17556" y="5705"/>
                  <a:pt x="17510" y="5697"/>
                  <a:pt x="17462" y="5730"/>
                </a:cubicBezTo>
                <a:cubicBezTo>
                  <a:pt x="17427" y="5754"/>
                  <a:pt x="17374" y="5837"/>
                  <a:pt x="17388" y="5879"/>
                </a:cubicBezTo>
                <a:cubicBezTo>
                  <a:pt x="17409" y="5943"/>
                  <a:pt x="17520" y="5934"/>
                  <a:pt x="17562" y="5953"/>
                </a:cubicBezTo>
                <a:cubicBezTo>
                  <a:pt x="17597" y="5969"/>
                  <a:pt x="17619" y="6023"/>
                  <a:pt x="17636" y="6052"/>
                </a:cubicBezTo>
                <a:cubicBezTo>
                  <a:pt x="17586" y="6082"/>
                  <a:pt x="17549" y="6077"/>
                  <a:pt x="17487" y="6077"/>
                </a:cubicBezTo>
                <a:cubicBezTo>
                  <a:pt x="17454" y="6077"/>
                  <a:pt x="17438" y="6077"/>
                  <a:pt x="17413" y="6077"/>
                </a:cubicBezTo>
              </a:path>
              <a:path w="820" h="522">
                <a:moveTo>
                  <a:pt x="17760" y="5804"/>
                </a:moveTo>
                <a:cubicBezTo>
                  <a:pt x="17768" y="5804"/>
                  <a:pt x="17777" y="5804"/>
                  <a:pt x="17785" y="5804"/>
                </a:cubicBezTo>
                <a:cubicBezTo>
                  <a:pt x="17798" y="5857"/>
                  <a:pt x="17810" y="5890"/>
                  <a:pt x="17810" y="5953"/>
                </a:cubicBezTo>
                <a:cubicBezTo>
                  <a:pt x="17810" y="5978"/>
                  <a:pt x="17810" y="5986"/>
                  <a:pt x="17810" y="6003"/>
                </a:cubicBezTo>
              </a:path>
              <a:path w="820" h="522">
                <a:moveTo>
                  <a:pt x="17810" y="5631"/>
                </a:moveTo>
                <a:cubicBezTo>
                  <a:pt x="17810" y="5573"/>
                  <a:pt x="17793" y="5548"/>
                  <a:pt x="17835" y="5556"/>
                </a:cubicBezTo>
              </a:path>
              <a:path w="820" h="522">
                <a:moveTo>
                  <a:pt x="17909" y="5829"/>
                </a:moveTo>
                <a:cubicBezTo>
                  <a:pt x="17925" y="5903"/>
                  <a:pt x="17934" y="5960"/>
                  <a:pt x="17959" y="6028"/>
                </a:cubicBezTo>
                <a:cubicBezTo>
                  <a:pt x="17995" y="5979"/>
                  <a:pt x="17981" y="5901"/>
                  <a:pt x="18008" y="5854"/>
                </a:cubicBezTo>
                <a:cubicBezTo>
                  <a:pt x="18050" y="5812"/>
                  <a:pt x="18058" y="5804"/>
                  <a:pt x="18083" y="5779"/>
                </a:cubicBezTo>
                <a:cubicBezTo>
                  <a:pt x="18120" y="5798"/>
                  <a:pt x="18191" y="5905"/>
                  <a:pt x="18207" y="5953"/>
                </a:cubicBezTo>
                <a:cubicBezTo>
                  <a:pt x="18207" y="5970"/>
                  <a:pt x="18207" y="5986"/>
                  <a:pt x="18207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23080" y="1963800"/>
            <a:ext cx="571320" cy="17928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8976" y="5705"/>
                </a:moveTo>
                <a:cubicBezTo>
                  <a:pt x="18976" y="5748"/>
                  <a:pt x="18986" y="5743"/>
                  <a:pt x="18951" y="5755"/>
                </a:cubicBezTo>
                <a:cubicBezTo>
                  <a:pt x="18951" y="5701"/>
                  <a:pt x="18952" y="5682"/>
                  <a:pt x="18976" y="5631"/>
                </a:cubicBezTo>
                <a:cubicBezTo>
                  <a:pt x="19005" y="5569"/>
                  <a:pt x="19034" y="5480"/>
                  <a:pt x="19124" y="5507"/>
                </a:cubicBezTo>
                <a:cubicBezTo>
                  <a:pt x="19217" y="5535"/>
                  <a:pt x="19221" y="5622"/>
                  <a:pt x="19224" y="5705"/>
                </a:cubicBezTo>
                <a:cubicBezTo>
                  <a:pt x="19227" y="5793"/>
                  <a:pt x="19246" y="5867"/>
                  <a:pt x="19149" y="5879"/>
                </a:cubicBezTo>
                <a:cubicBezTo>
                  <a:pt x="19092" y="5886"/>
                  <a:pt x="19041" y="5841"/>
                  <a:pt x="19000" y="5804"/>
                </a:cubicBezTo>
                <a:cubicBezTo>
                  <a:pt x="18992" y="5796"/>
                  <a:pt x="18984" y="5787"/>
                  <a:pt x="18976" y="5779"/>
                </a:cubicBezTo>
              </a:path>
              <a:path w="1588" h="497">
                <a:moveTo>
                  <a:pt x="19348" y="5904"/>
                </a:moveTo>
                <a:cubicBezTo>
                  <a:pt x="19372" y="5928"/>
                  <a:pt x="19381" y="5937"/>
                  <a:pt x="19397" y="5953"/>
                </a:cubicBezTo>
              </a:path>
              <a:path w="1588" h="497">
                <a:moveTo>
                  <a:pt x="19918" y="5531"/>
                </a:moveTo>
                <a:cubicBezTo>
                  <a:pt x="19945" y="5496"/>
                  <a:pt x="19943" y="5501"/>
                  <a:pt x="19943" y="5457"/>
                </a:cubicBezTo>
                <a:cubicBezTo>
                  <a:pt x="19874" y="5457"/>
                  <a:pt x="19806" y="5444"/>
                  <a:pt x="19745" y="5482"/>
                </a:cubicBezTo>
                <a:cubicBezTo>
                  <a:pt x="19695" y="5513"/>
                  <a:pt x="19670" y="5522"/>
                  <a:pt x="19670" y="5581"/>
                </a:cubicBezTo>
                <a:cubicBezTo>
                  <a:pt x="19670" y="5645"/>
                  <a:pt x="19746" y="5634"/>
                  <a:pt x="19794" y="5655"/>
                </a:cubicBezTo>
                <a:cubicBezTo>
                  <a:pt x="19848" y="5679"/>
                  <a:pt x="19899" y="5746"/>
                  <a:pt x="19918" y="5804"/>
                </a:cubicBezTo>
                <a:cubicBezTo>
                  <a:pt x="19932" y="5845"/>
                  <a:pt x="19873" y="5876"/>
                  <a:pt x="19844" y="5879"/>
                </a:cubicBezTo>
                <a:cubicBezTo>
                  <a:pt x="19779" y="5886"/>
                  <a:pt x="19749" y="5838"/>
                  <a:pt x="19769" y="5779"/>
                </a:cubicBezTo>
                <a:cubicBezTo>
                  <a:pt x="19799" y="5690"/>
                  <a:pt x="19866" y="5653"/>
                  <a:pt x="19918" y="5581"/>
                </a:cubicBezTo>
                <a:cubicBezTo>
                  <a:pt x="19943" y="5531"/>
                  <a:pt x="19951" y="5515"/>
                  <a:pt x="19993" y="5507"/>
                </a:cubicBezTo>
              </a:path>
              <a:path w="1588" h="497">
                <a:moveTo>
                  <a:pt x="20513" y="5655"/>
                </a:moveTo>
                <a:cubicBezTo>
                  <a:pt x="20521" y="5655"/>
                  <a:pt x="20530" y="5655"/>
                  <a:pt x="20538" y="5655"/>
                </a:cubicBezTo>
                <a:cubicBezTo>
                  <a:pt x="20506" y="5679"/>
                  <a:pt x="20469" y="5685"/>
                  <a:pt x="20439" y="5705"/>
                </a:cubicBezTo>
                <a:cubicBezTo>
                  <a:pt x="20431" y="5713"/>
                  <a:pt x="20422" y="5722"/>
                  <a:pt x="20414" y="5730"/>
                </a:cubicBezTo>
              </a:path>
              <a:path w="1588" h="497">
                <a:moveTo>
                  <a:pt x="20513" y="5879"/>
                </a:moveTo>
                <a:cubicBezTo>
                  <a:pt x="20535" y="5901"/>
                  <a:pt x="20544" y="5906"/>
                  <a:pt x="20538" y="5928"/>
                </a:cubicBezTo>
                <a:cubicBezTo>
                  <a:pt x="20494" y="5928"/>
                  <a:pt x="20499" y="5926"/>
                  <a:pt x="20464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24880" y="1874880"/>
            <a:ext cx="411120" cy="3762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21903" y="5209"/>
                </a:moveTo>
                <a:cubicBezTo>
                  <a:pt x="21927" y="5209"/>
                  <a:pt x="21936" y="5209"/>
                  <a:pt x="21952" y="5209"/>
                </a:cubicBezTo>
                <a:cubicBezTo>
                  <a:pt x="21898" y="5209"/>
                  <a:pt x="21869" y="5221"/>
                  <a:pt x="21828" y="5259"/>
                </a:cubicBezTo>
                <a:cubicBezTo>
                  <a:pt x="21781" y="5303"/>
                  <a:pt x="21760" y="5365"/>
                  <a:pt x="21779" y="5432"/>
                </a:cubicBezTo>
                <a:cubicBezTo>
                  <a:pt x="21798" y="5499"/>
                  <a:pt x="21859" y="5534"/>
                  <a:pt x="21927" y="5507"/>
                </a:cubicBezTo>
                <a:cubicBezTo>
                  <a:pt x="21971" y="5490"/>
                  <a:pt x="22005" y="5444"/>
                  <a:pt x="22051" y="5432"/>
                </a:cubicBezTo>
              </a:path>
              <a:path w="1142" h="1043">
                <a:moveTo>
                  <a:pt x="22597" y="5730"/>
                </a:moveTo>
                <a:cubicBezTo>
                  <a:pt x="22317" y="5730"/>
                  <a:pt x="22024" y="5712"/>
                  <a:pt x="21754" y="5755"/>
                </a:cubicBezTo>
                <a:cubicBezTo>
                  <a:pt x="21696" y="5764"/>
                  <a:pt x="21630" y="5769"/>
                  <a:pt x="21580" y="5779"/>
                </a:cubicBezTo>
                <a:cubicBezTo>
                  <a:pt x="21518" y="5791"/>
                  <a:pt x="21506" y="5766"/>
                  <a:pt x="21456" y="5804"/>
                </a:cubicBezTo>
              </a:path>
              <a:path w="1142" h="1043">
                <a:moveTo>
                  <a:pt x="21828" y="5928"/>
                </a:moveTo>
                <a:cubicBezTo>
                  <a:pt x="21853" y="5928"/>
                  <a:pt x="21861" y="5928"/>
                  <a:pt x="21878" y="5928"/>
                </a:cubicBezTo>
                <a:cubicBezTo>
                  <a:pt x="21828" y="5940"/>
                  <a:pt x="21828" y="5952"/>
                  <a:pt x="21828" y="6003"/>
                </a:cubicBezTo>
                <a:cubicBezTo>
                  <a:pt x="21828" y="6059"/>
                  <a:pt x="21841" y="6073"/>
                  <a:pt x="21903" y="6077"/>
                </a:cubicBezTo>
                <a:cubicBezTo>
                  <a:pt x="21956" y="6081"/>
                  <a:pt x="22019" y="6069"/>
                  <a:pt x="22051" y="6127"/>
                </a:cubicBezTo>
                <a:cubicBezTo>
                  <a:pt x="22065" y="6154"/>
                  <a:pt x="22054" y="6237"/>
                  <a:pt x="22027" y="6251"/>
                </a:cubicBezTo>
                <a:cubicBezTo>
                  <a:pt x="21982" y="6274"/>
                  <a:pt x="21916" y="6235"/>
                  <a:pt x="21878" y="6226"/>
                </a:cubicBezTo>
                <a:cubicBezTo>
                  <a:pt x="21843" y="6226"/>
                  <a:pt x="21825" y="6221"/>
                  <a:pt x="21803" y="6201"/>
                </a:cubicBezTo>
              </a:path>
              <a:path w="1142" h="1043">
                <a:moveTo>
                  <a:pt x="22101" y="5879"/>
                </a:moveTo>
                <a:cubicBezTo>
                  <a:pt x="22135" y="5913"/>
                  <a:pt x="22046" y="5904"/>
                  <a:pt x="22002" y="5904"/>
                </a:cubicBezTo>
                <a:cubicBezTo>
                  <a:pt x="21952" y="5904"/>
                  <a:pt x="21936" y="5904"/>
                  <a:pt x="21903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75200" y="4402080"/>
            <a:ext cx="849600" cy="214200"/>
          </a:xfrm>
          <a:custGeom>
            <a:avLst/>
            <a:gdLst/>
            <a:ahLst/>
            <a:rect l="l" t="t" r="r" b="b"/>
            <a:pathLst>
              <a:path w="2358" h="596">
                <a:moveTo>
                  <a:pt x="16396" y="12378"/>
                </a:moveTo>
                <a:cubicBezTo>
                  <a:pt x="16356" y="12391"/>
                  <a:pt x="16386" y="12389"/>
                  <a:pt x="16346" y="12402"/>
                </a:cubicBezTo>
                <a:cubicBezTo>
                  <a:pt x="16307" y="12351"/>
                  <a:pt x="16326" y="12327"/>
                  <a:pt x="16371" y="12278"/>
                </a:cubicBezTo>
                <a:cubicBezTo>
                  <a:pt x="16408" y="12238"/>
                  <a:pt x="16518" y="12241"/>
                  <a:pt x="16570" y="12254"/>
                </a:cubicBezTo>
                <a:cubicBezTo>
                  <a:pt x="16627" y="12269"/>
                  <a:pt x="16711" y="12347"/>
                  <a:pt x="16718" y="12402"/>
                </a:cubicBezTo>
                <a:cubicBezTo>
                  <a:pt x="16730" y="12490"/>
                  <a:pt x="16676" y="12482"/>
                  <a:pt x="16619" y="12502"/>
                </a:cubicBezTo>
                <a:cubicBezTo>
                  <a:pt x="16569" y="12519"/>
                  <a:pt x="16548" y="12526"/>
                  <a:pt x="16495" y="12526"/>
                </a:cubicBezTo>
                <a:cubicBezTo>
                  <a:pt x="16545" y="12564"/>
                  <a:pt x="16607" y="12574"/>
                  <a:pt x="16669" y="12601"/>
                </a:cubicBezTo>
                <a:cubicBezTo>
                  <a:pt x="16745" y="12634"/>
                  <a:pt x="16786" y="12643"/>
                  <a:pt x="16793" y="12725"/>
                </a:cubicBezTo>
                <a:cubicBezTo>
                  <a:pt x="16798" y="12790"/>
                  <a:pt x="16780" y="12794"/>
                  <a:pt x="16718" y="12799"/>
                </a:cubicBezTo>
                <a:cubicBezTo>
                  <a:pt x="16685" y="12802"/>
                  <a:pt x="16652" y="12799"/>
                  <a:pt x="16619" y="12799"/>
                </a:cubicBezTo>
              </a:path>
              <a:path w="2358" h="596">
                <a:moveTo>
                  <a:pt x="16942" y="12725"/>
                </a:moveTo>
                <a:cubicBezTo>
                  <a:pt x="17012" y="12709"/>
                  <a:pt x="17031" y="12700"/>
                  <a:pt x="17090" y="12700"/>
                </a:cubicBezTo>
              </a:path>
              <a:path w="2358" h="596">
                <a:moveTo>
                  <a:pt x="17413" y="12477"/>
                </a:moveTo>
                <a:cubicBezTo>
                  <a:pt x="17429" y="12469"/>
                  <a:pt x="17446" y="12460"/>
                  <a:pt x="17462" y="12452"/>
                </a:cubicBezTo>
                <a:cubicBezTo>
                  <a:pt x="17418" y="12418"/>
                  <a:pt x="17385" y="12414"/>
                  <a:pt x="17338" y="12452"/>
                </a:cubicBezTo>
                <a:cubicBezTo>
                  <a:pt x="17301" y="12482"/>
                  <a:pt x="17298" y="12545"/>
                  <a:pt x="17338" y="12576"/>
                </a:cubicBezTo>
                <a:cubicBezTo>
                  <a:pt x="17419" y="12639"/>
                  <a:pt x="17497" y="12647"/>
                  <a:pt x="17562" y="12725"/>
                </a:cubicBezTo>
                <a:cubicBezTo>
                  <a:pt x="17598" y="12769"/>
                  <a:pt x="17603" y="12817"/>
                  <a:pt x="17537" y="12824"/>
                </a:cubicBezTo>
                <a:cubicBezTo>
                  <a:pt x="17494" y="12829"/>
                  <a:pt x="17450" y="12793"/>
                  <a:pt x="17413" y="12774"/>
                </a:cubicBezTo>
              </a:path>
              <a:path w="2358" h="596">
                <a:moveTo>
                  <a:pt x="17686" y="12452"/>
                </a:moveTo>
                <a:cubicBezTo>
                  <a:pt x="17711" y="12444"/>
                  <a:pt x="17735" y="12435"/>
                  <a:pt x="17760" y="12427"/>
                </a:cubicBezTo>
                <a:cubicBezTo>
                  <a:pt x="17702" y="12427"/>
                  <a:pt x="17645" y="12427"/>
                  <a:pt x="17587" y="12427"/>
                </a:cubicBezTo>
              </a:path>
              <a:path w="2358" h="596">
                <a:moveTo>
                  <a:pt x="18033" y="12427"/>
                </a:moveTo>
                <a:cubicBezTo>
                  <a:pt x="18101" y="12427"/>
                  <a:pt x="18117" y="12446"/>
                  <a:pt x="18132" y="12402"/>
                </a:cubicBezTo>
                <a:cubicBezTo>
                  <a:pt x="18076" y="12402"/>
                  <a:pt x="17977" y="12383"/>
                  <a:pt x="17934" y="12427"/>
                </a:cubicBezTo>
                <a:cubicBezTo>
                  <a:pt x="17934" y="12455"/>
                  <a:pt x="17932" y="12466"/>
                  <a:pt x="17909" y="12477"/>
                </a:cubicBezTo>
                <a:cubicBezTo>
                  <a:pt x="17958" y="12537"/>
                  <a:pt x="17963" y="12543"/>
                  <a:pt x="18033" y="12576"/>
                </a:cubicBezTo>
                <a:cubicBezTo>
                  <a:pt x="18083" y="12599"/>
                  <a:pt x="18171" y="12625"/>
                  <a:pt x="18182" y="12675"/>
                </a:cubicBezTo>
                <a:cubicBezTo>
                  <a:pt x="18182" y="12683"/>
                  <a:pt x="18182" y="12692"/>
                  <a:pt x="18182" y="12700"/>
                </a:cubicBezTo>
                <a:cubicBezTo>
                  <a:pt x="18166" y="12748"/>
                  <a:pt x="18104" y="12729"/>
                  <a:pt x="18058" y="12700"/>
                </a:cubicBezTo>
                <a:cubicBezTo>
                  <a:pt x="18011" y="12671"/>
                  <a:pt x="17981" y="12616"/>
                  <a:pt x="18033" y="12576"/>
                </a:cubicBezTo>
                <a:cubicBezTo>
                  <a:pt x="18096" y="12528"/>
                  <a:pt x="18157" y="12526"/>
                  <a:pt x="18231" y="12526"/>
                </a:cubicBezTo>
              </a:path>
              <a:path w="2358" h="596">
                <a:moveTo>
                  <a:pt x="18554" y="12402"/>
                </a:moveTo>
                <a:cubicBezTo>
                  <a:pt x="18587" y="12359"/>
                  <a:pt x="18664" y="12284"/>
                  <a:pt x="18678" y="12229"/>
                </a:cubicBezTo>
                <a:cubicBezTo>
                  <a:pt x="18602" y="12289"/>
                  <a:pt x="18560" y="12327"/>
                  <a:pt x="18529" y="12427"/>
                </a:cubicBezTo>
                <a:cubicBezTo>
                  <a:pt x="18501" y="12514"/>
                  <a:pt x="18474" y="12651"/>
                  <a:pt x="18554" y="12725"/>
                </a:cubicBezTo>
                <a:cubicBezTo>
                  <a:pt x="18594" y="12745"/>
                  <a:pt x="18601" y="12754"/>
                  <a:pt x="18628" y="12750"/>
                </a:cubicBezTo>
                <a:cubicBezTo>
                  <a:pt x="18662" y="12705"/>
                  <a:pt x="18666" y="12674"/>
                  <a:pt x="18628" y="12626"/>
                </a:cubicBezTo>
                <a:cubicBezTo>
                  <a:pt x="18600" y="12597"/>
                  <a:pt x="18587" y="12589"/>
                  <a:pt x="1855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12000" y="451008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9422" y="12551"/>
                </a:moveTo>
                <a:cubicBezTo>
                  <a:pt x="19430" y="12543"/>
                  <a:pt x="19439" y="12534"/>
                  <a:pt x="19447" y="12526"/>
                </a:cubicBezTo>
                <a:cubicBezTo>
                  <a:pt x="19413" y="12560"/>
                  <a:pt x="19351" y="12593"/>
                  <a:pt x="19323" y="12626"/>
                </a:cubicBezTo>
                <a:cubicBezTo>
                  <a:pt x="19286" y="12669"/>
                  <a:pt x="19221" y="12719"/>
                  <a:pt x="19199" y="12774"/>
                </a:cubicBezTo>
                <a:cubicBezTo>
                  <a:pt x="19199" y="12782"/>
                  <a:pt x="19199" y="12791"/>
                  <a:pt x="19199" y="12799"/>
                </a:cubicBezTo>
              </a:path>
              <a:path w="249" h="274">
                <a:moveTo>
                  <a:pt x="19348" y="12799"/>
                </a:moveTo>
                <a:cubicBezTo>
                  <a:pt x="19348" y="12730"/>
                  <a:pt x="19346" y="12723"/>
                  <a:pt x="19298" y="12675"/>
                </a:cubicBezTo>
              </a:path>
              <a:path w="249" h="274">
                <a:moveTo>
                  <a:pt x="19422" y="12774"/>
                </a:moveTo>
                <a:cubicBezTo>
                  <a:pt x="19412" y="12734"/>
                  <a:pt x="19412" y="12735"/>
                  <a:pt x="19372" y="12725"/>
                </a:cubicBezTo>
                <a:cubicBezTo>
                  <a:pt x="19364" y="12681"/>
                  <a:pt x="19351" y="12660"/>
                  <a:pt x="1932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0200" y="4394160"/>
            <a:ext cx="59868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9968" y="12378"/>
                </a:moveTo>
                <a:cubicBezTo>
                  <a:pt x="19929" y="12326"/>
                  <a:pt x="19948" y="12323"/>
                  <a:pt x="19993" y="12278"/>
                </a:cubicBezTo>
                <a:cubicBezTo>
                  <a:pt x="20042" y="12229"/>
                  <a:pt x="20100" y="12209"/>
                  <a:pt x="20166" y="12204"/>
                </a:cubicBezTo>
                <a:cubicBezTo>
                  <a:pt x="20226" y="12199"/>
                  <a:pt x="20233" y="12285"/>
                  <a:pt x="20216" y="12328"/>
                </a:cubicBezTo>
                <a:cubicBezTo>
                  <a:pt x="20193" y="12389"/>
                  <a:pt x="20116" y="12407"/>
                  <a:pt x="20067" y="12427"/>
                </a:cubicBezTo>
                <a:cubicBezTo>
                  <a:pt x="20050" y="12435"/>
                  <a:pt x="20034" y="12444"/>
                  <a:pt x="20017" y="12452"/>
                </a:cubicBezTo>
                <a:cubicBezTo>
                  <a:pt x="20026" y="12479"/>
                  <a:pt x="20074" y="12516"/>
                  <a:pt x="20117" y="12526"/>
                </a:cubicBezTo>
                <a:cubicBezTo>
                  <a:pt x="20177" y="12540"/>
                  <a:pt x="20278" y="12534"/>
                  <a:pt x="20315" y="12601"/>
                </a:cubicBezTo>
                <a:cubicBezTo>
                  <a:pt x="20341" y="12648"/>
                  <a:pt x="20291" y="12664"/>
                  <a:pt x="20265" y="12675"/>
                </a:cubicBezTo>
                <a:cubicBezTo>
                  <a:pt x="20203" y="12702"/>
                  <a:pt x="20160" y="12700"/>
                  <a:pt x="20092" y="12700"/>
                </a:cubicBezTo>
              </a:path>
              <a:path w="1663" h="869">
                <a:moveTo>
                  <a:pt x="20489" y="12626"/>
                </a:moveTo>
                <a:cubicBezTo>
                  <a:pt x="20538" y="12646"/>
                  <a:pt x="20541" y="12650"/>
                  <a:pt x="20588" y="12650"/>
                </a:cubicBezTo>
              </a:path>
              <a:path w="1663" h="869">
                <a:moveTo>
                  <a:pt x="20836" y="12229"/>
                </a:moveTo>
                <a:cubicBezTo>
                  <a:pt x="20912" y="12207"/>
                  <a:pt x="20934" y="12236"/>
                  <a:pt x="20910" y="12328"/>
                </a:cubicBezTo>
                <a:cubicBezTo>
                  <a:pt x="20891" y="12398"/>
                  <a:pt x="20827" y="12456"/>
                  <a:pt x="20811" y="12526"/>
                </a:cubicBezTo>
                <a:cubicBezTo>
                  <a:pt x="20802" y="12567"/>
                  <a:pt x="20812" y="12636"/>
                  <a:pt x="20861" y="12650"/>
                </a:cubicBezTo>
                <a:cubicBezTo>
                  <a:pt x="20967" y="12680"/>
                  <a:pt x="21121" y="12650"/>
                  <a:pt x="21233" y="12650"/>
                </a:cubicBezTo>
              </a:path>
              <a:path w="1663" h="869">
                <a:moveTo>
                  <a:pt x="21010" y="12576"/>
                </a:moveTo>
                <a:cubicBezTo>
                  <a:pt x="20993" y="12568"/>
                  <a:pt x="20977" y="12559"/>
                  <a:pt x="20960" y="12551"/>
                </a:cubicBezTo>
                <a:cubicBezTo>
                  <a:pt x="20960" y="12609"/>
                  <a:pt x="20960" y="12667"/>
                  <a:pt x="20960" y="12725"/>
                </a:cubicBezTo>
              </a:path>
              <a:path w="1663" h="869">
                <a:moveTo>
                  <a:pt x="21506" y="12328"/>
                </a:moveTo>
                <a:cubicBezTo>
                  <a:pt x="21565" y="12328"/>
                  <a:pt x="21562" y="12335"/>
                  <a:pt x="21605" y="12303"/>
                </a:cubicBezTo>
                <a:cubicBezTo>
                  <a:pt x="21590" y="12243"/>
                  <a:pt x="21566" y="12254"/>
                  <a:pt x="21506" y="12254"/>
                </a:cubicBezTo>
                <a:cubicBezTo>
                  <a:pt x="21447" y="12254"/>
                  <a:pt x="21402" y="12301"/>
                  <a:pt x="21382" y="12353"/>
                </a:cubicBezTo>
                <a:cubicBezTo>
                  <a:pt x="21360" y="12408"/>
                  <a:pt x="21419" y="12472"/>
                  <a:pt x="21456" y="12502"/>
                </a:cubicBezTo>
                <a:cubicBezTo>
                  <a:pt x="21525" y="12557"/>
                  <a:pt x="21575" y="12552"/>
                  <a:pt x="21605" y="12650"/>
                </a:cubicBezTo>
                <a:cubicBezTo>
                  <a:pt x="21605" y="12658"/>
                  <a:pt x="21605" y="12667"/>
                  <a:pt x="21605" y="12675"/>
                </a:cubicBezTo>
                <a:cubicBezTo>
                  <a:pt x="21555" y="12713"/>
                  <a:pt x="21534" y="12703"/>
                  <a:pt x="21481" y="12675"/>
                </a:cubicBezTo>
                <a:cubicBezTo>
                  <a:pt x="21447" y="12657"/>
                  <a:pt x="21397" y="12598"/>
                  <a:pt x="21431" y="12551"/>
                </a:cubicBezTo>
                <a:cubicBezTo>
                  <a:pt x="21485" y="12476"/>
                  <a:pt x="21518" y="12479"/>
                  <a:pt x="21605" y="12452"/>
                </a:cubicBezTo>
              </a:path>
              <a:path w="1663" h="869">
                <a:moveTo>
                  <a:pt x="20910" y="13022"/>
                </a:moveTo>
                <a:cubicBezTo>
                  <a:pt x="20872" y="13022"/>
                  <a:pt x="20886" y="13040"/>
                  <a:pt x="20886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12080" y="4419720"/>
            <a:ext cx="115920" cy="171360"/>
          </a:xfrm>
          <a:custGeom>
            <a:avLst/>
            <a:gdLst/>
            <a:ahLst/>
            <a:rect l="l" t="t" r="r" b="b"/>
            <a:pathLst>
              <a:path w="323" h="473">
                <a:moveTo>
                  <a:pt x="21977" y="12402"/>
                </a:moveTo>
                <a:cubicBezTo>
                  <a:pt x="21977" y="12359"/>
                  <a:pt x="21983" y="12343"/>
                  <a:pt x="22027" y="12328"/>
                </a:cubicBezTo>
                <a:cubicBezTo>
                  <a:pt x="22079" y="12310"/>
                  <a:pt x="22090" y="12282"/>
                  <a:pt x="22151" y="12278"/>
                </a:cubicBezTo>
                <a:cubicBezTo>
                  <a:pt x="22205" y="12275"/>
                  <a:pt x="22273" y="12267"/>
                  <a:pt x="22299" y="12328"/>
                </a:cubicBezTo>
                <a:cubicBezTo>
                  <a:pt x="22327" y="12392"/>
                  <a:pt x="22283" y="12405"/>
                  <a:pt x="22250" y="12427"/>
                </a:cubicBezTo>
                <a:cubicBezTo>
                  <a:pt x="22208" y="12455"/>
                  <a:pt x="22200" y="12480"/>
                  <a:pt x="22200" y="12526"/>
                </a:cubicBezTo>
                <a:cubicBezTo>
                  <a:pt x="22200" y="12575"/>
                  <a:pt x="22261" y="12621"/>
                  <a:pt x="22275" y="12675"/>
                </a:cubicBezTo>
                <a:cubicBezTo>
                  <a:pt x="22285" y="12713"/>
                  <a:pt x="22261" y="12742"/>
                  <a:pt x="22225" y="12750"/>
                </a:cubicBezTo>
                <a:cubicBezTo>
                  <a:pt x="22181" y="12759"/>
                  <a:pt x="22121" y="12750"/>
                  <a:pt x="22076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3120" y="2919240"/>
            <a:ext cx="339840" cy="98640"/>
          </a:xfrm>
          <a:custGeom>
            <a:avLst/>
            <a:gdLst/>
            <a:ahLst/>
            <a:rect l="l" t="t" r="r" b="b"/>
            <a:pathLst>
              <a:path w="944" h="274">
                <a:moveTo>
                  <a:pt x="17214" y="8136"/>
                </a:moveTo>
                <a:cubicBezTo>
                  <a:pt x="17222" y="8128"/>
                  <a:pt x="17231" y="8119"/>
                  <a:pt x="17239" y="8111"/>
                </a:cubicBezTo>
                <a:cubicBezTo>
                  <a:pt x="17215" y="8119"/>
                  <a:pt x="17165" y="8152"/>
                  <a:pt x="17140" y="8186"/>
                </a:cubicBezTo>
                <a:cubicBezTo>
                  <a:pt x="17114" y="8221"/>
                  <a:pt x="17066" y="8286"/>
                  <a:pt x="17090" y="8334"/>
                </a:cubicBezTo>
                <a:cubicBezTo>
                  <a:pt x="17122" y="8397"/>
                  <a:pt x="17168" y="8388"/>
                  <a:pt x="17214" y="8359"/>
                </a:cubicBezTo>
              </a:path>
              <a:path w="944" h="274">
                <a:moveTo>
                  <a:pt x="17388" y="8210"/>
                </a:moveTo>
                <a:cubicBezTo>
                  <a:pt x="17432" y="8199"/>
                  <a:pt x="17462" y="8164"/>
                  <a:pt x="17512" y="8161"/>
                </a:cubicBezTo>
                <a:cubicBezTo>
                  <a:pt x="17587" y="8156"/>
                  <a:pt x="17615" y="8218"/>
                  <a:pt x="17636" y="8285"/>
                </a:cubicBezTo>
                <a:cubicBezTo>
                  <a:pt x="17650" y="8330"/>
                  <a:pt x="17632" y="8374"/>
                  <a:pt x="17587" y="8384"/>
                </a:cubicBezTo>
                <a:cubicBezTo>
                  <a:pt x="17539" y="8394"/>
                  <a:pt x="17486" y="8365"/>
                  <a:pt x="17438" y="8359"/>
                </a:cubicBezTo>
              </a:path>
              <a:path w="944" h="274">
                <a:moveTo>
                  <a:pt x="17909" y="8136"/>
                </a:moveTo>
                <a:cubicBezTo>
                  <a:pt x="17968" y="8111"/>
                  <a:pt x="18006" y="8111"/>
                  <a:pt x="17934" y="8111"/>
                </a:cubicBezTo>
                <a:cubicBezTo>
                  <a:pt x="17873" y="8111"/>
                  <a:pt x="17877" y="8151"/>
                  <a:pt x="17909" y="8186"/>
                </a:cubicBezTo>
                <a:cubicBezTo>
                  <a:pt x="17943" y="8224"/>
                  <a:pt x="18010" y="8243"/>
                  <a:pt x="18033" y="8285"/>
                </a:cubicBezTo>
                <a:cubicBezTo>
                  <a:pt x="18050" y="8316"/>
                  <a:pt x="18035" y="8357"/>
                  <a:pt x="18008" y="8359"/>
                </a:cubicBezTo>
                <a:cubicBezTo>
                  <a:pt x="17992" y="8359"/>
                  <a:pt x="17975" y="8359"/>
                  <a:pt x="1795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160" y="2820960"/>
            <a:ext cx="436680" cy="171360"/>
          </a:xfrm>
          <a:custGeom>
            <a:avLst/>
            <a:gdLst/>
            <a:ahLst/>
            <a:rect l="l" t="t" r="r" b="b"/>
            <a:pathLst>
              <a:path w="1216" h="473">
                <a:moveTo>
                  <a:pt x="18554" y="8161"/>
                </a:moveTo>
                <a:cubicBezTo>
                  <a:pt x="18554" y="8101"/>
                  <a:pt x="18539" y="8032"/>
                  <a:pt x="18579" y="7987"/>
                </a:cubicBezTo>
                <a:cubicBezTo>
                  <a:pt x="18622" y="7939"/>
                  <a:pt x="18661" y="7924"/>
                  <a:pt x="18728" y="7938"/>
                </a:cubicBezTo>
                <a:cubicBezTo>
                  <a:pt x="18841" y="7962"/>
                  <a:pt x="18866" y="8030"/>
                  <a:pt x="18876" y="8136"/>
                </a:cubicBezTo>
                <a:cubicBezTo>
                  <a:pt x="18883" y="8212"/>
                  <a:pt x="18894" y="8288"/>
                  <a:pt x="18802" y="8310"/>
                </a:cubicBezTo>
                <a:cubicBezTo>
                  <a:pt x="18721" y="8329"/>
                  <a:pt x="18691" y="8286"/>
                  <a:pt x="18628" y="8260"/>
                </a:cubicBezTo>
                <a:cubicBezTo>
                  <a:pt x="18620" y="8260"/>
                  <a:pt x="18612" y="8260"/>
                  <a:pt x="18604" y="8260"/>
                </a:cubicBezTo>
              </a:path>
              <a:path w="1216" h="473">
                <a:moveTo>
                  <a:pt x="19100" y="8260"/>
                </a:moveTo>
                <a:cubicBezTo>
                  <a:pt x="19157" y="8279"/>
                  <a:pt x="19164" y="8288"/>
                  <a:pt x="19199" y="8285"/>
                </a:cubicBezTo>
              </a:path>
              <a:path w="1216" h="473">
                <a:moveTo>
                  <a:pt x="19645" y="7938"/>
                </a:moveTo>
                <a:cubicBezTo>
                  <a:pt x="19674" y="7909"/>
                  <a:pt x="19686" y="7900"/>
                  <a:pt x="19695" y="7863"/>
                </a:cubicBezTo>
                <a:cubicBezTo>
                  <a:pt x="19630" y="7863"/>
                  <a:pt x="19582" y="7861"/>
                  <a:pt x="19521" y="7888"/>
                </a:cubicBezTo>
                <a:cubicBezTo>
                  <a:pt x="19467" y="7912"/>
                  <a:pt x="19409" y="7955"/>
                  <a:pt x="19397" y="8012"/>
                </a:cubicBezTo>
                <a:cubicBezTo>
                  <a:pt x="19386" y="8065"/>
                  <a:pt x="19393" y="8092"/>
                  <a:pt x="19447" y="8111"/>
                </a:cubicBezTo>
                <a:cubicBezTo>
                  <a:pt x="19488" y="8126"/>
                  <a:pt x="19560" y="8118"/>
                  <a:pt x="19596" y="8136"/>
                </a:cubicBezTo>
                <a:cubicBezTo>
                  <a:pt x="19624" y="8150"/>
                  <a:pt x="19663" y="8201"/>
                  <a:pt x="19645" y="8235"/>
                </a:cubicBezTo>
                <a:cubicBezTo>
                  <a:pt x="19625" y="8273"/>
                  <a:pt x="19581" y="8260"/>
                  <a:pt x="19546" y="8260"/>
                </a:cubicBezTo>
                <a:cubicBezTo>
                  <a:pt x="19538" y="8260"/>
                  <a:pt x="19529" y="8260"/>
                  <a:pt x="19521" y="8260"/>
                </a:cubicBezTo>
                <a:cubicBezTo>
                  <a:pt x="19521" y="8185"/>
                  <a:pt x="19552" y="8170"/>
                  <a:pt x="19596" y="8111"/>
                </a:cubicBezTo>
                <a:cubicBezTo>
                  <a:pt x="19660" y="8025"/>
                  <a:pt x="19718" y="7932"/>
                  <a:pt x="19769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39040" y="288432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0762" y="8037"/>
                </a:moveTo>
                <a:cubicBezTo>
                  <a:pt x="20786" y="8037"/>
                  <a:pt x="20795" y="8037"/>
                  <a:pt x="20811" y="8037"/>
                </a:cubicBezTo>
                <a:cubicBezTo>
                  <a:pt x="20804" y="8015"/>
                  <a:pt x="20773" y="7992"/>
                  <a:pt x="20737" y="8012"/>
                </a:cubicBezTo>
                <a:cubicBezTo>
                  <a:pt x="20698" y="8034"/>
                  <a:pt x="20708" y="8037"/>
                  <a:pt x="20662" y="8037"/>
                </a:cubicBezTo>
              </a:path>
              <a:path w="175" h="150">
                <a:moveTo>
                  <a:pt x="20811" y="8136"/>
                </a:moveTo>
                <a:cubicBezTo>
                  <a:pt x="20858" y="8183"/>
                  <a:pt x="20799" y="8161"/>
                  <a:pt x="2076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13800" y="2660760"/>
            <a:ext cx="250560" cy="438120"/>
          </a:xfrm>
          <a:custGeom>
            <a:avLst/>
            <a:gdLst/>
            <a:ahLst/>
            <a:rect l="l" t="t" r="r" b="b"/>
            <a:pathLst>
              <a:path w="696" h="1216">
                <a:moveTo>
                  <a:pt x="21828" y="7466"/>
                </a:moveTo>
                <a:cubicBezTo>
                  <a:pt x="21828" y="7412"/>
                  <a:pt x="21828" y="7365"/>
                  <a:pt x="21828" y="7441"/>
                </a:cubicBezTo>
                <a:cubicBezTo>
                  <a:pt x="21828" y="7524"/>
                  <a:pt x="21803" y="7600"/>
                  <a:pt x="21803" y="7689"/>
                </a:cubicBezTo>
                <a:cubicBezTo>
                  <a:pt x="21803" y="7731"/>
                  <a:pt x="21803" y="7739"/>
                  <a:pt x="21803" y="7764"/>
                </a:cubicBezTo>
                <a:cubicBezTo>
                  <a:pt x="21856" y="7764"/>
                  <a:pt x="21873" y="7744"/>
                  <a:pt x="21927" y="7739"/>
                </a:cubicBezTo>
                <a:cubicBezTo>
                  <a:pt x="21996" y="7733"/>
                  <a:pt x="22028" y="7742"/>
                  <a:pt x="22051" y="7813"/>
                </a:cubicBezTo>
                <a:cubicBezTo>
                  <a:pt x="22062" y="7847"/>
                  <a:pt x="22037" y="7903"/>
                  <a:pt x="22002" y="7913"/>
                </a:cubicBezTo>
                <a:cubicBezTo>
                  <a:pt x="21939" y="7931"/>
                  <a:pt x="21884" y="7896"/>
                  <a:pt x="21828" y="7888"/>
                </a:cubicBezTo>
              </a:path>
              <a:path w="696" h="1216">
                <a:moveTo>
                  <a:pt x="22349" y="7987"/>
                </a:moveTo>
                <a:cubicBezTo>
                  <a:pt x="22377" y="7987"/>
                  <a:pt x="22388" y="7989"/>
                  <a:pt x="22399" y="8012"/>
                </a:cubicBezTo>
                <a:cubicBezTo>
                  <a:pt x="22167" y="8012"/>
                  <a:pt x="21936" y="8012"/>
                  <a:pt x="21704" y="8012"/>
                </a:cubicBezTo>
              </a:path>
              <a:path w="696" h="1216">
                <a:moveTo>
                  <a:pt x="21853" y="8210"/>
                </a:moveTo>
                <a:cubicBezTo>
                  <a:pt x="21876" y="8188"/>
                  <a:pt x="21881" y="8180"/>
                  <a:pt x="21903" y="8186"/>
                </a:cubicBezTo>
                <a:cubicBezTo>
                  <a:pt x="21890" y="8237"/>
                  <a:pt x="21853" y="8250"/>
                  <a:pt x="21853" y="8310"/>
                </a:cubicBezTo>
                <a:cubicBezTo>
                  <a:pt x="21853" y="8318"/>
                  <a:pt x="21853" y="8326"/>
                  <a:pt x="21853" y="8334"/>
                </a:cubicBezTo>
                <a:cubicBezTo>
                  <a:pt x="21918" y="8342"/>
                  <a:pt x="21973" y="8355"/>
                  <a:pt x="22027" y="8384"/>
                </a:cubicBezTo>
                <a:cubicBezTo>
                  <a:pt x="22101" y="8424"/>
                  <a:pt x="22101" y="8455"/>
                  <a:pt x="22101" y="8533"/>
                </a:cubicBezTo>
                <a:cubicBezTo>
                  <a:pt x="22101" y="8585"/>
                  <a:pt x="22048" y="8604"/>
                  <a:pt x="22002" y="8607"/>
                </a:cubicBezTo>
                <a:cubicBezTo>
                  <a:pt x="21953" y="8610"/>
                  <a:pt x="21902" y="8607"/>
                  <a:pt x="21853" y="8607"/>
                </a:cubicBezTo>
              </a:path>
              <a:path w="696" h="1216">
                <a:moveTo>
                  <a:pt x="22126" y="8186"/>
                </a:moveTo>
                <a:cubicBezTo>
                  <a:pt x="22120" y="8142"/>
                  <a:pt x="22116" y="8087"/>
                  <a:pt x="22051" y="8111"/>
                </a:cubicBezTo>
                <a:cubicBezTo>
                  <a:pt x="22003" y="8135"/>
                  <a:pt x="21989" y="8144"/>
                  <a:pt x="21952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26120" y="812880"/>
            <a:ext cx="1204920" cy="928440"/>
          </a:xfrm>
          <a:custGeom>
            <a:avLst/>
            <a:gdLst/>
            <a:ahLst/>
            <a:rect l="l" t="t" r="r" b="b"/>
            <a:pathLst>
              <a:path w="3350" h="2581">
                <a:moveTo>
                  <a:pt x="19571" y="2505"/>
                </a:moveTo>
                <a:cubicBezTo>
                  <a:pt x="19598" y="2471"/>
                  <a:pt x="19603" y="2441"/>
                  <a:pt x="19621" y="2406"/>
                </a:cubicBezTo>
                <a:cubicBezTo>
                  <a:pt x="19642" y="2364"/>
                  <a:pt x="19621" y="2425"/>
                  <a:pt x="19621" y="2456"/>
                </a:cubicBezTo>
                <a:cubicBezTo>
                  <a:pt x="19621" y="2569"/>
                  <a:pt x="19614" y="2672"/>
                  <a:pt x="19596" y="2778"/>
                </a:cubicBezTo>
                <a:cubicBezTo>
                  <a:pt x="19567" y="2952"/>
                  <a:pt x="19589" y="3191"/>
                  <a:pt x="19621" y="3349"/>
                </a:cubicBezTo>
                <a:cubicBezTo>
                  <a:pt x="19645" y="3468"/>
                  <a:pt x="19623" y="3610"/>
                  <a:pt x="19645" y="3721"/>
                </a:cubicBezTo>
                <a:cubicBezTo>
                  <a:pt x="19666" y="3828"/>
                  <a:pt x="19645" y="3958"/>
                  <a:pt x="19645" y="4068"/>
                </a:cubicBezTo>
              </a:path>
              <a:path w="3350" h="2581">
                <a:moveTo>
                  <a:pt x="19670" y="4068"/>
                </a:moveTo>
                <a:cubicBezTo>
                  <a:pt x="19629" y="4062"/>
                  <a:pt x="19609" y="4049"/>
                  <a:pt x="19571" y="4043"/>
                </a:cubicBezTo>
                <a:cubicBezTo>
                  <a:pt x="19519" y="4034"/>
                  <a:pt x="19475" y="4021"/>
                  <a:pt x="19422" y="4018"/>
                </a:cubicBezTo>
                <a:cubicBezTo>
                  <a:pt x="19355" y="4014"/>
                  <a:pt x="19286" y="4015"/>
                  <a:pt x="19224" y="3994"/>
                </a:cubicBezTo>
                <a:cubicBezTo>
                  <a:pt x="19153" y="3970"/>
                  <a:pt x="19102" y="3969"/>
                  <a:pt x="19025" y="3969"/>
                </a:cubicBezTo>
                <a:cubicBezTo>
                  <a:pt x="18962" y="3969"/>
                  <a:pt x="18922" y="3944"/>
                  <a:pt x="18852" y="3944"/>
                </a:cubicBezTo>
                <a:cubicBezTo>
                  <a:pt x="18792" y="3944"/>
                  <a:pt x="18751" y="3929"/>
                  <a:pt x="18703" y="3919"/>
                </a:cubicBezTo>
                <a:cubicBezTo>
                  <a:pt x="18664" y="3911"/>
                  <a:pt x="18608" y="3898"/>
                  <a:pt x="18579" y="3894"/>
                </a:cubicBezTo>
                <a:cubicBezTo>
                  <a:pt x="18475" y="3878"/>
                  <a:pt x="18377" y="3903"/>
                  <a:pt x="18281" y="3919"/>
                </a:cubicBezTo>
                <a:cubicBezTo>
                  <a:pt x="18206" y="3932"/>
                  <a:pt x="18123" y="3931"/>
                  <a:pt x="18058" y="3944"/>
                </a:cubicBezTo>
                <a:cubicBezTo>
                  <a:pt x="18034" y="3949"/>
                  <a:pt x="18007" y="3941"/>
                  <a:pt x="17983" y="3944"/>
                </a:cubicBezTo>
              </a:path>
              <a:path w="3350" h="2581">
                <a:moveTo>
                  <a:pt x="17983" y="3969"/>
                </a:moveTo>
                <a:cubicBezTo>
                  <a:pt x="18022" y="3930"/>
                  <a:pt x="18055" y="3879"/>
                  <a:pt x="18083" y="3845"/>
                </a:cubicBezTo>
                <a:cubicBezTo>
                  <a:pt x="18161" y="3751"/>
                  <a:pt x="18280" y="3684"/>
                  <a:pt x="18355" y="3597"/>
                </a:cubicBezTo>
                <a:cubicBezTo>
                  <a:pt x="18390" y="3557"/>
                  <a:pt x="18417" y="3513"/>
                  <a:pt x="18455" y="3473"/>
                </a:cubicBezTo>
                <a:cubicBezTo>
                  <a:pt x="18501" y="3424"/>
                  <a:pt x="18538" y="3374"/>
                  <a:pt x="18579" y="3324"/>
                </a:cubicBezTo>
                <a:cubicBezTo>
                  <a:pt x="18619" y="3275"/>
                  <a:pt x="18669" y="3216"/>
                  <a:pt x="18703" y="3175"/>
                </a:cubicBezTo>
                <a:cubicBezTo>
                  <a:pt x="18743" y="3127"/>
                  <a:pt x="18793" y="3067"/>
                  <a:pt x="18827" y="3026"/>
                </a:cubicBezTo>
                <a:cubicBezTo>
                  <a:pt x="18860" y="2987"/>
                  <a:pt x="18899" y="2934"/>
                  <a:pt x="18926" y="2902"/>
                </a:cubicBezTo>
                <a:cubicBezTo>
                  <a:pt x="18955" y="2868"/>
                  <a:pt x="18985" y="2843"/>
                  <a:pt x="19000" y="2803"/>
                </a:cubicBezTo>
                <a:cubicBezTo>
                  <a:pt x="19000" y="2795"/>
                  <a:pt x="19000" y="2786"/>
                  <a:pt x="19000" y="2778"/>
                </a:cubicBezTo>
                <a:cubicBezTo>
                  <a:pt x="19009" y="2767"/>
                  <a:pt x="19035" y="2722"/>
                  <a:pt x="19050" y="2704"/>
                </a:cubicBezTo>
                <a:cubicBezTo>
                  <a:pt x="19081" y="2667"/>
                  <a:pt x="19102" y="2644"/>
                  <a:pt x="19124" y="2604"/>
                </a:cubicBezTo>
                <a:cubicBezTo>
                  <a:pt x="19135" y="2584"/>
                  <a:pt x="19139" y="2551"/>
                  <a:pt x="19149" y="2530"/>
                </a:cubicBezTo>
                <a:cubicBezTo>
                  <a:pt x="19161" y="2518"/>
                  <a:pt x="19194" y="2473"/>
                  <a:pt x="19224" y="2456"/>
                </a:cubicBezTo>
                <a:cubicBezTo>
                  <a:pt x="19232" y="2456"/>
                  <a:pt x="19240" y="2456"/>
                  <a:pt x="19248" y="2456"/>
                </a:cubicBezTo>
                <a:cubicBezTo>
                  <a:pt x="19274" y="2420"/>
                  <a:pt x="19287" y="2407"/>
                  <a:pt x="19323" y="2381"/>
                </a:cubicBezTo>
                <a:cubicBezTo>
                  <a:pt x="19343" y="2366"/>
                  <a:pt x="19340" y="2372"/>
                  <a:pt x="19372" y="2356"/>
                </a:cubicBezTo>
                <a:cubicBezTo>
                  <a:pt x="19389" y="2348"/>
                  <a:pt x="19381" y="2339"/>
                  <a:pt x="19422" y="2332"/>
                </a:cubicBezTo>
                <a:cubicBezTo>
                  <a:pt x="19448" y="2312"/>
                  <a:pt x="19421" y="2315"/>
                  <a:pt x="19472" y="2307"/>
                </a:cubicBezTo>
                <a:cubicBezTo>
                  <a:pt x="19488" y="2275"/>
                  <a:pt x="19480" y="2289"/>
                  <a:pt x="19496" y="2257"/>
                </a:cubicBezTo>
                <a:cubicBezTo>
                  <a:pt x="19521" y="2257"/>
                  <a:pt x="19546" y="2257"/>
                  <a:pt x="19571" y="2257"/>
                </a:cubicBezTo>
                <a:cubicBezTo>
                  <a:pt x="19571" y="2331"/>
                  <a:pt x="19571" y="2406"/>
                  <a:pt x="19571" y="2480"/>
                </a:cubicBezTo>
              </a:path>
              <a:path w="3350" h="2581">
                <a:moveTo>
                  <a:pt x="18579" y="3448"/>
                </a:moveTo>
                <a:cubicBezTo>
                  <a:pt x="18579" y="3423"/>
                  <a:pt x="18579" y="3415"/>
                  <a:pt x="18579" y="3398"/>
                </a:cubicBezTo>
                <a:cubicBezTo>
                  <a:pt x="18604" y="3398"/>
                  <a:pt x="18628" y="3398"/>
                  <a:pt x="18653" y="3398"/>
                </a:cubicBezTo>
                <a:cubicBezTo>
                  <a:pt x="18663" y="3438"/>
                  <a:pt x="18693" y="3457"/>
                  <a:pt x="18703" y="3497"/>
                </a:cubicBezTo>
                <a:cubicBezTo>
                  <a:pt x="18732" y="3507"/>
                  <a:pt x="18748" y="3531"/>
                  <a:pt x="18752" y="3572"/>
                </a:cubicBezTo>
                <a:cubicBezTo>
                  <a:pt x="18752" y="3580"/>
                  <a:pt x="18752" y="3589"/>
                  <a:pt x="18752" y="3597"/>
                </a:cubicBezTo>
                <a:cubicBezTo>
                  <a:pt x="18790" y="3609"/>
                  <a:pt x="18777" y="3626"/>
                  <a:pt x="18777" y="3671"/>
                </a:cubicBezTo>
                <a:cubicBezTo>
                  <a:pt x="18777" y="3754"/>
                  <a:pt x="18777" y="3836"/>
                  <a:pt x="18777" y="3919"/>
                </a:cubicBezTo>
              </a:path>
              <a:path w="3350" h="2581">
                <a:moveTo>
                  <a:pt x="18504" y="3721"/>
                </a:moveTo>
                <a:cubicBezTo>
                  <a:pt x="18464" y="3734"/>
                  <a:pt x="18479" y="3760"/>
                  <a:pt x="18455" y="3795"/>
                </a:cubicBezTo>
                <a:cubicBezTo>
                  <a:pt x="18418" y="3851"/>
                  <a:pt x="18364" y="3883"/>
                  <a:pt x="18331" y="3944"/>
                </a:cubicBezTo>
                <a:cubicBezTo>
                  <a:pt x="18285" y="4028"/>
                  <a:pt x="18244" y="4104"/>
                  <a:pt x="18207" y="4192"/>
                </a:cubicBezTo>
                <a:cubicBezTo>
                  <a:pt x="18178" y="4259"/>
                  <a:pt x="18130" y="4323"/>
                  <a:pt x="18107" y="4390"/>
                </a:cubicBezTo>
                <a:cubicBezTo>
                  <a:pt x="18107" y="4398"/>
                  <a:pt x="18107" y="4407"/>
                  <a:pt x="18107" y="4415"/>
                </a:cubicBezTo>
              </a:path>
              <a:path w="3350" h="2581">
                <a:moveTo>
                  <a:pt x="17041" y="4713"/>
                </a:moveTo>
                <a:cubicBezTo>
                  <a:pt x="17033" y="4721"/>
                  <a:pt x="17024" y="4730"/>
                  <a:pt x="17016" y="4738"/>
                </a:cubicBezTo>
                <a:cubicBezTo>
                  <a:pt x="17016" y="4682"/>
                  <a:pt x="17015" y="4659"/>
                  <a:pt x="17041" y="4614"/>
                </a:cubicBezTo>
                <a:cubicBezTo>
                  <a:pt x="17069" y="4565"/>
                  <a:pt x="17098" y="4541"/>
                  <a:pt x="17165" y="4564"/>
                </a:cubicBezTo>
                <a:cubicBezTo>
                  <a:pt x="17260" y="4596"/>
                  <a:pt x="17239" y="4681"/>
                  <a:pt x="17239" y="4762"/>
                </a:cubicBezTo>
                <a:cubicBezTo>
                  <a:pt x="17239" y="4844"/>
                  <a:pt x="17213" y="4837"/>
                  <a:pt x="17140" y="4837"/>
                </a:cubicBezTo>
                <a:cubicBezTo>
                  <a:pt x="17082" y="4837"/>
                  <a:pt x="17062" y="4840"/>
                  <a:pt x="17016" y="4812"/>
                </a:cubicBezTo>
              </a:path>
              <a:path w="3350" h="2581">
                <a:moveTo>
                  <a:pt x="17835" y="4490"/>
                </a:moveTo>
                <a:cubicBezTo>
                  <a:pt x="17889" y="4481"/>
                  <a:pt x="17895" y="4483"/>
                  <a:pt x="17909" y="4440"/>
                </a:cubicBezTo>
                <a:cubicBezTo>
                  <a:pt x="17895" y="4397"/>
                  <a:pt x="17854" y="4411"/>
                  <a:pt x="17810" y="4440"/>
                </a:cubicBezTo>
                <a:cubicBezTo>
                  <a:pt x="17785" y="4457"/>
                  <a:pt x="17723" y="4512"/>
                  <a:pt x="17711" y="4539"/>
                </a:cubicBezTo>
                <a:cubicBezTo>
                  <a:pt x="17694" y="4578"/>
                  <a:pt x="17713" y="4604"/>
                  <a:pt x="17735" y="4614"/>
                </a:cubicBezTo>
                <a:cubicBezTo>
                  <a:pt x="17796" y="4641"/>
                  <a:pt x="17857" y="4660"/>
                  <a:pt x="17909" y="4688"/>
                </a:cubicBezTo>
                <a:cubicBezTo>
                  <a:pt x="17968" y="4720"/>
                  <a:pt x="17983" y="4723"/>
                  <a:pt x="17983" y="4787"/>
                </a:cubicBezTo>
                <a:cubicBezTo>
                  <a:pt x="17946" y="4816"/>
                  <a:pt x="17932" y="4812"/>
                  <a:pt x="17884" y="4812"/>
                </a:cubicBezTo>
                <a:cubicBezTo>
                  <a:pt x="17859" y="4812"/>
                  <a:pt x="17851" y="4812"/>
                  <a:pt x="17835" y="4812"/>
                </a:cubicBezTo>
                <a:cubicBezTo>
                  <a:pt x="17835" y="4744"/>
                  <a:pt x="17844" y="4701"/>
                  <a:pt x="17859" y="4638"/>
                </a:cubicBezTo>
                <a:cubicBezTo>
                  <a:pt x="17871" y="4588"/>
                  <a:pt x="17936" y="4590"/>
                  <a:pt x="17959" y="4539"/>
                </a:cubicBezTo>
                <a:cubicBezTo>
                  <a:pt x="17959" y="4531"/>
                  <a:pt x="17959" y="4522"/>
                  <a:pt x="17959" y="4514"/>
                </a:cubicBezTo>
              </a:path>
              <a:path w="3350" h="2581">
                <a:moveTo>
                  <a:pt x="17462" y="4837"/>
                </a:move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</a:path>
              <a:path w="3350" h="2581">
                <a:moveTo>
                  <a:pt x="18207" y="2679"/>
                </a:moveTo>
                <a:cubicBezTo>
                  <a:pt x="18229" y="2656"/>
                  <a:pt x="18234" y="2648"/>
                  <a:pt x="18256" y="2654"/>
                </a:cubicBezTo>
                <a:cubicBezTo>
                  <a:pt x="18256" y="2704"/>
                  <a:pt x="18245" y="2713"/>
                  <a:pt x="18231" y="2753"/>
                </a:cubicBezTo>
                <a:cubicBezTo>
                  <a:pt x="18212" y="2809"/>
                  <a:pt x="18238" y="2829"/>
                  <a:pt x="18281" y="2853"/>
                </a:cubicBezTo>
                <a:cubicBezTo>
                  <a:pt x="18334" y="2882"/>
                  <a:pt x="18419" y="2901"/>
                  <a:pt x="18455" y="2952"/>
                </a:cubicBezTo>
                <a:cubicBezTo>
                  <a:pt x="18481" y="2989"/>
                  <a:pt x="18503" y="3071"/>
                  <a:pt x="18455" y="3101"/>
                </a:cubicBezTo>
                <a:cubicBezTo>
                  <a:pt x="18407" y="3131"/>
                  <a:pt x="18342" y="3125"/>
                  <a:pt x="18281" y="3125"/>
                </a:cubicBezTo>
                <a:cubicBezTo>
                  <a:pt x="18240" y="3125"/>
                  <a:pt x="18232" y="3125"/>
                  <a:pt x="18207" y="3125"/>
                </a:cubicBezTo>
              </a:path>
              <a:path w="3350" h="2581">
                <a:moveTo>
                  <a:pt x="18529" y="2654"/>
                </a:moveTo>
                <a:cubicBezTo>
                  <a:pt x="18537" y="2637"/>
                  <a:pt x="18546" y="2621"/>
                  <a:pt x="18554" y="2604"/>
                </a:cubicBezTo>
                <a:cubicBezTo>
                  <a:pt x="18490" y="2604"/>
                  <a:pt x="18442" y="2621"/>
                  <a:pt x="18380" y="2629"/>
                </a:cubicBezTo>
              </a:path>
              <a:path w="3350" h="2581">
                <a:moveTo>
                  <a:pt x="20216" y="3076"/>
                </a:moveTo>
                <a:cubicBezTo>
                  <a:pt x="20256" y="3066"/>
                  <a:pt x="20279" y="3058"/>
                  <a:pt x="20290" y="3026"/>
                </a:cubicBezTo>
                <a:cubicBezTo>
                  <a:pt x="20241" y="3026"/>
                  <a:pt x="20211" y="3021"/>
                  <a:pt x="20166" y="3051"/>
                </a:cubicBezTo>
                <a:cubicBezTo>
                  <a:pt x="20117" y="3083"/>
                  <a:pt x="20092" y="3092"/>
                  <a:pt x="20092" y="3150"/>
                </a:cubicBezTo>
                <a:cubicBezTo>
                  <a:pt x="20092" y="3191"/>
                  <a:pt x="20151" y="3198"/>
                  <a:pt x="20191" y="3200"/>
                </a:cubicBezTo>
                <a:cubicBezTo>
                  <a:pt x="20252" y="3204"/>
                  <a:pt x="20284" y="3181"/>
                  <a:pt x="20340" y="3175"/>
                </a:cubicBezTo>
                <a:cubicBezTo>
                  <a:pt x="20348" y="3175"/>
                  <a:pt x="20357" y="3175"/>
                  <a:pt x="20365" y="3175"/>
                </a:cubicBezTo>
              </a:path>
              <a:path w="3350" h="2581">
                <a:moveTo>
                  <a:pt x="19695" y="3696"/>
                </a:moveTo>
                <a:cubicBezTo>
                  <a:pt x="19695" y="3688"/>
                  <a:pt x="19695" y="3679"/>
                  <a:pt x="19695" y="3671"/>
                </a:cubicBezTo>
                <a:cubicBezTo>
                  <a:pt x="19641" y="3671"/>
                  <a:pt x="19613" y="3655"/>
                  <a:pt x="19571" y="3646"/>
                </a:cubicBezTo>
                <a:cubicBezTo>
                  <a:pt x="19527" y="3637"/>
                  <a:pt x="19467" y="3646"/>
                  <a:pt x="19422" y="3646"/>
                </a:cubicBezTo>
                <a:cubicBezTo>
                  <a:pt x="19410" y="3611"/>
                  <a:pt x="19415" y="3621"/>
                  <a:pt x="19372" y="3621"/>
                </a:cubicBezTo>
                <a:cubicBezTo>
                  <a:pt x="19372" y="3679"/>
                  <a:pt x="19351" y="3697"/>
                  <a:pt x="19348" y="3746"/>
                </a:cubicBezTo>
                <a:cubicBezTo>
                  <a:pt x="19345" y="3787"/>
                  <a:pt x="19348" y="3829"/>
                  <a:pt x="19348" y="3870"/>
                </a:cubicBezTo>
              </a:path>
              <a:path w="3350" h="2581">
                <a:moveTo>
                  <a:pt x="19348" y="3870"/>
                </a:moveTo>
                <a:cubicBezTo>
                  <a:pt x="19348" y="3894"/>
                  <a:pt x="19348" y="3903"/>
                  <a:pt x="19348" y="3919"/>
                </a:cubicBezTo>
              </a:path>
              <a:path w="3350" h="2581">
                <a:moveTo>
                  <a:pt x="18827" y="4142"/>
                </a:moveTo>
                <a:cubicBezTo>
                  <a:pt x="18827" y="4118"/>
                  <a:pt x="18827" y="4109"/>
                  <a:pt x="18827" y="4093"/>
                </a:cubicBezTo>
                <a:cubicBezTo>
                  <a:pt x="18827" y="4258"/>
                  <a:pt x="18731" y="4674"/>
                  <a:pt x="18827" y="4539"/>
                </a:cubicBezTo>
                <a:cubicBezTo>
                  <a:pt x="18850" y="4507"/>
                  <a:pt x="18857" y="4469"/>
                  <a:pt x="18876" y="4440"/>
                </a:cubicBezTo>
                <a:cubicBezTo>
                  <a:pt x="18896" y="4410"/>
                  <a:pt x="18959" y="4360"/>
                  <a:pt x="19000" y="4390"/>
                </a:cubicBezTo>
                <a:cubicBezTo>
                  <a:pt x="19018" y="4403"/>
                  <a:pt x="19025" y="4463"/>
                  <a:pt x="19025" y="4490"/>
                </a:cubicBezTo>
                <a:cubicBezTo>
                  <a:pt x="19025" y="4498"/>
                  <a:pt x="19025" y="4506"/>
                  <a:pt x="19025" y="4514"/>
                </a:cubicBezTo>
                <a:cubicBezTo>
                  <a:pt x="18984" y="4514"/>
                  <a:pt x="18942" y="4514"/>
                  <a:pt x="1890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05680" y="3384720"/>
            <a:ext cx="1081080" cy="884160"/>
          </a:xfrm>
          <a:custGeom>
            <a:avLst/>
            <a:gdLst/>
            <a:ahLst/>
            <a:rect l="l" t="t" r="r" b="b"/>
            <a:pathLst>
              <a:path w="3003" h="2457">
                <a:moveTo>
                  <a:pt x="17363" y="10964"/>
                </a:moveTo>
                <a:cubicBezTo>
                  <a:pt x="17402" y="10925"/>
                  <a:pt x="17419" y="10923"/>
                  <a:pt x="17413" y="10889"/>
                </a:cubicBezTo>
                <a:cubicBezTo>
                  <a:pt x="17362" y="10902"/>
                  <a:pt x="17319" y="10967"/>
                  <a:pt x="17289" y="11013"/>
                </a:cubicBezTo>
                <a:cubicBezTo>
                  <a:pt x="17252" y="11069"/>
                  <a:pt x="17243" y="11204"/>
                  <a:pt x="17289" y="11261"/>
                </a:cubicBezTo>
                <a:cubicBezTo>
                  <a:pt x="17322" y="11301"/>
                  <a:pt x="17394" y="11305"/>
                  <a:pt x="17438" y="11311"/>
                </a:cubicBezTo>
              </a:path>
              <a:path w="3003" h="2457">
                <a:moveTo>
                  <a:pt x="17587" y="11112"/>
                </a:moveTo>
                <a:cubicBezTo>
                  <a:pt x="17527" y="11060"/>
                  <a:pt x="17467" y="11023"/>
                  <a:pt x="17388" y="11013"/>
                </a:cubicBezTo>
                <a:cubicBezTo>
                  <a:pt x="17342" y="11007"/>
                  <a:pt x="17287" y="11013"/>
                  <a:pt x="17239" y="11013"/>
                </a:cubicBezTo>
              </a:path>
              <a:path w="3003" h="2457">
                <a:moveTo>
                  <a:pt x="17711" y="11261"/>
                </a:moveTo>
                <a:cubicBezTo>
                  <a:pt x="17711" y="11207"/>
                  <a:pt x="17723" y="11178"/>
                  <a:pt x="17760" y="11137"/>
                </a:cubicBezTo>
                <a:cubicBezTo>
                  <a:pt x="17782" y="11113"/>
                  <a:pt x="17820" y="11067"/>
                  <a:pt x="17859" y="11088"/>
                </a:cubicBezTo>
                <a:cubicBezTo>
                  <a:pt x="17888" y="11104"/>
                  <a:pt x="17943" y="11127"/>
                  <a:pt x="17959" y="11162"/>
                </a:cubicBezTo>
                <a:cubicBezTo>
                  <a:pt x="17959" y="11190"/>
                  <a:pt x="17961" y="11201"/>
                  <a:pt x="17983" y="11212"/>
                </a:cubicBezTo>
              </a:path>
              <a:path w="3003" h="2457">
                <a:moveTo>
                  <a:pt x="18008" y="11137"/>
                </a:moveTo>
                <a:cubicBezTo>
                  <a:pt x="18016" y="11129"/>
                  <a:pt x="18025" y="11120"/>
                  <a:pt x="18033" y="11112"/>
                </a:cubicBezTo>
                <a:cubicBezTo>
                  <a:pt x="18033" y="11170"/>
                  <a:pt x="18033" y="11228"/>
                  <a:pt x="18033" y="11286"/>
                </a:cubicBezTo>
              </a:path>
              <a:path w="3003" h="2457">
                <a:moveTo>
                  <a:pt x="18008" y="11013"/>
                </a:moveTo>
                <a:cubicBezTo>
                  <a:pt x="18028" y="10936"/>
                  <a:pt x="18020" y="10918"/>
                  <a:pt x="18058" y="10889"/>
                </a:cubicBezTo>
              </a:path>
              <a:path w="3003" h="2457">
                <a:moveTo>
                  <a:pt x="18355" y="11088"/>
                </a:moveTo>
                <a:cubicBezTo>
                  <a:pt x="18380" y="11088"/>
                  <a:pt x="18388" y="11088"/>
                  <a:pt x="18380" y="11063"/>
                </a:cubicBezTo>
                <a:cubicBezTo>
                  <a:pt x="18327" y="11063"/>
                  <a:pt x="18296" y="11074"/>
                  <a:pt x="18256" y="11112"/>
                </a:cubicBezTo>
                <a:cubicBezTo>
                  <a:pt x="18198" y="11167"/>
                  <a:pt x="18207" y="11190"/>
                  <a:pt x="18207" y="11261"/>
                </a:cubicBezTo>
                <a:cubicBezTo>
                  <a:pt x="18253" y="11250"/>
                  <a:pt x="18287" y="11205"/>
                  <a:pt x="18331" y="11187"/>
                </a:cubicBezTo>
                <a:cubicBezTo>
                  <a:pt x="18377" y="11168"/>
                  <a:pt x="18416" y="11193"/>
                  <a:pt x="18430" y="11212"/>
                </a:cubicBezTo>
                <a:cubicBezTo>
                  <a:pt x="18457" y="11248"/>
                  <a:pt x="18490" y="11276"/>
                  <a:pt x="18529" y="11286"/>
                </a:cubicBezTo>
              </a:path>
              <a:path w="3003" h="2457">
                <a:moveTo>
                  <a:pt x="18604" y="11137"/>
                </a:moveTo>
                <a:cubicBezTo>
                  <a:pt x="18604" y="11170"/>
                  <a:pt x="18604" y="11204"/>
                  <a:pt x="18604" y="11237"/>
                </a:cubicBezTo>
                <a:cubicBezTo>
                  <a:pt x="18604" y="11184"/>
                  <a:pt x="18615" y="11175"/>
                  <a:pt x="18653" y="11137"/>
                </a:cubicBezTo>
                <a:cubicBezTo>
                  <a:pt x="18687" y="11103"/>
                  <a:pt x="18740" y="11059"/>
                  <a:pt x="18777" y="11112"/>
                </a:cubicBezTo>
                <a:cubicBezTo>
                  <a:pt x="18805" y="11153"/>
                  <a:pt x="18837" y="11239"/>
                  <a:pt x="18852" y="11286"/>
                </a:cubicBezTo>
                <a:cubicBezTo>
                  <a:pt x="18865" y="11328"/>
                  <a:pt x="18847" y="11321"/>
                  <a:pt x="18876" y="11361"/>
                </a:cubicBezTo>
              </a:path>
              <a:path w="3003" h="2457">
                <a:moveTo>
                  <a:pt x="19075" y="11237"/>
                </a:moveTo>
                <a:cubicBezTo>
                  <a:pt x="19075" y="11212"/>
                  <a:pt x="19075" y="11204"/>
                  <a:pt x="19075" y="11187"/>
                </a:cubicBezTo>
                <a:cubicBezTo>
                  <a:pt x="19043" y="11198"/>
                  <a:pt x="19014" y="11265"/>
                  <a:pt x="19000" y="11311"/>
                </a:cubicBezTo>
                <a:cubicBezTo>
                  <a:pt x="19000" y="11339"/>
                  <a:pt x="19002" y="11350"/>
                  <a:pt x="19025" y="11361"/>
                </a:cubicBezTo>
                <a:cubicBezTo>
                  <a:pt x="19071" y="11338"/>
                  <a:pt x="19085" y="11282"/>
                  <a:pt x="19149" y="11261"/>
                </a:cubicBezTo>
                <a:cubicBezTo>
                  <a:pt x="19256" y="11225"/>
                  <a:pt x="19247" y="11391"/>
                  <a:pt x="19248" y="11435"/>
                </a:cubicBezTo>
                <a:cubicBezTo>
                  <a:pt x="19252" y="11569"/>
                  <a:pt x="19255" y="11665"/>
                  <a:pt x="19199" y="11782"/>
                </a:cubicBezTo>
                <a:cubicBezTo>
                  <a:pt x="19168" y="11847"/>
                  <a:pt x="19076" y="11893"/>
                  <a:pt x="19000" y="11857"/>
                </a:cubicBezTo>
                <a:cubicBezTo>
                  <a:pt x="18926" y="11821"/>
                  <a:pt x="18881" y="11700"/>
                  <a:pt x="18876" y="11633"/>
                </a:cubicBezTo>
                <a:cubicBezTo>
                  <a:pt x="18876" y="11608"/>
                  <a:pt x="18876" y="11584"/>
                  <a:pt x="18876" y="11559"/>
                </a:cubicBezTo>
              </a:path>
              <a:path w="3003" h="2457">
                <a:moveTo>
                  <a:pt x="19447" y="10840"/>
                </a:moveTo>
                <a:cubicBezTo>
                  <a:pt x="19476" y="10789"/>
                  <a:pt x="19471" y="10778"/>
                  <a:pt x="19521" y="10765"/>
                </a:cubicBezTo>
                <a:cubicBezTo>
                  <a:pt x="19521" y="10829"/>
                  <a:pt x="19503" y="10877"/>
                  <a:pt x="19496" y="10939"/>
                </a:cubicBezTo>
                <a:cubicBezTo>
                  <a:pt x="19482" y="11055"/>
                  <a:pt x="19472" y="11168"/>
                  <a:pt x="19472" y="11286"/>
                </a:cubicBezTo>
                <a:cubicBezTo>
                  <a:pt x="19472" y="11327"/>
                  <a:pt x="19472" y="11369"/>
                  <a:pt x="19472" y="11410"/>
                </a:cubicBezTo>
              </a:path>
              <a:path w="3003" h="2457">
                <a:moveTo>
                  <a:pt x="19621" y="11361"/>
                </a:moveTo>
                <a:cubicBezTo>
                  <a:pt x="19659" y="11383"/>
                  <a:pt x="19719" y="11399"/>
                  <a:pt x="19769" y="11385"/>
                </a:cubicBezTo>
                <a:cubicBezTo>
                  <a:pt x="19829" y="11368"/>
                  <a:pt x="19896" y="11269"/>
                  <a:pt x="19918" y="11212"/>
                </a:cubicBezTo>
                <a:cubicBezTo>
                  <a:pt x="19918" y="11204"/>
                  <a:pt x="19918" y="11195"/>
                  <a:pt x="19918" y="11187"/>
                </a:cubicBezTo>
                <a:cubicBezTo>
                  <a:pt x="19873" y="11153"/>
                  <a:pt x="19792" y="11170"/>
                  <a:pt x="19745" y="11212"/>
                </a:cubicBezTo>
                <a:cubicBezTo>
                  <a:pt x="19646" y="11301"/>
                  <a:pt x="19661" y="11392"/>
                  <a:pt x="19720" y="11485"/>
                </a:cubicBezTo>
                <a:cubicBezTo>
                  <a:pt x="19773" y="11569"/>
                  <a:pt x="19883" y="11662"/>
                  <a:pt x="19993" y="11658"/>
                </a:cubicBezTo>
                <a:cubicBezTo>
                  <a:pt x="20071" y="11655"/>
                  <a:pt x="20167" y="11608"/>
                  <a:pt x="20241" y="11584"/>
                </a:cubicBezTo>
              </a:path>
              <a:path w="3003" h="2457">
                <a:moveTo>
                  <a:pt x="18678" y="9599"/>
                </a:moveTo>
                <a:cubicBezTo>
                  <a:pt x="18698" y="9539"/>
                  <a:pt x="18700" y="9516"/>
                  <a:pt x="18703" y="9451"/>
                </a:cubicBezTo>
                <a:cubicBezTo>
                  <a:pt x="18703" y="9426"/>
                  <a:pt x="18703" y="9418"/>
                  <a:pt x="18703" y="9401"/>
                </a:cubicBezTo>
                <a:cubicBezTo>
                  <a:pt x="18703" y="9569"/>
                  <a:pt x="18715" y="9731"/>
                  <a:pt x="18728" y="9897"/>
                </a:cubicBezTo>
                <a:cubicBezTo>
                  <a:pt x="18743" y="10092"/>
                  <a:pt x="18700" y="10313"/>
                  <a:pt x="18752" y="10492"/>
                </a:cubicBezTo>
                <a:cubicBezTo>
                  <a:pt x="18752" y="10500"/>
                  <a:pt x="18752" y="10509"/>
                  <a:pt x="18752" y="10517"/>
                </a:cubicBezTo>
                <a:cubicBezTo>
                  <a:pt x="18788" y="10497"/>
                  <a:pt x="18818" y="10478"/>
                  <a:pt x="18852" y="10443"/>
                </a:cubicBezTo>
                <a:cubicBezTo>
                  <a:pt x="18891" y="10403"/>
                  <a:pt x="18946" y="10357"/>
                  <a:pt x="18976" y="10319"/>
                </a:cubicBezTo>
                <a:cubicBezTo>
                  <a:pt x="19023" y="10260"/>
                  <a:pt x="19081" y="10199"/>
                  <a:pt x="19124" y="10145"/>
                </a:cubicBezTo>
                <a:cubicBezTo>
                  <a:pt x="19131" y="10136"/>
                  <a:pt x="19239" y="10032"/>
                  <a:pt x="19174" y="10096"/>
                </a:cubicBezTo>
                <a:cubicBezTo>
                  <a:pt x="19133" y="10136"/>
                  <a:pt x="19095" y="10213"/>
                  <a:pt x="19050" y="10269"/>
                </a:cubicBezTo>
                <a:cubicBezTo>
                  <a:pt x="18990" y="10342"/>
                  <a:pt x="18921" y="10409"/>
                  <a:pt x="18876" y="10492"/>
                </a:cubicBezTo>
                <a:cubicBezTo>
                  <a:pt x="18847" y="10545"/>
                  <a:pt x="18820" y="10574"/>
                  <a:pt x="18777" y="10616"/>
                </a:cubicBezTo>
                <a:cubicBezTo>
                  <a:pt x="18715" y="10555"/>
                  <a:pt x="18694" y="10491"/>
                  <a:pt x="18653" y="10418"/>
                </a:cubicBezTo>
                <a:cubicBezTo>
                  <a:pt x="18612" y="10345"/>
                  <a:pt x="18567" y="10282"/>
                  <a:pt x="18529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72120" y="5000760"/>
            <a:ext cx="1089000" cy="339480"/>
          </a:xfrm>
          <a:custGeom>
            <a:avLst/>
            <a:gdLst/>
            <a:ahLst/>
            <a:rect l="l" t="t" r="r" b="b"/>
            <a:pathLst>
              <a:path w="3027" h="943">
                <a:moveTo>
                  <a:pt x="17041" y="13990"/>
                </a:moveTo>
                <a:cubicBezTo>
                  <a:pt x="17084" y="13958"/>
                  <a:pt x="17090" y="13971"/>
                  <a:pt x="17090" y="13915"/>
                </a:cubicBezTo>
                <a:cubicBezTo>
                  <a:pt x="17090" y="13907"/>
                  <a:pt x="17090" y="13899"/>
                  <a:pt x="17090" y="13891"/>
                </a:cubicBezTo>
                <a:cubicBezTo>
                  <a:pt x="17025" y="13891"/>
                  <a:pt x="17015" y="13915"/>
                  <a:pt x="16966" y="13965"/>
                </a:cubicBezTo>
                <a:cubicBezTo>
                  <a:pt x="16866" y="14066"/>
                  <a:pt x="16867" y="14126"/>
                  <a:pt x="16867" y="14263"/>
                </a:cubicBezTo>
                <a:cubicBezTo>
                  <a:pt x="16867" y="14358"/>
                  <a:pt x="16871" y="14485"/>
                  <a:pt x="16991" y="14511"/>
                </a:cubicBezTo>
                <a:cubicBezTo>
                  <a:pt x="17037" y="14521"/>
                  <a:pt x="17147" y="14463"/>
                  <a:pt x="17165" y="14412"/>
                </a:cubicBezTo>
                <a:cubicBezTo>
                  <a:pt x="17165" y="14395"/>
                  <a:pt x="17165" y="14379"/>
                  <a:pt x="17165" y="14362"/>
                </a:cubicBezTo>
                <a:cubicBezTo>
                  <a:pt x="17081" y="14362"/>
                  <a:pt x="16985" y="14346"/>
                  <a:pt x="16917" y="14387"/>
                </a:cubicBezTo>
              </a:path>
              <a:path w="3027" h="943">
                <a:moveTo>
                  <a:pt x="17438" y="14486"/>
                </a:moveTo>
                <a:cubicBezTo>
                  <a:pt x="17460" y="14509"/>
                  <a:pt x="17468" y="14514"/>
                  <a:pt x="17462" y="14536"/>
                </a:cubicBezTo>
              </a:path>
              <a:path w="3027" h="943">
                <a:moveTo>
                  <a:pt x="17785" y="14213"/>
                </a:moveTo>
                <a:cubicBezTo>
                  <a:pt x="17797" y="14167"/>
                  <a:pt x="17809" y="14159"/>
                  <a:pt x="17835" y="14139"/>
                </a:cubicBezTo>
                <a:cubicBezTo>
                  <a:pt x="17872" y="14111"/>
                  <a:pt x="17921" y="14090"/>
                  <a:pt x="17959" y="14139"/>
                </a:cubicBezTo>
                <a:cubicBezTo>
                  <a:pt x="17995" y="14186"/>
                  <a:pt x="17996" y="14308"/>
                  <a:pt x="17983" y="14362"/>
                </a:cubicBezTo>
                <a:cubicBezTo>
                  <a:pt x="17970" y="14417"/>
                  <a:pt x="17918" y="14492"/>
                  <a:pt x="17884" y="14536"/>
                </a:cubicBezTo>
                <a:cubicBezTo>
                  <a:pt x="17861" y="14558"/>
                  <a:pt x="17853" y="14563"/>
                  <a:pt x="17859" y="14585"/>
                </a:cubicBezTo>
                <a:cubicBezTo>
                  <a:pt x="17912" y="14543"/>
                  <a:pt x="17972" y="14517"/>
                  <a:pt x="18033" y="14486"/>
                </a:cubicBezTo>
                <a:cubicBezTo>
                  <a:pt x="18089" y="14458"/>
                  <a:pt x="18120" y="14461"/>
                  <a:pt x="18182" y="14461"/>
                </a:cubicBezTo>
                <a:cubicBezTo>
                  <a:pt x="18207" y="14461"/>
                  <a:pt x="18215" y="14461"/>
                  <a:pt x="18231" y="14461"/>
                </a:cubicBezTo>
              </a:path>
              <a:path w="3027" h="943">
                <a:moveTo>
                  <a:pt x="18529" y="14139"/>
                </a:moveTo>
                <a:cubicBezTo>
                  <a:pt x="18546" y="14122"/>
                  <a:pt x="18562" y="14106"/>
                  <a:pt x="18579" y="14089"/>
                </a:cubicBezTo>
                <a:cubicBezTo>
                  <a:pt x="18568" y="14135"/>
                  <a:pt x="18545" y="14191"/>
                  <a:pt x="18529" y="14238"/>
                </a:cubicBezTo>
                <a:cubicBezTo>
                  <a:pt x="18516" y="14278"/>
                  <a:pt x="18481" y="14341"/>
                  <a:pt x="18504" y="14387"/>
                </a:cubicBezTo>
                <a:cubicBezTo>
                  <a:pt x="18517" y="14413"/>
                  <a:pt x="18603" y="14456"/>
                  <a:pt x="18628" y="14461"/>
                </a:cubicBezTo>
                <a:cubicBezTo>
                  <a:pt x="18725" y="14482"/>
                  <a:pt x="18851" y="14461"/>
                  <a:pt x="18951" y="14461"/>
                </a:cubicBezTo>
              </a:path>
              <a:path w="3027" h="943">
                <a:moveTo>
                  <a:pt x="18876" y="14312"/>
                </a:moveTo>
                <a:cubicBezTo>
                  <a:pt x="18856" y="14272"/>
                  <a:pt x="18858" y="14256"/>
                  <a:pt x="18827" y="14263"/>
                </a:cubicBezTo>
                <a:cubicBezTo>
                  <a:pt x="18816" y="14346"/>
                  <a:pt x="18786" y="14426"/>
                  <a:pt x="18777" y="14511"/>
                </a:cubicBezTo>
                <a:cubicBezTo>
                  <a:pt x="18771" y="14567"/>
                  <a:pt x="18777" y="14628"/>
                  <a:pt x="18777" y="14684"/>
                </a:cubicBezTo>
              </a:path>
              <a:path w="3027" h="943">
                <a:moveTo>
                  <a:pt x="19745" y="14238"/>
                </a:moveTo>
                <a:cubicBezTo>
                  <a:pt x="19813" y="14238"/>
                  <a:pt x="19785" y="14228"/>
                  <a:pt x="19745" y="14188"/>
                </a:cubicBezTo>
                <a:cubicBezTo>
                  <a:pt x="19716" y="14158"/>
                  <a:pt x="19664" y="14142"/>
                  <a:pt x="19621" y="14139"/>
                </a:cubicBezTo>
                <a:cubicBezTo>
                  <a:pt x="19566" y="14135"/>
                  <a:pt x="19513" y="14130"/>
                  <a:pt x="19472" y="14163"/>
                </a:cubicBezTo>
                <a:cubicBezTo>
                  <a:pt x="19424" y="14201"/>
                  <a:pt x="19441" y="14272"/>
                  <a:pt x="19472" y="14312"/>
                </a:cubicBezTo>
                <a:cubicBezTo>
                  <a:pt x="19504" y="14352"/>
                  <a:pt x="19541" y="14380"/>
                  <a:pt x="19596" y="14362"/>
                </a:cubicBezTo>
                <a:cubicBezTo>
                  <a:pt x="19668" y="14338"/>
                  <a:pt x="19718" y="14265"/>
                  <a:pt x="19769" y="14213"/>
                </a:cubicBezTo>
                <a:cubicBezTo>
                  <a:pt x="19777" y="14205"/>
                  <a:pt x="19786" y="14196"/>
                  <a:pt x="19794" y="14188"/>
                </a:cubicBezTo>
                <a:cubicBezTo>
                  <a:pt x="19839" y="14233"/>
                  <a:pt x="19830" y="14354"/>
                  <a:pt x="19844" y="14436"/>
                </a:cubicBezTo>
                <a:cubicBezTo>
                  <a:pt x="19864" y="14551"/>
                  <a:pt x="19887" y="14667"/>
                  <a:pt x="19893" y="14784"/>
                </a:cubicBezTo>
                <a:cubicBezTo>
                  <a:pt x="19893" y="14800"/>
                  <a:pt x="19893" y="14817"/>
                  <a:pt x="19893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00920" y="4759200"/>
            <a:ext cx="223920" cy="15264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9447" y="13295"/>
                </a:moveTo>
                <a:cubicBezTo>
                  <a:pt x="19497" y="13274"/>
                  <a:pt x="19569" y="13230"/>
                  <a:pt x="19621" y="13221"/>
                </a:cubicBezTo>
                <a:cubicBezTo>
                  <a:pt x="19683" y="13210"/>
                  <a:pt x="19782" y="13244"/>
                  <a:pt x="19769" y="13320"/>
                </a:cubicBezTo>
                <a:cubicBezTo>
                  <a:pt x="19753" y="13414"/>
                  <a:pt x="19672" y="13436"/>
                  <a:pt x="19621" y="13494"/>
                </a:cubicBezTo>
                <a:cubicBezTo>
                  <a:pt x="19594" y="13525"/>
                  <a:pt x="19555" y="13582"/>
                  <a:pt x="19546" y="13618"/>
                </a:cubicBezTo>
                <a:cubicBezTo>
                  <a:pt x="19599" y="13650"/>
                  <a:pt x="19678" y="13654"/>
                  <a:pt x="19745" y="13643"/>
                </a:cubicBezTo>
                <a:cubicBezTo>
                  <a:pt x="19857" y="13625"/>
                  <a:pt x="19953" y="13618"/>
                  <a:pt x="20067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0080" y="4330800"/>
            <a:ext cx="108000" cy="712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6276" y="12030"/>
                </a:moveTo>
                <a:cubicBezTo>
                  <a:pt x="6193" y="12030"/>
                  <a:pt x="6111" y="12030"/>
                  <a:pt x="6028" y="12030"/>
                </a:cubicBezTo>
              </a:path>
              <a:path w="298" h="200">
                <a:moveTo>
                  <a:pt x="6325" y="12229"/>
                </a:moveTo>
                <a:cubicBezTo>
                  <a:pt x="6325" y="12221"/>
                  <a:pt x="6325" y="12212"/>
                  <a:pt x="6325" y="12204"/>
                </a:cubicBezTo>
                <a:cubicBezTo>
                  <a:pt x="6242" y="12204"/>
                  <a:pt x="6160" y="12204"/>
                  <a:pt x="6077" y="12204"/>
                </a:cubicBezTo>
                <a:cubicBezTo>
                  <a:pt x="6077" y="12229"/>
                  <a:pt x="6077" y="12237"/>
                  <a:pt x="6052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4200" y="418788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7169" y="11708"/>
                </a:moveTo>
                <a:cubicBezTo>
                  <a:pt x="7169" y="11653"/>
                  <a:pt x="7169" y="11606"/>
                  <a:pt x="7169" y="11683"/>
                </a:cubicBezTo>
                <a:cubicBezTo>
                  <a:pt x="7169" y="11756"/>
                  <a:pt x="7189" y="11811"/>
                  <a:pt x="7193" y="11881"/>
                </a:cubicBezTo>
                <a:cubicBezTo>
                  <a:pt x="7193" y="11933"/>
                  <a:pt x="7194" y="11951"/>
                  <a:pt x="7218" y="11981"/>
                </a:cubicBezTo>
              </a:path>
              <a:path w="621" h="894">
                <a:moveTo>
                  <a:pt x="7466" y="12129"/>
                </a:moveTo>
                <a:cubicBezTo>
                  <a:pt x="7428" y="12102"/>
                  <a:pt x="7415" y="12105"/>
                  <a:pt x="7367" y="12105"/>
                </a:cubicBezTo>
                <a:cubicBezTo>
                  <a:pt x="7293" y="12105"/>
                  <a:pt x="7242" y="12148"/>
                  <a:pt x="7169" y="12154"/>
                </a:cubicBezTo>
                <a:cubicBezTo>
                  <a:pt x="7144" y="12156"/>
                  <a:pt x="7119" y="12154"/>
                  <a:pt x="7094" y="12154"/>
                </a:cubicBezTo>
              </a:path>
              <a:path w="621" h="894">
                <a:moveTo>
                  <a:pt x="7193" y="12328"/>
                </a:moveTo>
                <a:cubicBezTo>
                  <a:pt x="7148" y="12328"/>
                  <a:pt x="7203" y="12314"/>
                  <a:pt x="7218" y="12303"/>
                </a:cubicBezTo>
                <a:cubicBezTo>
                  <a:pt x="7255" y="12275"/>
                  <a:pt x="7285" y="12226"/>
                  <a:pt x="7342" y="12254"/>
                </a:cubicBezTo>
                <a:cubicBezTo>
                  <a:pt x="7391" y="12278"/>
                  <a:pt x="7366" y="12327"/>
                  <a:pt x="7342" y="12353"/>
                </a:cubicBezTo>
                <a:cubicBezTo>
                  <a:pt x="7307" y="12393"/>
                  <a:pt x="7249" y="12425"/>
                  <a:pt x="7243" y="12477"/>
                </a:cubicBezTo>
                <a:cubicBezTo>
                  <a:pt x="7243" y="12502"/>
                  <a:pt x="7243" y="12510"/>
                  <a:pt x="7243" y="12526"/>
                </a:cubicBezTo>
                <a:cubicBezTo>
                  <a:pt x="7308" y="12526"/>
                  <a:pt x="7357" y="12512"/>
                  <a:pt x="7417" y="12502"/>
                </a:cubicBezTo>
                <a:cubicBezTo>
                  <a:pt x="7471" y="12493"/>
                  <a:pt x="7493" y="12506"/>
                  <a:pt x="7541" y="12526"/>
                </a:cubicBezTo>
              </a:path>
              <a:path w="621" h="894">
                <a:moveTo>
                  <a:pt x="7714" y="12154"/>
                </a:moveTo>
                <a:cubicBezTo>
                  <a:pt x="7668" y="12154"/>
                  <a:pt x="7650" y="12148"/>
                  <a:pt x="7615" y="12179"/>
                </a:cubicBezTo>
                <a:cubicBezTo>
                  <a:pt x="7578" y="12212"/>
                  <a:pt x="7577" y="12192"/>
                  <a:pt x="7565" y="12229"/>
                </a:cubicBezTo>
              </a:path>
              <a:path w="621" h="894">
                <a:moveTo>
                  <a:pt x="7714" y="12254"/>
                </a:moveTo>
                <a:cubicBezTo>
                  <a:pt x="7681" y="12229"/>
                  <a:pt x="7655" y="12214"/>
                  <a:pt x="7615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4286160"/>
            <a:ext cx="108000" cy="15264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8062" y="12105"/>
                </a:moveTo>
                <a:cubicBezTo>
                  <a:pt x="8062" y="12056"/>
                  <a:pt x="8042" y="11962"/>
                  <a:pt x="8086" y="11931"/>
                </a:cubicBezTo>
                <a:cubicBezTo>
                  <a:pt x="8158" y="11881"/>
                  <a:pt x="8202" y="11905"/>
                  <a:pt x="8260" y="11956"/>
                </a:cubicBezTo>
                <a:cubicBezTo>
                  <a:pt x="8340" y="12027"/>
                  <a:pt x="8354" y="12127"/>
                  <a:pt x="8359" y="12229"/>
                </a:cubicBezTo>
                <a:cubicBezTo>
                  <a:pt x="8362" y="12303"/>
                  <a:pt x="8340" y="12346"/>
                  <a:pt x="8260" y="12328"/>
                </a:cubicBezTo>
                <a:cubicBezTo>
                  <a:pt x="8210" y="12317"/>
                  <a:pt x="8111" y="12285"/>
                  <a:pt x="8086" y="12229"/>
                </a:cubicBezTo>
                <a:cubicBezTo>
                  <a:pt x="8086" y="12221"/>
                  <a:pt x="8086" y="12212"/>
                  <a:pt x="8086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16160" y="429588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8657" y="12303"/>
                </a:moveTo>
                <a:cubicBezTo>
                  <a:pt x="8665" y="12303"/>
                  <a:pt x="8674" y="12303"/>
                  <a:pt x="8682" y="12303"/>
                </a:cubicBezTo>
              </a:path>
              <a:path w="472" h="448">
                <a:moveTo>
                  <a:pt x="9054" y="12005"/>
                </a:moveTo>
                <a:cubicBezTo>
                  <a:pt x="9083" y="11996"/>
                  <a:pt x="9101" y="11955"/>
                  <a:pt x="9054" y="11931"/>
                </a:cubicBezTo>
                <a:cubicBezTo>
                  <a:pt x="9017" y="11913"/>
                  <a:pt x="8955" y="11963"/>
                  <a:pt x="8930" y="11981"/>
                </a:cubicBezTo>
                <a:cubicBezTo>
                  <a:pt x="8887" y="12013"/>
                  <a:pt x="8880" y="11999"/>
                  <a:pt x="8880" y="12055"/>
                </a:cubicBezTo>
                <a:cubicBezTo>
                  <a:pt x="8880" y="12097"/>
                  <a:pt x="8932" y="12144"/>
                  <a:pt x="8954" y="12154"/>
                </a:cubicBezTo>
                <a:cubicBezTo>
                  <a:pt x="9008" y="12179"/>
                  <a:pt x="9038" y="12213"/>
                  <a:pt x="9079" y="12254"/>
                </a:cubicBezTo>
                <a:cubicBezTo>
                  <a:pt x="9117" y="12292"/>
                  <a:pt x="9128" y="12300"/>
                  <a:pt x="9128" y="12353"/>
                </a:cubicBezTo>
                <a:cubicBezTo>
                  <a:pt x="9128" y="12361"/>
                  <a:pt x="9128" y="12370"/>
                  <a:pt x="9128" y="12378"/>
                </a:cubicBezTo>
                <a:cubicBezTo>
                  <a:pt x="9077" y="12378"/>
                  <a:pt x="9046" y="12365"/>
                  <a:pt x="9004" y="12353"/>
                </a:cubicBezTo>
                <a:cubicBezTo>
                  <a:pt x="8969" y="12342"/>
                  <a:pt x="8936" y="12327"/>
                  <a:pt x="8954" y="12278"/>
                </a:cubicBezTo>
                <a:cubicBezTo>
                  <a:pt x="8982" y="12202"/>
                  <a:pt x="9026" y="12138"/>
                  <a:pt x="9079" y="12080"/>
                </a:cubicBezTo>
                <a:cubicBezTo>
                  <a:pt x="9103" y="12055"/>
                  <a:pt x="9111" y="12046"/>
                  <a:pt x="9128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02000" y="437508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9550" y="12154"/>
                </a:moveTo>
                <a:cubicBezTo>
                  <a:pt x="9558" y="12154"/>
                  <a:pt x="9567" y="12154"/>
                  <a:pt x="9575" y="12154"/>
                </a:cubicBezTo>
                <a:cubicBezTo>
                  <a:pt x="9534" y="12164"/>
                  <a:pt x="9535" y="12163"/>
                  <a:pt x="9525" y="12204"/>
                </a:cubicBezTo>
                <a:cubicBezTo>
                  <a:pt x="9497" y="12204"/>
                  <a:pt x="9486" y="12206"/>
                  <a:pt x="9475" y="12229"/>
                </a:cubicBezTo>
              </a:path>
              <a:path w="125" h="150">
                <a:moveTo>
                  <a:pt x="9575" y="12303"/>
                </a:moveTo>
                <a:cubicBezTo>
                  <a:pt x="9565" y="12237"/>
                  <a:pt x="9548" y="12227"/>
                  <a:pt x="9500" y="12179"/>
                </a:cubicBezTo>
                <a:cubicBezTo>
                  <a:pt x="9478" y="12157"/>
                  <a:pt x="9473" y="12148"/>
                  <a:pt x="9451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920" y="4286160"/>
            <a:ext cx="376200" cy="18756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9922" y="12080"/>
                </a:moveTo>
                <a:cubicBezTo>
                  <a:pt x="9931" y="12052"/>
                  <a:pt x="9956" y="12033"/>
                  <a:pt x="9996" y="12030"/>
                </a:cubicBezTo>
                <a:cubicBezTo>
                  <a:pt x="10048" y="12026"/>
                  <a:pt x="10083" y="12022"/>
                  <a:pt x="10120" y="12055"/>
                </a:cubicBezTo>
                <a:cubicBezTo>
                  <a:pt x="10169" y="12099"/>
                  <a:pt x="10143" y="12153"/>
                  <a:pt x="10120" y="12204"/>
                </a:cubicBezTo>
                <a:cubicBezTo>
                  <a:pt x="10096" y="12257"/>
                  <a:pt x="10060" y="12310"/>
                  <a:pt x="10021" y="12353"/>
                </a:cubicBezTo>
                <a:cubicBezTo>
                  <a:pt x="9992" y="12385"/>
                  <a:pt x="9996" y="12386"/>
                  <a:pt x="9996" y="12427"/>
                </a:cubicBezTo>
                <a:cubicBezTo>
                  <a:pt x="10102" y="12427"/>
                  <a:pt x="10195" y="12427"/>
                  <a:pt x="10294" y="12402"/>
                </a:cubicBezTo>
                <a:cubicBezTo>
                  <a:pt x="10322" y="12402"/>
                  <a:pt x="10333" y="12400"/>
                  <a:pt x="10344" y="12378"/>
                </a:cubicBezTo>
              </a:path>
              <a:path w="1043" h="522">
                <a:moveTo>
                  <a:pt x="10616" y="12030"/>
                </a:moveTo>
                <a:cubicBezTo>
                  <a:pt x="10629" y="11991"/>
                  <a:pt x="10628" y="12020"/>
                  <a:pt x="10641" y="11981"/>
                </a:cubicBezTo>
                <a:cubicBezTo>
                  <a:pt x="10609" y="12012"/>
                  <a:pt x="10572" y="12036"/>
                  <a:pt x="10567" y="12080"/>
                </a:cubicBezTo>
                <a:cubicBezTo>
                  <a:pt x="10560" y="12147"/>
                  <a:pt x="10629" y="12141"/>
                  <a:pt x="10666" y="12154"/>
                </a:cubicBezTo>
                <a:cubicBezTo>
                  <a:pt x="10730" y="12177"/>
                  <a:pt x="10784" y="12186"/>
                  <a:pt x="10840" y="12229"/>
                </a:cubicBezTo>
                <a:cubicBezTo>
                  <a:pt x="10883" y="12262"/>
                  <a:pt x="10889" y="12304"/>
                  <a:pt x="10889" y="12353"/>
                </a:cubicBezTo>
                <a:cubicBezTo>
                  <a:pt x="10889" y="12409"/>
                  <a:pt x="10876" y="12423"/>
                  <a:pt x="10815" y="12427"/>
                </a:cubicBezTo>
                <a:cubicBezTo>
                  <a:pt x="10758" y="12431"/>
                  <a:pt x="10735" y="12429"/>
                  <a:pt x="10691" y="12402"/>
                </a:cubicBezTo>
              </a:path>
              <a:path w="1043" h="522">
                <a:moveTo>
                  <a:pt x="10939" y="11931"/>
                </a:moveTo>
                <a:cubicBezTo>
                  <a:pt x="10947" y="11923"/>
                  <a:pt x="10956" y="11914"/>
                  <a:pt x="10964" y="11906"/>
                </a:cubicBezTo>
                <a:cubicBezTo>
                  <a:pt x="10906" y="11906"/>
                  <a:pt x="10848" y="11906"/>
                  <a:pt x="10790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5000" y="4857840"/>
            <a:ext cx="9036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6325" y="13519"/>
                </a:moveTo>
                <a:cubicBezTo>
                  <a:pt x="6325" y="13511"/>
                  <a:pt x="6325" y="13502"/>
                  <a:pt x="6325" y="13494"/>
                </a:cubicBezTo>
                <a:cubicBezTo>
                  <a:pt x="6259" y="13494"/>
                  <a:pt x="6193" y="13494"/>
                  <a:pt x="6127" y="13494"/>
                </a:cubicBezTo>
              </a:path>
              <a:path w="249" h="174">
                <a:moveTo>
                  <a:pt x="6375" y="13643"/>
                </a:moveTo>
                <a:cubicBezTo>
                  <a:pt x="6321" y="13643"/>
                  <a:pt x="6303" y="13654"/>
                  <a:pt x="6251" y="13667"/>
                </a:cubicBezTo>
                <a:cubicBezTo>
                  <a:pt x="6243" y="13667"/>
                  <a:pt x="6234" y="13667"/>
                  <a:pt x="622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6680" y="481320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7714" y="13419"/>
                </a:moveTo>
                <a:cubicBezTo>
                  <a:pt x="7714" y="13403"/>
                  <a:pt x="7714" y="13386"/>
                  <a:pt x="7714" y="13370"/>
                </a:cubicBezTo>
                <a:cubicBezTo>
                  <a:pt x="7714" y="13506"/>
                  <a:pt x="7718" y="13638"/>
                  <a:pt x="7739" y="13767"/>
                </a:cubicBezTo>
                <a:cubicBezTo>
                  <a:pt x="7739" y="13808"/>
                  <a:pt x="7739" y="13816"/>
                  <a:pt x="773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1320" y="4830840"/>
            <a:ext cx="16056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8086" y="13618"/>
                </a:moveTo>
                <a:cubicBezTo>
                  <a:pt x="8086" y="13561"/>
                  <a:pt x="8096" y="13540"/>
                  <a:pt x="8111" y="13494"/>
                </a:cubicBezTo>
                <a:cubicBezTo>
                  <a:pt x="8126" y="13449"/>
                  <a:pt x="8164" y="13428"/>
                  <a:pt x="8210" y="13419"/>
                </a:cubicBezTo>
                <a:cubicBezTo>
                  <a:pt x="8266" y="13408"/>
                  <a:pt x="8362" y="13409"/>
                  <a:pt x="8409" y="13444"/>
                </a:cubicBezTo>
                <a:cubicBezTo>
                  <a:pt x="8481" y="13497"/>
                  <a:pt x="8525" y="13613"/>
                  <a:pt x="8533" y="13692"/>
                </a:cubicBezTo>
                <a:cubicBezTo>
                  <a:pt x="8540" y="13763"/>
                  <a:pt x="8540" y="13821"/>
                  <a:pt x="8458" y="13841"/>
                </a:cubicBezTo>
                <a:cubicBezTo>
                  <a:pt x="8405" y="13854"/>
                  <a:pt x="8255" y="13839"/>
                  <a:pt x="8210" y="13816"/>
                </a:cubicBezTo>
                <a:cubicBezTo>
                  <a:pt x="8167" y="13794"/>
                  <a:pt x="8065" y="13728"/>
                  <a:pt x="8086" y="13667"/>
                </a:cubicBezTo>
                <a:cubicBezTo>
                  <a:pt x="8116" y="13638"/>
                  <a:pt x="8128" y="13624"/>
                  <a:pt x="8136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6200" y="4429080"/>
            <a:ext cx="8100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13519" y="12303"/>
                </a:moveTo>
                <a:cubicBezTo>
                  <a:pt x="13462" y="12303"/>
                  <a:pt x="13422" y="12319"/>
                  <a:pt x="13370" y="12328"/>
                </a:cubicBezTo>
                <a:cubicBezTo>
                  <a:pt x="13328" y="12328"/>
                  <a:pt x="13320" y="12328"/>
                  <a:pt x="13295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5920" y="497376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3568" y="13816"/>
                </a:moveTo>
                <a:cubicBezTo>
                  <a:pt x="13609" y="13816"/>
                  <a:pt x="13535" y="13816"/>
                  <a:pt x="13494" y="13816"/>
                </a:cubicBezTo>
                <a:cubicBezTo>
                  <a:pt x="13436" y="13816"/>
                  <a:pt x="13378" y="13816"/>
                  <a:pt x="133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38760" y="1893960"/>
            <a:ext cx="490320" cy="338040"/>
          </a:xfrm>
          <a:custGeom>
            <a:avLst/>
            <a:gdLst/>
            <a:ahLst/>
            <a:rect l="l" t="t" r="r" b="b"/>
            <a:pathLst>
              <a:path w="1365" h="943">
                <a:moveTo>
                  <a:pt x="11385" y="5308"/>
                </a:moveTo>
                <a:cubicBezTo>
                  <a:pt x="11422" y="5289"/>
                  <a:pt x="11375" y="5262"/>
                  <a:pt x="11336" y="5259"/>
                </a:cubicBezTo>
                <a:cubicBezTo>
                  <a:pt x="11251" y="5253"/>
                  <a:pt x="11276" y="5280"/>
                  <a:pt x="11212" y="5308"/>
                </a:cubicBezTo>
                <a:cubicBezTo>
                  <a:pt x="11161" y="5331"/>
                  <a:pt x="11131" y="5341"/>
                  <a:pt x="11088" y="5383"/>
                </a:cubicBezTo>
                <a:cubicBezTo>
                  <a:pt x="11053" y="5418"/>
                  <a:pt x="11046" y="5464"/>
                  <a:pt x="11013" y="5507"/>
                </a:cubicBezTo>
                <a:cubicBezTo>
                  <a:pt x="10991" y="5535"/>
                  <a:pt x="10948" y="5598"/>
                  <a:pt x="10939" y="5631"/>
                </a:cubicBezTo>
                <a:cubicBezTo>
                  <a:pt x="10924" y="5687"/>
                  <a:pt x="10933" y="5782"/>
                  <a:pt x="10964" y="5829"/>
                </a:cubicBezTo>
                <a:cubicBezTo>
                  <a:pt x="10993" y="5873"/>
                  <a:pt x="11056" y="5921"/>
                  <a:pt x="11112" y="5904"/>
                </a:cubicBezTo>
                <a:cubicBezTo>
                  <a:pt x="11150" y="5892"/>
                  <a:pt x="11209" y="5807"/>
                  <a:pt x="11237" y="5779"/>
                </a:cubicBezTo>
              </a:path>
              <a:path w="1365" h="943">
                <a:moveTo>
                  <a:pt x="12129" y="5755"/>
                </a:moveTo>
                <a:cubicBezTo>
                  <a:pt x="12129" y="5722"/>
                  <a:pt x="12119" y="5650"/>
                  <a:pt x="12105" y="5680"/>
                </a:cubicBezTo>
                <a:cubicBezTo>
                  <a:pt x="12087" y="5718"/>
                  <a:pt x="12082" y="5787"/>
                  <a:pt x="12080" y="5829"/>
                </a:cubicBezTo>
                <a:cubicBezTo>
                  <a:pt x="12077" y="5888"/>
                  <a:pt x="12066" y="6047"/>
                  <a:pt x="12080" y="6028"/>
                </a:cubicBezTo>
                <a:cubicBezTo>
                  <a:pt x="12104" y="5994"/>
                  <a:pt x="12140" y="5957"/>
                  <a:pt x="12179" y="5953"/>
                </a:cubicBezTo>
                <a:cubicBezTo>
                  <a:pt x="12237" y="5947"/>
                  <a:pt x="12250" y="5981"/>
                  <a:pt x="12278" y="6028"/>
                </a:cubicBezTo>
                <a:cubicBezTo>
                  <a:pt x="12312" y="6085"/>
                  <a:pt x="12303" y="6137"/>
                  <a:pt x="12303" y="6201"/>
                </a:cubicBezTo>
                <a:cubicBezTo>
                  <a:pt x="12255" y="6201"/>
                  <a:pt x="12198" y="6190"/>
                  <a:pt x="12154" y="6176"/>
                </a:cubicBezTo>
                <a:cubicBezTo>
                  <a:pt x="12105" y="6152"/>
                  <a:pt x="12088" y="6143"/>
                  <a:pt x="12080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24240" y="1312920"/>
            <a:ext cx="723960" cy="349200"/>
          </a:xfrm>
          <a:custGeom>
            <a:avLst/>
            <a:gdLst/>
            <a:ahLst/>
            <a:rect l="l" t="t" r="r" b="b"/>
            <a:pathLst>
              <a:path w="2010" h="969">
                <a:moveTo>
                  <a:pt x="11956" y="3696"/>
                </a:moveTo>
                <a:cubicBezTo>
                  <a:pt x="11979" y="3673"/>
                  <a:pt x="11987" y="3669"/>
                  <a:pt x="11981" y="3646"/>
                </a:cubicBezTo>
                <a:cubicBezTo>
                  <a:pt x="11925" y="3646"/>
                  <a:pt x="11882" y="3640"/>
                  <a:pt x="11832" y="3671"/>
                </a:cubicBezTo>
                <a:cubicBezTo>
                  <a:pt x="11781" y="3703"/>
                  <a:pt x="11737" y="3760"/>
                  <a:pt x="11733" y="3820"/>
                </a:cubicBezTo>
                <a:cubicBezTo>
                  <a:pt x="11727" y="3914"/>
                  <a:pt x="11797" y="3898"/>
                  <a:pt x="11857" y="3870"/>
                </a:cubicBezTo>
                <a:cubicBezTo>
                  <a:pt x="11943" y="3830"/>
                  <a:pt x="11913" y="3770"/>
                  <a:pt x="11956" y="3721"/>
                </a:cubicBezTo>
                <a:cubicBezTo>
                  <a:pt x="11964" y="3721"/>
                  <a:pt x="11973" y="3721"/>
                  <a:pt x="11981" y="3721"/>
                </a:cubicBezTo>
                <a:cubicBezTo>
                  <a:pt x="12014" y="3778"/>
                  <a:pt x="12026" y="3816"/>
                  <a:pt x="12080" y="3870"/>
                </a:cubicBezTo>
              </a:path>
              <a:path w="2010" h="969">
                <a:moveTo>
                  <a:pt x="13717" y="4440"/>
                </a:moveTo>
                <a:cubicBezTo>
                  <a:pt x="13730" y="4400"/>
                  <a:pt x="13729" y="4430"/>
                  <a:pt x="13742" y="4390"/>
                </a:cubicBezTo>
                <a:cubicBezTo>
                  <a:pt x="13735" y="4369"/>
                  <a:pt x="13702" y="4347"/>
                  <a:pt x="13667" y="4366"/>
                </a:cubicBezTo>
                <a:cubicBezTo>
                  <a:pt x="13626" y="4388"/>
                  <a:pt x="13535" y="4443"/>
                  <a:pt x="13519" y="4490"/>
                </a:cubicBezTo>
                <a:cubicBezTo>
                  <a:pt x="13502" y="4542"/>
                  <a:pt x="13521" y="4572"/>
                  <a:pt x="13543" y="4589"/>
                </a:cubicBezTo>
                <a:cubicBezTo>
                  <a:pt x="13573" y="4612"/>
                  <a:pt x="13649" y="4632"/>
                  <a:pt x="13692" y="4614"/>
                </a:cubicBezTo>
                <a:cubicBezTo>
                  <a:pt x="13715" y="4591"/>
                  <a:pt x="13719" y="4583"/>
                  <a:pt x="1374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95360" y="5581800"/>
            <a:ext cx="61920" cy="619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6474" y="15528"/>
                </a:moveTo>
                <a:cubicBezTo>
                  <a:pt x="6482" y="15520"/>
                  <a:pt x="6491" y="15511"/>
                  <a:pt x="6499" y="15503"/>
                </a:cubicBezTo>
                <a:cubicBezTo>
                  <a:pt x="6446" y="15503"/>
                  <a:pt x="6417" y="15496"/>
                  <a:pt x="6375" y="15528"/>
                </a:cubicBezTo>
              </a:path>
              <a:path w="174" h="175">
                <a:moveTo>
                  <a:pt x="6524" y="15652"/>
                </a:moveTo>
                <a:cubicBezTo>
                  <a:pt x="6532" y="15652"/>
                  <a:pt x="6540" y="15652"/>
                  <a:pt x="6548" y="15652"/>
                </a:cubicBezTo>
                <a:cubicBezTo>
                  <a:pt x="6504" y="15652"/>
                  <a:pt x="6488" y="15667"/>
                  <a:pt x="6449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1760" y="5491080"/>
            <a:ext cx="465120" cy="243000"/>
          </a:xfrm>
          <a:custGeom>
            <a:avLst/>
            <a:gdLst/>
            <a:ahLst/>
            <a:rect l="l" t="t" r="r" b="b"/>
            <a:pathLst>
              <a:path w="1291" h="671">
                <a:moveTo>
                  <a:pt x="7640" y="15404"/>
                </a:moveTo>
                <a:cubicBezTo>
                  <a:pt x="7573" y="15382"/>
                  <a:pt x="7631" y="15335"/>
                  <a:pt x="7665" y="15304"/>
                </a:cubicBezTo>
                <a:cubicBezTo>
                  <a:pt x="7703" y="15270"/>
                  <a:pt x="7783" y="15225"/>
                  <a:pt x="7838" y="15255"/>
                </a:cubicBezTo>
                <a:cubicBezTo>
                  <a:pt x="7889" y="15283"/>
                  <a:pt x="7947" y="15368"/>
                  <a:pt x="7913" y="15429"/>
                </a:cubicBezTo>
                <a:cubicBezTo>
                  <a:pt x="7876" y="15496"/>
                  <a:pt x="7816" y="15496"/>
                  <a:pt x="7764" y="15528"/>
                </a:cubicBezTo>
                <a:cubicBezTo>
                  <a:pt x="7756" y="15536"/>
                  <a:pt x="7747" y="15545"/>
                  <a:pt x="7739" y="15553"/>
                </a:cubicBezTo>
                <a:cubicBezTo>
                  <a:pt x="7798" y="15599"/>
                  <a:pt x="7857" y="15586"/>
                  <a:pt x="7913" y="15627"/>
                </a:cubicBezTo>
                <a:cubicBezTo>
                  <a:pt x="7985" y="15680"/>
                  <a:pt x="8030" y="15739"/>
                  <a:pt x="8037" y="15825"/>
                </a:cubicBezTo>
                <a:cubicBezTo>
                  <a:pt x="8043" y="15898"/>
                  <a:pt x="7997" y="15922"/>
                  <a:pt x="7938" y="15925"/>
                </a:cubicBezTo>
                <a:cubicBezTo>
                  <a:pt x="7878" y="15929"/>
                  <a:pt x="7834" y="15934"/>
                  <a:pt x="7789" y="15900"/>
                </a:cubicBezTo>
              </a:path>
              <a:path w="1291" h="671">
                <a:moveTo>
                  <a:pt x="8310" y="15652"/>
                </a:moveTo>
                <a:cubicBezTo>
                  <a:pt x="8318" y="15644"/>
                  <a:pt x="8326" y="15635"/>
                  <a:pt x="8334" y="15627"/>
                </a:cubicBezTo>
              </a:path>
              <a:path w="1291" h="671">
                <a:moveTo>
                  <a:pt x="8533" y="15329"/>
                </a:moveTo>
                <a:cubicBezTo>
                  <a:pt x="8570" y="15301"/>
                  <a:pt x="8634" y="15288"/>
                  <a:pt x="8682" y="15280"/>
                </a:cubicBezTo>
                <a:cubicBezTo>
                  <a:pt x="8758" y="15268"/>
                  <a:pt x="8872" y="15258"/>
                  <a:pt x="8905" y="15329"/>
                </a:cubicBezTo>
                <a:cubicBezTo>
                  <a:pt x="8932" y="15388"/>
                  <a:pt x="8896" y="15498"/>
                  <a:pt x="8880" y="15553"/>
                </a:cubicBezTo>
                <a:cubicBezTo>
                  <a:pt x="8857" y="15629"/>
                  <a:pt x="8813" y="15696"/>
                  <a:pt x="8806" y="15776"/>
                </a:cubicBezTo>
                <a:cubicBezTo>
                  <a:pt x="8806" y="15801"/>
                  <a:pt x="8806" y="15809"/>
                  <a:pt x="880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30720" y="5483160"/>
            <a:ext cx="16956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9277" y="15453"/>
                </a:moveTo>
                <a:cubicBezTo>
                  <a:pt x="9312" y="15403"/>
                  <a:pt x="9335" y="15370"/>
                  <a:pt x="9376" y="15329"/>
                </a:cubicBezTo>
                <a:cubicBezTo>
                  <a:pt x="9339" y="15338"/>
                  <a:pt x="9301" y="15368"/>
                  <a:pt x="9277" y="15404"/>
                </a:cubicBezTo>
                <a:cubicBezTo>
                  <a:pt x="9256" y="15436"/>
                  <a:pt x="9232" y="15515"/>
                  <a:pt x="9252" y="15553"/>
                </a:cubicBezTo>
                <a:cubicBezTo>
                  <a:pt x="9285" y="15619"/>
                  <a:pt x="9375" y="15590"/>
                  <a:pt x="9426" y="15627"/>
                </a:cubicBezTo>
                <a:cubicBezTo>
                  <a:pt x="9470" y="15659"/>
                  <a:pt x="9560" y="15720"/>
                  <a:pt x="9575" y="15776"/>
                </a:cubicBezTo>
                <a:cubicBezTo>
                  <a:pt x="9595" y="15849"/>
                  <a:pt x="9528" y="15872"/>
                  <a:pt x="9475" y="15875"/>
                </a:cubicBezTo>
                <a:cubicBezTo>
                  <a:pt x="9393" y="15880"/>
                  <a:pt x="9349" y="15861"/>
                  <a:pt x="9277" y="15825"/>
                </a:cubicBezTo>
              </a:path>
              <a:path w="472" h="646">
                <a:moveTo>
                  <a:pt x="9699" y="15379"/>
                </a:moveTo>
                <a:cubicBezTo>
                  <a:pt x="9717" y="15288"/>
                  <a:pt x="9725" y="15281"/>
                  <a:pt x="9723" y="15230"/>
                </a:cubicBezTo>
                <a:cubicBezTo>
                  <a:pt x="9652" y="15230"/>
                  <a:pt x="9596" y="15248"/>
                  <a:pt x="952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5120" y="5589720"/>
            <a:ext cx="536760" cy="233280"/>
          </a:xfrm>
          <a:custGeom>
            <a:avLst/>
            <a:gdLst/>
            <a:ahLst/>
            <a:rect l="l" t="t" r="r" b="b"/>
            <a:pathLst>
              <a:path w="1489" h="646">
                <a:moveTo>
                  <a:pt x="10418" y="15652"/>
                </a:moveTo>
                <a:cubicBezTo>
                  <a:pt x="10441" y="15629"/>
                  <a:pt x="10445" y="15621"/>
                  <a:pt x="10468" y="15627"/>
                </a:cubicBezTo>
                <a:cubicBezTo>
                  <a:pt x="10392" y="15659"/>
                  <a:pt x="10362" y="15674"/>
                  <a:pt x="10319" y="15751"/>
                </a:cubicBezTo>
                <a:cubicBezTo>
                  <a:pt x="10276" y="15828"/>
                  <a:pt x="10291" y="15905"/>
                  <a:pt x="10344" y="15974"/>
                </a:cubicBezTo>
                <a:cubicBezTo>
                  <a:pt x="10402" y="16049"/>
                  <a:pt x="10482" y="16024"/>
                  <a:pt x="10567" y="16024"/>
                </a:cubicBezTo>
                <a:cubicBezTo>
                  <a:pt x="10575" y="16024"/>
                  <a:pt x="10584" y="16024"/>
                  <a:pt x="10592" y="16024"/>
                </a:cubicBezTo>
              </a:path>
              <a:path w="1489" h="646">
                <a:moveTo>
                  <a:pt x="10716" y="15801"/>
                </a:moveTo>
                <a:cubicBezTo>
                  <a:pt x="10716" y="15866"/>
                  <a:pt x="10688" y="16031"/>
                  <a:pt x="10740" y="16049"/>
                </a:cubicBezTo>
                <a:cubicBezTo>
                  <a:pt x="10772" y="15994"/>
                  <a:pt x="10787" y="15926"/>
                  <a:pt x="10815" y="15875"/>
                </a:cubicBezTo>
                <a:cubicBezTo>
                  <a:pt x="10823" y="15867"/>
                  <a:pt x="10832" y="15858"/>
                  <a:pt x="10840" y="15850"/>
                </a:cubicBezTo>
                <a:cubicBezTo>
                  <a:pt x="10905" y="15867"/>
                  <a:pt x="10902" y="15921"/>
                  <a:pt x="10939" y="15974"/>
                </a:cubicBezTo>
                <a:cubicBezTo>
                  <a:pt x="10947" y="15982"/>
                  <a:pt x="10956" y="15991"/>
                  <a:pt x="10964" y="15999"/>
                </a:cubicBezTo>
                <a:cubicBezTo>
                  <a:pt x="11000" y="15987"/>
                  <a:pt x="11015" y="15921"/>
                  <a:pt x="11038" y="15875"/>
                </a:cubicBezTo>
                <a:cubicBezTo>
                  <a:pt x="11062" y="15826"/>
                  <a:pt x="11071" y="15797"/>
                  <a:pt x="11112" y="15776"/>
                </a:cubicBezTo>
                <a:cubicBezTo>
                  <a:pt x="11172" y="15866"/>
                  <a:pt x="11176" y="15970"/>
                  <a:pt x="11212" y="16073"/>
                </a:cubicBezTo>
                <a:cubicBezTo>
                  <a:pt x="11237" y="16123"/>
                  <a:pt x="11245" y="16139"/>
                  <a:pt x="11261" y="16173"/>
                </a:cubicBezTo>
              </a:path>
              <a:path w="1489" h="646">
                <a:moveTo>
                  <a:pt x="11460" y="15577"/>
                </a:moveTo>
                <a:cubicBezTo>
                  <a:pt x="11473" y="15528"/>
                  <a:pt x="11484" y="15528"/>
                  <a:pt x="11534" y="15528"/>
                </a:cubicBezTo>
                <a:cubicBezTo>
                  <a:pt x="11559" y="15528"/>
                  <a:pt x="11567" y="15528"/>
                  <a:pt x="11584" y="15528"/>
                </a:cubicBezTo>
                <a:cubicBezTo>
                  <a:pt x="11584" y="15577"/>
                  <a:pt x="11567" y="15614"/>
                  <a:pt x="11559" y="15652"/>
                </a:cubicBezTo>
                <a:cubicBezTo>
                  <a:pt x="11548" y="15705"/>
                  <a:pt x="11575" y="15786"/>
                  <a:pt x="11633" y="15801"/>
                </a:cubicBezTo>
                <a:cubicBezTo>
                  <a:pt x="11709" y="15801"/>
                  <a:pt x="11735" y="15801"/>
                  <a:pt x="11782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86720" cy="6019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41280" y="2705040"/>
            <a:ext cx="1089000" cy="536760"/>
          </a:xfrm>
          <a:custGeom>
            <a:avLst/>
            <a:gdLst/>
            <a:ahLst/>
            <a:rect l="l" t="t" r="r" b="b"/>
            <a:pathLst>
              <a:path w="3027" h="1489">
                <a:moveTo>
                  <a:pt x="6449" y="9004"/>
                </a:moveTo>
                <a:cubicBezTo>
                  <a:pt x="6449" y="8953"/>
                  <a:pt x="6438" y="8946"/>
                  <a:pt x="6424" y="8905"/>
                </a:cubicBezTo>
                <a:cubicBezTo>
                  <a:pt x="6379" y="8769"/>
                  <a:pt x="6444" y="8591"/>
                  <a:pt x="6400" y="8458"/>
                </a:cubicBezTo>
                <a:cubicBezTo>
                  <a:pt x="6358" y="8329"/>
                  <a:pt x="6417" y="8163"/>
                  <a:pt x="6375" y="8037"/>
                </a:cubicBezTo>
                <a:cubicBezTo>
                  <a:pt x="6351" y="7966"/>
                  <a:pt x="6360" y="7554"/>
                  <a:pt x="6400" y="7541"/>
                </a:cubicBezTo>
              </a:path>
              <a:path w="3027" h="1489">
                <a:moveTo>
                  <a:pt x="6474" y="7541"/>
                </a:moveTo>
                <a:cubicBezTo>
                  <a:pt x="6433" y="7541"/>
                  <a:pt x="6391" y="7541"/>
                  <a:pt x="6350" y="7541"/>
                </a:cubicBezTo>
                <a:cubicBezTo>
                  <a:pt x="6327" y="7554"/>
                  <a:pt x="6326" y="7562"/>
                  <a:pt x="6276" y="7565"/>
                </a:cubicBezTo>
                <a:cubicBezTo>
                  <a:pt x="6234" y="7567"/>
                  <a:pt x="6207" y="7585"/>
                  <a:pt x="6176" y="7590"/>
                </a:cubicBezTo>
                <a:cubicBezTo>
                  <a:pt x="6127" y="7598"/>
                  <a:pt x="6067" y="7608"/>
                  <a:pt x="6028" y="7615"/>
                </a:cubicBezTo>
                <a:cubicBezTo>
                  <a:pt x="5994" y="7621"/>
                  <a:pt x="5953" y="7636"/>
                  <a:pt x="5928" y="7640"/>
                </a:cubicBezTo>
                <a:cubicBezTo>
                  <a:pt x="5814" y="7659"/>
                  <a:pt x="5680" y="7631"/>
                  <a:pt x="5581" y="7615"/>
                </a:cubicBezTo>
                <a:cubicBezTo>
                  <a:pt x="5540" y="7608"/>
                  <a:pt x="5519" y="7596"/>
                  <a:pt x="5482" y="7590"/>
                </a:cubicBezTo>
                <a:cubicBezTo>
                  <a:pt x="5442" y="7583"/>
                  <a:pt x="5420" y="7571"/>
                  <a:pt x="5383" y="7565"/>
                </a:cubicBezTo>
                <a:cubicBezTo>
                  <a:pt x="5335" y="7557"/>
                  <a:pt x="5302" y="7547"/>
                  <a:pt x="5259" y="7541"/>
                </a:cubicBezTo>
                <a:cubicBezTo>
                  <a:pt x="5209" y="7533"/>
                  <a:pt x="5151" y="7523"/>
                  <a:pt x="5110" y="7516"/>
                </a:cubicBezTo>
                <a:cubicBezTo>
                  <a:pt x="4919" y="7484"/>
                  <a:pt x="4664" y="7512"/>
                  <a:pt x="4490" y="7541"/>
                </a:cubicBezTo>
                <a:cubicBezTo>
                  <a:pt x="4416" y="7553"/>
                  <a:pt x="4337" y="7553"/>
                  <a:pt x="4266" y="7565"/>
                </a:cubicBezTo>
                <a:cubicBezTo>
                  <a:pt x="4040" y="7602"/>
                  <a:pt x="3777" y="7565"/>
                  <a:pt x="3547" y="7565"/>
                </a:cubicBezTo>
                <a:cubicBezTo>
                  <a:pt x="3532" y="7545"/>
                  <a:pt x="3537" y="7536"/>
                  <a:pt x="3522" y="7516"/>
                </a:cubicBezTo>
                <a:cubicBezTo>
                  <a:pt x="3474" y="7523"/>
                  <a:pt x="3480" y="7522"/>
                  <a:pt x="3448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03800" y="2187720"/>
            <a:ext cx="563400" cy="1090440"/>
          </a:xfrm>
          <a:custGeom>
            <a:avLst/>
            <a:gdLst/>
            <a:ahLst/>
            <a:rect l="l" t="t" r="r" b="b"/>
            <a:pathLst>
              <a:path w="1564" h="3027">
                <a:moveTo>
                  <a:pt x="12898" y="7491"/>
                </a:moveTo>
                <a:cubicBezTo>
                  <a:pt x="12874" y="7491"/>
                  <a:pt x="12866" y="7491"/>
                  <a:pt x="12874" y="7466"/>
                </a:cubicBezTo>
                <a:cubicBezTo>
                  <a:pt x="12852" y="7496"/>
                  <a:pt x="12839" y="7548"/>
                  <a:pt x="12799" y="7565"/>
                </a:cubicBezTo>
                <a:cubicBezTo>
                  <a:pt x="12791" y="7565"/>
                  <a:pt x="12782" y="7565"/>
                  <a:pt x="12774" y="7565"/>
                </a:cubicBezTo>
                <a:cubicBezTo>
                  <a:pt x="12774" y="7508"/>
                  <a:pt x="12790" y="7462"/>
                  <a:pt x="12799" y="7417"/>
                </a:cubicBezTo>
                <a:cubicBezTo>
                  <a:pt x="12799" y="7375"/>
                  <a:pt x="12791" y="7359"/>
                  <a:pt x="12824" y="7367"/>
                </a:cubicBezTo>
                <a:cubicBezTo>
                  <a:pt x="12862" y="7380"/>
                  <a:pt x="12849" y="7396"/>
                  <a:pt x="12849" y="7441"/>
                </a:cubicBezTo>
                <a:cubicBezTo>
                  <a:pt x="12849" y="7466"/>
                  <a:pt x="12849" y="7474"/>
                  <a:pt x="12849" y="7491"/>
                </a:cubicBezTo>
                <a:cubicBezTo>
                  <a:pt x="12799" y="7491"/>
                  <a:pt x="12750" y="7491"/>
                  <a:pt x="12700" y="7491"/>
                </a:cubicBezTo>
              </a:path>
              <a:path w="1564" h="3027">
                <a:moveTo>
                  <a:pt x="13519" y="6077"/>
                </a:moveTo>
                <a:cubicBezTo>
                  <a:pt x="13515" y="6121"/>
                  <a:pt x="13498" y="6169"/>
                  <a:pt x="13494" y="6201"/>
                </a:cubicBezTo>
                <a:cubicBezTo>
                  <a:pt x="13457" y="6523"/>
                  <a:pt x="13485" y="6912"/>
                  <a:pt x="13519" y="7218"/>
                </a:cubicBezTo>
                <a:cubicBezTo>
                  <a:pt x="13543" y="7436"/>
                  <a:pt x="13513" y="7686"/>
                  <a:pt x="13494" y="7888"/>
                </a:cubicBezTo>
                <a:cubicBezTo>
                  <a:pt x="13486" y="7970"/>
                  <a:pt x="13477" y="8066"/>
                  <a:pt x="13469" y="8136"/>
                </a:cubicBezTo>
                <a:cubicBezTo>
                  <a:pt x="13454" y="8274"/>
                  <a:pt x="13458" y="8433"/>
                  <a:pt x="13444" y="8558"/>
                </a:cubicBezTo>
                <a:cubicBezTo>
                  <a:pt x="13426" y="8719"/>
                  <a:pt x="13444" y="8892"/>
                  <a:pt x="13444" y="9054"/>
                </a:cubicBezTo>
                <a:cubicBezTo>
                  <a:pt x="13407" y="9057"/>
                  <a:pt x="13370" y="9076"/>
                  <a:pt x="13345" y="9079"/>
                </a:cubicBezTo>
                <a:cubicBezTo>
                  <a:pt x="13310" y="9083"/>
                  <a:pt x="13272" y="9099"/>
                  <a:pt x="13246" y="9103"/>
                </a:cubicBezTo>
                <a:cubicBezTo>
                  <a:pt x="13122" y="9121"/>
                  <a:pt x="12983" y="9091"/>
                  <a:pt x="12874" y="9079"/>
                </a:cubicBezTo>
                <a:cubicBezTo>
                  <a:pt x="12830" y="9074"/>
                  <a:pt x="12783" y="9059"/>
                  <a:pt x="12750" y="9054"/>
                </a:cubicBezTo>
                <a:cubicBezTo>
                  <a:pt x="12697" y="9046"/>
                  <a:pt x="12617" y="9033"/>
                  <a:pt x="12576" y="9029"/>
                </a:cubicBezTo>
                <a:cubicBezTo>
                  <a:pt x="12538" y="9025"/>
                  <a:pt x="12504" y="9008"/>
                  <a:pt x="12477" y="9004"/>
                </a:cubicBezTo>
                <a:cubicBezTo>
                  <a:pt x="12436" y="8998"/>
                  <a:pt x="12385" y="8984"/>
                  <a:pt x="12353" y="8979"/>
                </a:cubicBezTo>
                <a:cubicBezTo>
                  <a:pt x="12227" y="8960"/>
                  <a:pt x="12066" y="8976"/>
                  <a:pt x="11956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89080" y="4276800"/>
            <a:ext cx="1800" cy="179280"/>
          </a:xfrm>
          <a:custGeom>
            <a:avLst/>
            <a:gdLst/>
            <a:ahLst/>
            <a:rect l="l" t="t" r="r" b="b"/>
            <a:pathLst>
              <a:path w="1" h="498">
                <a:moveTo>
                  <a:pt x="5804" y="11881"/>
                </a:moveTo>
                <a:cubicBezTo>
                  <a:pt x="5804" y="12047"/>
                  <a:pt x="5804" y="12212"/>
                  <a:pt x="5804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08160" y="4705200"/>
            <a:ext cx="293760" cy="625680"/>
          </a:xfrm>
          <a:custGeom>
            <a:avLst/>
            <a:gdLst/>
            <a:ahLst/>
            <a:rect l="l" t="t" r="r" b="b"/>
            <a:pathLst>
              <a:path w="819" h="1737">
                <a:moveTo>
                  <a:pt x="6028" y="13295"/>
                </a:moveTo>
                <a:cubicBezTo>
                  <a:pt x="6028" y="13260"/>
                  <a:pt x="6035" y="13222"/>
                  <a:pt x="6052" y="13196"/>
                </a:cubicBezTo>
                <a:cubicBezTo>
                  <a:pt x="6079" y="13155"/>
                  <a:pt x="6136" y="13121"/>
                  <a:pt x="6176" y="13097"/>
                </a:cubicBezTo>
                <a:cubicBezTo>
                  <a:pt x="6208" y="13078"/>
                  <a:pt x="6303" y="13040"/>
                  <a:pt x="6325" y="13097"/>
                </a:cubicBezTo>
                <a:cubicBezTo>
                  <a:pt x="6352" y="13166"/>
                  <a:pt x="6327" y="13309"/>
                  <a:pt x="6300" y="13370"/>
                </a:cubicBezTo>
                <a:cubicBezTo>
                  <a:pt x="6272" y="13433"/>
                  <a:pt x="6235" y="13487"/>
                  <a:pt x="6201" y="13543"/>
                </a:cubicBezTo>
                <a:cubicBezTo>
                  <a:pt x="6173" y="13590"/>
                  <a:pt x="6176" y="13616"/>
                  <a:pt x="6176" y="13667"/>
                </a:cubicBezTo>
                <a:cubicBezTo>
                  <a:pt x="6266" y="13667"/>
                  <a:pt x="6338" y="13655"/>
                  <a:pt x="6424" y="13643"/>
                </a:cubicBezTo>
                <a:cubicBezTo>
                  <a:pt x="6499" y="13633"/>
                  <a:pt x="6555" y="13656"/>
                  <a:pt x="6623" y="13667"/>
                </a:cubicBezTo>
                <a:cubicBezTo>
                  <a:pt x="6639" y="13667"/>
                  <a:pt x="6656" y="13667"/>
                  <a:pt x="6672" y="13667"/>
                </a:cubicBezTo>
              </a:path>
              <a:path w="819" h="1737">
                <a:moveTo>
                  <a:pt x="6176" y="14461"/>
                </a:moveTo>
                <a:cubicBezTo>
                  <a:pt x="6133" y="14428"/>
                  <a:pt x="6110" y="14436"/>
                  <a:pt x="6052" y="14436"/>
                </a:cubicBezTo>
                <a:cubicBezTo>
                  <a:pt x="5996" y="14436"/>
                  <a:pt x="5869" y="14415"/>
                  <a:pt x="5854" y="14461"/>
                </a:cubicBezTo>
              </a:path>
              <a:path w="819" h="1737">
                <a:moveTo>
                  <a:pt x="6548" y="14163"/>
                </a:moveTo>
                <a:cubicBezTo>
                  <a:pt x="6548" y="14332"/>
                  <a:pt x="6557" y="14494"/>
                  <a:pt x="6573" y="14660"/>
                </a:cubicBezTo>
                <a:cubicBezTo>
                  <a:pt x="6579" y="14719"/>
                  <a:pt x="6587" y="14753"/>
                  <a:pt x="6598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28920" y="591192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6772" y="16470"/>
                </a:moveTo>
                <a:cubicBezTo>
                  <a:pt x="6772" y="16446"/>
                  <a:pt x="6772" y="16437"/>
                  <a:pt x="6772" y="16421"/>
                </a:cubicBezTo>
                <a:cubicBezTo>
                  <a:pt x="6772" y="16501"/>
                  <a:pt x="6756" y="16567"/>
                  <a:pt x="6747" y="16644"/>
                </a:cubicBezTo>
                <a:cubicBezTo>
                  <a:pt x="6733" y="16764"/>
                  <a:pt x="6747" y="16894"/>
                  <a:pt x="6747" y="17016"/>
                </a:cubicBezTo>
              </a:path>
              <a:path w="745" h="596">
                <a:moveTo>
                  <a:pt x="7144" y="16743"/>
                </a:moveTo>
                <a:cubicBezTo>
                  <a:pt x="7144" y="16681"/>
                  <a:pt x="7141" y="16644"/>
                  <a:pt x="7169" y="16594"/>
                </a:cubicBezTo>
                <a:cubicBezTo>
                  <a:pt x="7198" y="16543"/>
                  <a:pt x="7226" y="16511"/>
                  <a:pt x="7268" y="16470"/>
                </a:cubicBezTo>
                <a:cubicBezTo>
                  <a:pt x="7293" y="16445"/>
                  <a:pt x="7333" y="16425"/>
                  <a:pt x="7367" y="16421"/>
                </a:cubicBezTo>
                <a:cubicBezTo>
                  <a:pt x="7417" y="16415"/>
                  <a:pt x="7427" y="16463"/>
                  <a:pt x="7441" y="16495"/>
                </a:cubicBezTo>
                <a:cubicBezTo>
                  <a:pt x="7468" y="16559"/>
                  <a:pt x="7486" y="16625"/>
                  <a:pt x="7491" y="16694"/>
                </a:cubicBezTo>
                <a:cubicBezTo>
                  <a:pt x="7497" y="16770"/>
                  <a:pt x="7466" y="16762"/>
                  <a:pt x="7441" y="16818"/>
                </a:cubicBezTo>
                <a:cubicBezTo>
                  <a:pt x="7428" y="16847"/>
                  <a:pt x="7378" y="16893"/>
                  <a:pt x="7342" y="16917"/>
                </a:cubicBezTo>
                <a:cubicBezTo>
                  <a:pt x="7286" y="16954"/>
                  <a:pt x="7226" y="16953"/>
                  <a:pt x="7169" y="16917"/>
                </a:cubicBezTo>
                <a:cubicBezTo>
                  <a:pt x="7140" y="16899"/>
                  <a:pt x="7056" y="16856"/>
                  <a:pt x="7045" y="16818"/>
                </a:cubicBezTo>
                <a:cubicBezTo>
                  <a:pt x="7024" y="16743"/>
                  <a:pt x="7038" y="16614"/>
                  <a:pt x="7069" y="16545"/>
                </a:cubicBezTo>
                <a:cubicBezTo>
                  <a:pt x="7077" y="16528"/>
                  <a:pt x="7086" y="16512"/>
                  <a:pt x="7094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74"/>
          <a:stretch/>
        </p:blipFill>
        <p:spPr>
          <a:xfrm>
            <a:off x="0" y="0"/>
            <a:ext cx="5800680" cy="623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238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39200" cy="59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981160" cy="299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33560" y="836640"/>
            <a:ext cx="721044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92360" y="1628640"/>
            <a:ext cx="36766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14288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3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0:42:54Z</dcterms:created>
  <dc:creator>N Holden</dc:creator>
  <dc:description/>
  <dc:language>en-US</dc:language>
  <cp:lastModifiedBy>N Holden</cp:lastModifiedBy>
  <dcterms:modified xsi:type="dcterms:W3CDTF">2009-03-11T16:30:52Z</dcterms:modified>
  <cp:revision>2</cp:revision>
  <dc:subject/>
  <dc:title>Slide 1</dc:title>
</cp:coreProperties>
</file>